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0" name="矩形 7"/>
          <p:cNvSpPr/>
          <p:nvPr/>
        </p:nvSpPr>
        <p:spPr>
          <a:xfrm>
            <a:off x="4284720" y="3768840"/>
            <a:ext cx="30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1174680" y="8621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ill Sans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Gill Sans"/>
              </a:rPr>
              <a:t>http://ww.eeppt.co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3537360" y="844560"/>
            <a:ext cx="46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Gill Sans"/>
                <a:ea typeface="宋体"/>
              </a:rPr>
              <a:t>黑板</a:t>
            </a:r>
            <a:r>
              <a:rPr b="0" lang="zh-CN" sz="4400" spc="-1" strike="noStrike">
                <a:solidFill>
                  <a:srgbClr val="ffffff"/>
                </a:solidFill>
                <a:latin typeface="Gill Sans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Gill Sans"/>
                <a:ea typeface="宋体"/>
              </a:rPr>
              <a:t>素材</a:t>
            </a:r>
            <a:endParaRPr b="0" lang="en-US" sz="4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8400" spc="-1" strike="noStrike">
                <a:solidFill>
                  <a:srgbClr val="ffffff"/>
                </a:solidFill>
                <a:latin typeface="Gill Sans"/>
              </a:rPr>
              <a:t>使用规范说明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ill Sans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6:06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1:09:1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