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870440" y="162864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好叫月朗风清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589360" y="213372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专为词人作雨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2405880" y="54936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06512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4065120" y="302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065120" y="3692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4065120" y="436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5" descr="粉红荷花"/>
          <p:cNvPicPr/>
          <p:nvPr/>
        </p:nvPicPr>
        <p:blipFill>
          <a:blip r:embed="rId2"/>
          <a:stretch/>
        </p:blipFill>
        <p:spPr>
          <a:xfrm>
            <a:off x="2700360" y="2301840"/>
            <a:ext cx="711000" cy="68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粉红荷花"/>
          <p:cNvPicPr/>
          <p:nvPr/>
        </p:nvPicPr>
        <p:blipFill>
          <a:blip r:embed="rId3"/>
          <a:stretch/>
        </p:blipFill>
        <p:spPr>
          <a:xfrm>
            <a:off x="2700360" y="2965320"/>
            <a:ext cx="711000" cy="68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粉红荷花"/>
          <p:cNvPicPr/>
          <p:nvPr/>
        </p:nvPicPr>
        <p:blipFill>
          <a:blip r:embed="rId4"/>
          <a:stretch/>
        </p:blipFill>
        <p:spPr>
          <a:xfrm>
            <a:off x="2700360" y="3629160"/>
            <a:ext cx="711000" cy="68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粉红荷花"/>
          <p:cNvPicPr/>
          <p:nvPr/>
        </p:nvPicPr>
        <p:blipFill>
          <a:blip r:embed="rId5"/>
          <a:stretch/>
        </p:blipFill>
        <p:spPr>
          <a:xfrm>
            <a:off x="2700360" y="4292640"/>
            <a:ext cx="7110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e83a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e83a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1087920" y="22777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可以创作演绎作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024280" y="263808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必须按照作者或者许可人指定的方式对作品进行署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337040" y="29984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不得将本作品用于商业目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469240" y="54936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619280" y="6442200"/>
            <a:ext cx="183960" cy="304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135040" y="2349360"/>
            <a:ext cx="1593360" cy="916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谢 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43:35Z</dcterms:created>
  <dc:creator/>
  <dc:description/>
  <cp:keywords>幻灯片之家 http:/www.eeppt.com</cp:keywords>
  <dc:language>en-US</dc:language>
  <cp:lastModifiedBy/>
  <dcterms:modified xsi:type="dcterms:W3CDTF">2015-07-20T02:35:1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