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BC389-6771-42F7-90D0-502D1D262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04AD-ACEC-43DE-8ECF-A8FCC7BA2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D0C83-4A20-49A5-82D4-23AD7B2D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1B9BB-8518-4A2D-87C2-852780D7F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286E23-5994-4CDC-ACC6-323D24E92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6BBC3-F3CB-49D7-8A81-EDA82193D9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BB2A7-3FCD-48CE-A214-FCC6758E2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B4B4B7-B8F0-4AD4-B50E-3B08D24A6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1DA6C-735E-4D99-8ECB-5164A449E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BA94D-DA63-4FBC-8AF4-48CAAAFD4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CF4CC-ADDB-464E-A32C-54ACB0578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A8514-1A17-4B7C-8269-4A0026CFC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43B6E-2096-44E7-AB19-9110FB479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7AB15-2B53-4CDF-9C7E-A3347A564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32DAD-E722-48E8-B37C-0A31EE114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369E4-CCA9-49C6-B12A-C17D90FB0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1E188-8CA2-4D51-B0F3-FCD61C4EB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78D3-9414-4608-8A99-87907D667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D6A92-9DA2-466F-80B9-FAE956C57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B9EC9-3A56-4C12-B3B6-6EEBBE7CD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64DB-53ED-4706-9C77-EBC0B3C58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2E46B-5251-4E82-A40C-0EBD66DAC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7B25B-206B-47C6-A93C-5423C744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9DB72-A66E-47CD-ABA0-045866C2D8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DBE7-4C5B-43A5-A8C6-F30417A28A8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9AC5C-A7E0-4416-9303-A72BD98B851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2781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ffff"/>
                </a:solidFill>
                <a:latin typeface="华文新魏"/>
                <a:ea typeface="华文新魏"/>
              </a:rPr>
              <a:t>认真核算   加强监督</a:t>
            </a:r>
            <a:endParaRPr b="0" lang="en-US" sz="5400" spc="-1" strike="noStrike">
              <a:solidFill>
                <a:srgbClr val="00ffff"/>
              </a:solidFill>
              <a:latin typeface="Times New Roman"/>
            </a:endParaRPr>
          </a:p>
        </p:txBody>
      </p:sp>
      <p:sp>
        <p:nvSpPr>
          <p:cNvPr id="147" name="PlaceHolder 2"/>
          <p:cNvSpPr>
            <a:spLocks noGrp="1"/>
          </p:cNvSpPr>
          <p:nvPr>
            <p:ph type="subTitle"/>
          </p:nvPr>
        </p:nvSpPr>
        <p:spPr>
          <a:xfrm>
            <a:off x="1692360" y="119700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隶书"/>
              </a:rPr>
              <a:t>会计核算业务培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147">
                                            <p:txEl>
                                              <p:pRg st="0" end="0"/>
                                            </p:txEl>
                                          </p:spTgt>
                                        </p:tgtEl>
                                        <p:attrNameLst>
                                          <p:attrName>style.visibility</p:attrName>
                                        </p:attrNameLst>
                                      </p:cBhvr>
                                      <p:to>
                                        <p:strVal val="visible"/>
                                      </p:to>
                                    </p:set>
                                    <p:anim calcmode="lin" valueType="num">
                                      <p:cBhvr additive="base">
                                        <p:cTn id="7"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6" presetSubtype="37">
                                  <p:stCondLst>
                                    <p:cond delay="0"/>
                                  </p:stCondLst>
                                  <p:childTnLst>
                                    <p:set>
                                      <p:cBhvr>
                                        <p:cTn id="12" dur="1" fill="hold">
                                          <p:stCondLst>
                                            <p:cond delay="0"/>
                                          </p:stCondLst>
                                        </p:cTn>
                                        <p:tgtEl>
                                          <p:spTgt spid="146"/>
                                        </p:tgtEl>
                                        <p:attrNameLst>
                                          <p:attrName>style.visibility</p:attrName>
                                        </p:attrNameLst>
                                      </p:cBhvr>
                                      <p:to>
                                        <p:strVal val="visible"/>
                                      </p:to>
                                    </p:set>
                                    <p:animEffect filter="barn(outVertical)" transition="in">
                                      <p:cBhvr additive="repl">
                                        <p:cTn id="13"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总    则</a:t>
            </a:r>
            <a:endParaRPr b="0" lang="en-US" sz="3600" spc="-1" strike="noStrike">
              <a:solidFill>
                <a:srgbClr val="00ffff"/>
              </a:solidFill>
              <a:latin typeface="Times New Roman"/>
            </a:endParaRPr>
          </a:p>
        </p:txBody>
      </p:sp>
      <p:sp>
        <p:nvSpPr>
          <p:cNvPr id="16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目的（宗旨）</a:t>
            </a:r>
            <a:endParaRPr b="0" lang="en-US" sz="36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为了规范行政单位的财务行为，加强行政单位的财务管理，保障行政单位工作任务的完成，制定本规则。</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为了规范事业单位的财务行为，加强事业单位财务管理，提高资金使用效益，保障事业单位健康发展，制定本规则。</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单位预算管理</a:t>
            </a:r>
            <a:endParaRPr b="0" lang="en-US" sz="3600" spc="-1" strike="noStrike">
              <a:solidFill>
                <a:srgbClr val="00ffff"/>
              </a:solidFill>
              <a:latin typeface="Times New Roman"/>
            </a:endParaRPr>
          </a:p>
        </p:txBody>
      </p:sp>
      <p:sp>
        <p:nvSpPr>
          <p:cNvPr id="16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单位预算的概念和内容</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行政单位预算是行政单位根据其职责和工作任务编制的年度财务收支计划。由收入预算和支出预算组成。</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收入管理</a:t>
            </a:r>
            <a:endParaRPr b="0" lang="en-US" sz="3600" spc="-1" strike="noStrike">
              <a:solidFill>
                <a:srgbClr val="00ffff"/>
              </a:solidFill>
              <a:latin typeface="Times New Roman"/>
            </a:endParaRPr>
          </a:p>
        </p:txBody>
      </p:sp>
      <p:sp>
        <p:nvSpPr>
          <p:cNvPr id="17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收入的概念和内容</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行政单位收入是指行政单位俏法取得的非偿还性资金，包括财政预算拨款收入、预算外资金收入以及其他合法收入。行政单位的各项收入必须统一管理</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支出管理</a:t>
            </a:r>
            <a:endParaRPr b="0" lang="en-US" sz="3600" spc="-1" strike="noStrike">
              <a:solidFill>
                <a:srgbClr val="00ffff"/>
              </a:solidFill>
              <a:latin typeface="Times New Roman"/>
            </a:endParaRPr>
          </a:p>
        </p:txBody>
      </p:sp>
      <p:sp>
        <p:nvSpPr>
          <p:cNvPr id="17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支出的概念</a:t>
            </a:r>
            <a:endParaRPr b="0" lang="en-US" sz="36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支出是指行政单位为开展业务活动所发生的资金耗费。</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支出是指事业单位为开展业务及其他活动所发生的资金耗费和损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172">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72">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72">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资产管理</a:t>
            </a:r>
            <a:endParaRPr b="0" lang="en-US" sz="3600" spc="-1" strike="noStrike">
              <a:solidFill>
                <a:srgbClr val="00ffff"/>
              </a:solidFill>
              <a:latin typeface="Times New Roman"/>
            </a:endParaRPr>
          </a:p>
        </p:txBody>
      </p:sp>
      <p:sp>
        <p:nvSpPr>
          <p:cNvPr id="17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资产管理的要求</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资产是指行政单位占有或者使用的、能以货币计量的经济资源，包括流动资产和固定资产。</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资产是指事业单位占有或者使用的、能以货币计量的经济资源，包括流动资产、固定资产、无形资产和对外投资。</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randomBar dir="vert"/>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74">
                                            <p:txEl>
                                              <p:pRg st="0" end="0"/>
                                            </p:txEl>
                                          </p:spTgt>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74">
                                            <p:txEl>
                                              <p:pRg st="1" end="1"/>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74">
                                            <p:txEl>
                                              <p:pRg st="2" end="2"/>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7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务报告和财务分析</a:t>
            </a:r>
            <a:endParaRPr b="0" lang="en-US" sz="3600" spc="-1" strike="noStrike">
              <a:solidFill>
                <a:srgbClr val="00ffff"/>
              </a:solidFill>
              <a:latin typeface="Times New Roman"/>
            </a:endParaRPr>
          </a:p>
        </p:txBody>
      </p:sp>
      <p:sp>
        <p:nvSpPr>
          <p:cNvPr id="17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财务报告</a:t>
            </a:r>
            <a:endParaRPr b="0" lang="en-US" sz="36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资产负债表、收入支出总表、支出明细表、基本数字表以及预算外资金收支明细表、专项支出情况表、财务状况说明书。</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资产负债表、收支情况表、有关附表及财务状况说明书。</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76">
                                            <p:txEl>
                                              <p:pRg st="1" end="1"/>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76">
                                            <p:txEl>
                                              <p:pRg st="2" end="2"/>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7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政部门对企事业单位的监督</a:t>
            </a:r>
            <a:endParaRPr b="0" lang="en-US" sz="3600" spc="-1" strike="noStrike">
              <a:solidFill>
                <a:srgbClr val="00ffff"/>
              </a:solidFill>
              <a:latin typeface="Times New Roman"/>
            </a:endParaRPr>
          </a:p>
        </p:txBody>
      </p:sp>
      <p:sp>
        <p:nvSpPr>
          <p:cNvPr id="17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财务收支计划和财务管理基础工作方面的监督</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收支计划是否可行，内部核算的程序和方法是否科学，财务管理是否规范，内部监督机制是否健全，基础资料是否齐全，取得原始单据是否合法，是否按《会计法》“两则”的规定和要求进行会计核算</a:t>
            </a:r>
            <a:endParaRPr b="0" lang="en-US" sz="2800" spc="-1" strike="noStrike">
              <a:solidFill>
                <a:srgbClr val="ffffff"/>
              </a:solidFill>
              <a:latin typeface="Times New Roman"/>
            </a:endParaRPr>
          </a:p>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财务收支计划和财务成本管理过程的监督</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1">
                                  <p:stCondLst>
                                    <p:cond delay="0"/>
                                  </p:stCondLst>
                                  <p:childTnLst>
                                    <p:set>
                                      <p:cBhvr>
                                        <p:cTn id="287" dur="1" fill="hold">
                                          <p:stCondLst>
                                            <p:cond delay="499"/>
                                          </p:stCondLst>
                                        </p:cTn>
                                        <p:tgtEl>
                                          <p:spTgt spid="178">
                                            <p:txEl>
                                              <p:pRg st="0" end="0"/>
                                            </p:txEl>
                                          </p:spTgt>
                                        </p:tgtEl>
                                        <p:attrNameLst>
                                          <p:attrName>style.visibility</p:attrName>
                                        </p:attrNameLst>
                                      </p:cBhvr>
                                      <p:to>
                                        <p:strVal val="visible"/>
                                      </p:to>
                                    </p:se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78">
                                            <p:txEl>
                                              <p:pRg st="1" end="1"/>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78">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财政监督的依据和法律制度</a:t>
            </a:r>
            <a:endParaRPr b="0" lang="en-US" sz="36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隶书"/>
              </a:rPr>
              <a:t>对单位进行监督的依据</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财政、财务、会计类</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预算法》、《财政总预算会计制度》、《企业财务通则》、《会计法》、《会计准则》、《企业会计制度》、《事业单位会计准则》、《行政、事业单位财务规则》、《行政、事业单位会计制度》、《注册会计师法》、《城市维护建设资金预算管理办法》等</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0">
                                            <p:txEl>
                                              <p:pRg st="2" end="2"/>
                                            </p:txEl>
                                          </p:spTgt>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核算上易出现的问题</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固定资产管理混乱</a:t>
            </a:r>
            <a:endParaRPr b="0" lang="en-US" sz="40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没有明细账、该列不列、账实不符</a:t>
            </a:r>
            <a:endParaRPr b="0" lang="en-US" sz="3200" spc="-1" strike="noStrike">
              <a:solidFill>
                <a:srgbClr val="ffffff"/>
              </a:solidFill>
              <a:latin typeface="Times New Roman"/>
            </a:endParaRPr>
          </a:p>
          <a:p>
            <a:pPr marL="343080" indent="-343080">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现金存在问题</a:t>
            </a:r>
            <a:endParaRPr b="0" lang="en-US" sz="40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182">
                                            <p:txEl>
                                              <p:pRg st="0" end="0"/>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
                                  <p:stCondLst>
                                    <p:cond delay="0"/>
                                  </p:stCondLst>
                                  <p:childTnLst>
                                    <p:set>
                                      <p:cBhvr>
                                        <p:cTn id="327" dur="1" fill="hold">
                                          <p:stCondLst>
                                            <p:cond delay="499"/>
                                          </p:stCondLst>
                                        </p:cTn>
                                        <p:tgtEl>
                                          <p:spTgt spid="182">
                                            <p:txEl>
                                              <p:pRg st="1" end="1"/>
                                            </p:txEl>
                                          </p:spTgt>
                                        </p:tgtEl>
                                        <p:attrNameLst>
                                          <p:attrName>style.visibility</p:attrName>
                                        </p:attrNameLst>
                                      </p:cBhvr>
                                      <p:to>
                                        <p:strVal val="visible"/>
                                      </p:to>
                                    </p:se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82">
                                            <p:txEl>
                                              <p:pRg st="2" end="2"/>
                                            </p:txEl>
                                          </p:spTgt>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核算中应注意的问题</a:t>
            </a:r>
            <a:endParaRPr b="0" lang="en-US" sz="3600" spc="-1" strike="noStrike">
              <a:solidFill>
                <a:srgbClr val="00ffff"/>
              </a:solidFill>
              <a:latin typeface="Times New Roman"/>
            </a:endParaRPr>
          </a:p>
        </p:txBody>
      </p:sp>
      <p:sp>
        <p:nvSpPr>
          <p:cNvPr id="18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对上报表的口径不一致</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根据预算收支科目表及时调整</a:t>
            </a:r>
            <a:endParaRPr b="0" lang="en-US" sz="28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代管资金，掌握尺度</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根据国库拨款通知单配套预算资金明细，确认金额、用途，掌握进度</a:t>
            </a:r>
            <a:endParaRPr b="0" lang="en-US" sz="28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Times New Roman"/>
                <a:ea typeface="隶书"/>
              </a:rPr>
              <a:t>政府采购</a:t>
            </a:r>
            <a:endParaRPr b="0" lang="en-US" sz="36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隶书"/>
              </a:rPr>
              <a:t>一事一议，按实支付，手续齐全，一次办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4">
                                            <p:txEl>
                                              <p:pRg st="0" end="0"/>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84">
                                            <p:txEl>
                                              <p:pRg st="1" end="1"/>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4">
                                            <p:txEl>
                                              <p:pRg st="2" end="2"/>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4">
                                            <p:txEl>
                                              <p:pRg st="3" end="3"/>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4">
                                            <p:txEl>
                                              <p:pRg st="4" end="4"/>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4">
                                            <p:txEl>
                                              <p:pRg st="5" end="5"/>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核算中心的情况概述</a:t>
            </a:r>
            <a:endParaRPr b="0" lang="en-US" sz="3600" spc="-1" strike="noStrike">
              <a:solidFill>
                <a:srgbClr val="00ffff"/>
              </a:solidFill>
              <a:latin typeface="Times New Roman"/>
            </a:endParaRPr>
          </a:p>
        </p:txBody>
      </p:sp>
      <p:sp>
        <p:nvSpPr>
          <p:cNvPr id="14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隶属于县（市）区财政局，负责本行政区域内所属行政机关、部分事业单位的会计集中核算工作，一定程度上代表政府对国家拨付的预算内、外资金进行监督管理。</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会计核算、会计监督职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499"/>
                                          </p:stCondLst>
                                        </p:cTn>
                                        <p:tgtEl>
                                          <p:spTgt spid="149">
                                            <p:txEl>
                                              <p:pRg st="0" end="0"/>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499"/>
                                          </p:stCondLst>
                                        </p:cTn>
                                        <p:tgtEl>
                                          <p:spTgt spid="149">
                                            <p:txEl>
                                              <p:pRg st="1" end="1"/>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1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核算中心的工作职能</a:t>
            </a:r>
            <a:endParaRPr b="0" lang="en-US" sz="3600" spc="-1" strike="noStrike">
              <a:solidFill>
                <a:srgbClr val="00ffff"/>
              </a:solidFill>
              <a:latin typeface="Times New Roman"/>
            </a:endParaRPr>
          </a:p>
        </p:txBody>
      </p:sp>
      <p:sp>
        <p:nvSpPr>
          <p:cNvPr id="15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基本职能</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1</a:t>
            </a:r>
            <a:r>
              <a:rPr b="1" lang="zh-CN" sz="3200" spc="-1" strike="noStrike">
                <a:solidFill>
                  <a:srgbClr val="ffffff"/>
                </a:solidFill>
                <a:latin typeface="Times New Roman"/>
                <a:ea typeface="隶书"/>
              </a:rPr>
              <a:t>、认真做好纳入集中核算单位的会计核算工作，及时记录、计算和报告单位各种资金的增减变动及其结果。</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2</a:t>
            </a:r>
            <a:r>
              <a:rPr b="1" lang="zh-CN" sz="3200" spc="-1" strike="noStrike">
                <a:solidFill>
                  <a:srgbClr val="ffffff"/>
                </a:solidFill>
                <a:latin typeface="Times New Roman"/>
                <a:ea typeface="隶书"/>
              </a:rPr>
              <a:t>、依法实施会计监督，严格审批程序，抑制铺张浪费，提高资金使用效益。</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151">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51">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151">
                                            <p:txEl>
                                              <p:pRg st="2" end="2"/>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499"/>
                                          </p:stCondLst>
                                        </p:cTn>
                                        <p:tgtEl>
                                          <p:spTgt spid="1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集中核算单位报账员工作规则</a:t>
            </a:r>
            <a:endParaRPr b="0" lang="en-US" sz="36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根据财政部《会计基础工作规范》的要求，结合核算中心会计核算的特点，制定本规则</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报账员的基本要求</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报账员工作程序</a:t>
            </a:r>
            <a:endParaRPr b="0" lang="en-US" sz="3600" spc="-1" strike="noStrike">
              <a:solidFill>
                <a:srgbClr val="00ffff"/>
              </a:solidFill>
              <a:latin typeface="Times New Roman"/>
            </a:endParaRPr>
          </a:p>
        </p:txBody>
      </p:sp>
      <p:sp>
        <p:nvSpPr>
          <p:cNvPr id="15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8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隶书"/>
              </a:rPr>
              <a:t>（一）预审原始凭证</a:t>
            </a:r>
            <a:endParaRPr b="0" lang="en-US" sz="32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会计人员是第一把关人，对原始凭证进行预审，以保证原始凭证的真实性、完整性。</a:t>
            </a:r>
            <a:endParaRPr b="0" lang="en-US" sz="2800" spc="-1" strike="noStrike">
              <a:solidFill>
                <a:srgbClr val="ffffff"/>
              </a:solidFill>
              <a:latin typeface="Times New Roman"/>
            </a:endParaRPr>
          </a:p>
          <a:p>
            <a:pPr marL="343080" indent="-343080">
              <a:lnSpc>
                <a:spcPct val="80000"/>
              </a:lnSpc>
              <a:spcBef>
                <a:spcPts val="10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注意</a:t>
            </a:r>
            <a:endParaRPr b="0" lang="en-US" sz="40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隶书"/>
              </a:rPr>
              <a:t>原始凭证的必须具备的内容：</a:t>
            </a:r>
            <a:r>
              <a:rPr b="1" lang="zh-CN" sz="2800" spc="-1" strike="noStrike">
                <a:solidFill>
                  <a:srgbClr val="ffffff"/>
                </a:solidFill>
                <a:latin typeface="Times New Roman"/>
                <a:ea typeface="隶书"/>
              </a:rPr>
              <a:t>凭证的名称；填制凭证的日期；填制凭证单位名称或填制人姓名；经办人员的签名或盖章；接受凭证单位名称；经济业务内容；数量、单位和金额。</a:t>
            </a:r>
            <a:endParaRPr b="0" lang="en-US" sz="2800" spc="-1" strike="noStrike">
              <a:solidFill>
                <a:srgbClr val="ffffff"/>
              </a:solidFill>
              <a:latin typeface="Times New Roman"/>
            </a:endParaRPr>
          </a:p>
          <a:p>
            <a:pPr marL="343080" indent="-343080">
              <a:lnSpc>
                <a:spcPct val="8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p:transition spd="slow">
    <p:randomBar dir="vert"/>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55">
                                            <p:txEl>
                                              <p:pRg st="0" end="0"/>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55">
                                            <p:txEl>
                                              <p:pRg st="1" end="1"/>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155">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155">
                                            <p:txEl>
                                              <p:pRg st="3" end="3"/>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隶书"/>
              </a:rPr>
              <a:t>会计人员工作程序</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四）登记会计账簿</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账簿启用表</a:t>
            </a: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隶书"/>
              </a:rPr>
              <a:t>数字准确、摘要清楚、登记及时、字迹工整</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蓝黑墨水或者碳素墨水</a:t>
            </a: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隶书"/>
              </a:rPr>
              <a:t>不得使用圆珠笔或者铅笔</a:t>
            </a:r>
            <a:endParaRPr b="0" lang="en-US" sz="36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p:transition spd="slow">
    <p:randomBar dir="vert"/>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157">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157">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57">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57">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57">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15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初始化</a:t>
            </a:r>
            <a:endParaRPr b="0" lang="en-US" sz="3600" spc="-1" strike="noStrike">
              <a:solidFill>
                <a:srgbClr val="00ffff"/>
              </a:solidFill>
              <a:latin typeface="Times New Roman"/>
            </a:endParaRPr>
          </a:p>
        </p:txBody>
      </p:sp>
      <p:sp>
        <p:nvSpPr>
          <p:cNvPr id="15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环境的初始设置</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科目参数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其他参数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系统财务分工</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显示模式设置</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打印机选择</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其他系统设备</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pic>
        <p:nvPicPr>
          <p:cNvPr id="160" name="" descr=""/>
          <p:cNvPicPr/>
          <p:nvPr/>
        </p:nvPicPr>
        <p:blipFill>
          <a:blip r:embed="rId1"/>
          <a:stretch/>
        </p:blipFill>
        <p:spPr>
          <a:xfrm>
            <a:off x="5867280" y="2666880"/>
            <a:ext cx="2057400" cy="1886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59">
                                            <p:txEl>
                                              <p:pRg st="2" end="2"/>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59">
                                            <p:txEl>
                                              <p:pRg st="3" end="3"/>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59">
                                            <p:txEl>
                                              <p:pRg st="4" end="4"/>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59">
                                            <p:txEl>
                                              <p:pRg st="5" end="5"/>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日常使用</a:t>
            </a:r>
            <a:endParaRPr b="0" lang="en-US" sz="3600" spc="-1" strike="noStrike">
              <a:solidFill>
                <a:srgbClr val="00ffff"/>
              </a:solidFill>
              <a:latin typeface="Times New Roman"/>
            </a:endParaRPr>
          </a:p>
        </p:txBody>
      </p:sp>
      <p:sp>
        <p:nvSpPr>
          <p:cNvPr id="16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隶书"/>
              </a:rPr>
              <a:t>电算化会计账务处理系统的主要功能模块</a:t>
            </a:r>
            <a:endParaRPr b="0" lang="en-US" sz="32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凭证处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登账处理</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结账转账</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查询打印</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隶书"/>
              </a:rPr>
              <a:t>账务维护</a:t>
            </a:r>
            <a:endParaRPr b="0" lang="en-US" sz="2800" spc="-1" strike="noStrike">
              <a:solidFill>
                <a:srgbClr val="ffffff"/>
              </a:solidFill>
              <a:latin typeface="Times New Roman"/>
            </a:endParaRPr>
          </a:p>
          <a:p>
            <a:pPr marL="343080" indent="-343080">
              <a:lnSpc>
                <a:spcPct val="90000"/>
              </a:lnSpc>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隶书"/>
              </a:rPr>
              <a:t>………………</a:t>
            </a:r>
            <a:r>
              <a:rPr b="1" lang="zh-CN" sz="2800" spc="-1" strike="noStrike">
                <a:solidFill>
                  <a:srgbClr val="ffffff"/>
                </a:solidFill>
                <a:latin typeface="Times New Roman"/>
                <a:ea typeface="隶书"/>
              </a:rPr>
              <a:t>（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62">
                                            <p:txEl>
                                              <p:pRg st="1" end="1"/>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62">
                                            <p:txEl>
                                              <p:pRg st="2" end="2"/>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62">
                                            <p:txEl>
                                              <p:pRg st="3" end="3"/>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62">
                                            <p:txEl>
                                              <p:pRg st="4" end="4"/>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62">
                                            <p:txEl>
                                              <p:pRg st="5" end="5"/>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ea typeface="隶书"/>
              </a:rPr>
              <a:t>电算化会计信息系统的维护</a:t>
            </a:r>
            <a:endParaRPr b="0" lang="en-US" sz="3600" spc="-1" strike="noStrike">
              <a:solidFill>
                <a:srgbClr val="00ffff"/>
              </a:solidFill>
              <a:latin typeface="Times New Roman"/>
            </a:endParaRPr>
          </a:p>
        </p:txBody>
      </p:sp>
      <p:sp>
        <p:nvSpPr>
          <p:cNvPr id="1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程序维护</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隶书"/>
              </a:rPr>
              <a:t>………………</a:t>
            </a:r>
            <a:r>
              <a:rPr b="1" lang="zh-CN" sz="3200" spc="-1" strike="noStrike">
                <a:solidFill>
                  <a:srgbClr val="ffffff"/>
                </a:solidFill>
                <a:latin typeface="Times New Roman"/>
                <a:ea typeface="隶书"/>
              </a:rPr>
              <a:t>（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会计核算 业务培训</cp:keywords>
  <dc:language>en-US</dc:language>
  <cp:lastModifiedBy/>
  <cp:revision>0</cp:revision>
  <dc:subject/>
  <dc:title/>
</cp:coreProperties>
</file>