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whoosh.wav" ContentType="audio/x-wav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4.jpeg" ContentType="image/jpeg"/>
  <Override PartName="/ppt/media/image9.png" ContentType="image/png"/>
  <Override PartName="/ppt/media/image39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187-B533-4032-A4E4-F8044B98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B0D-D499-4E6B-B751-8095B5A7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B7E-0278-49F2-80AB-9AE1D93D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0AE-A734-4413-95C4-B95D79FD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CC1B-6889-40F8-87DB-CEBA25F8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7A9-CF8B-4097-AC4A-0CC62B3D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ABF8-FA77-45C4-A8C0-4736AD4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BF65-D253-4DD0-8EFE-4E126345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6A97-353C-46D1-93B4-31B969BD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5769-6DB3-4AA2-92E8-98C0C6D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EC04-82F4-4781-8FF6-D5DCB2F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A6C-C8E9-448A-9071-04C8DD9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E0DD-AC08-4F6E-8925-6F121668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2011-0B9C-49B0-9A9C-B1EEBD9D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D532-1CEC-4C57-B94A-268C366B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786D-A5C9-4E8E-9E8F-D6289A82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ABA0-E65D-4A47-88D4-C4225FAC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371-11FD-4929-AF3A-610293DB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14C-D977-4227-B643-D8A0E39D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D8E-74C3-4782-A95C-E0B0D20A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92A-E31F-469C-B260-2990740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58D-DCE8-4D9A-AF7D-CA39E50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57A-F8A7-4915-BB3E-5DC47564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685-57C1-498F-9446-18CA2CA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C1FDFF8B-DD2A-449C-B03C-534092F059D7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B07F40B7-E923-4032-81C9-3BAA2E1AF2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.png"/><Relationship Id="rId6" Type="http://schemas.openxmlformats.org/officeDocument/2006/relationships/image" Target="../media/image41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audio" Target="../media/whoosh.wav"/><Relationship Id="rId2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4.png"/><Relationship Id="rId3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16.png"/><Relationship Id="rId19" Type="http://schemas.openxmlformats.org/officeDocument/2006/relationships/image" Target="../media/image27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hyperlink" Target="http://www.eeppt.com/sucai/" TargetMode="External"/><Relationship Id="rId3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04496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未标题-5"/>
          <p:cNvPicPr/>
          <p:nvPr/>
        </p:nvPicPr>
        <p:blipFill>
          <a:blip r:embed="rId3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未标题-3"/>
          <p:cNvPicPr/>
          <p:nvPr/>
        </p:nvPicPr>
        <p:blipFill>
          <a:blip r:embed="rId4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ji"/>
          <p:cNvPicPr/>
          <p:nvPr/>
        </p:nvPicPr>
        <p:blipFill>
          <a:blip r:embed="rId5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工"/>
          <p:cNvPicPr/>
          <p:nvPr/>
        </p:nvPicPr>
        <p:blipFill>
          <a:blip r:embed="rId6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7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2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"/>
          <p:cNvSpPr/>
          <p:nvPr/>
        </p:nvSpPr>
        <p:spPr>
          <a:xfrm>
            <a:off x="112680" y="4645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2087280" y="312840"/>
            <a:ext cx="487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免费素材简历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共"/>
          <p:cNvPicPr/>
          <p:nvPr/>
        </p:nvPicPr>
        <p:blipFill>
          <a:blip r:embed="rId1"/>
          <a:srcRect l="44209" t="0" r="4270" b="45483"/>
          <a:stretch/>
        </p:blipFill>
        <p:spPr>
          <a:xfrm>
            <a:off x="-30240" y="0"/>
            <a:ext cx="4143600" cy="280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共"/>
          <p:cNvPicPr/>
          <p:nvPr/>
        </p:nvPicPr>
        <p:blipFill>
          <a:blip r:embed="rId2"/>
          <a:srcRect l="45752" t="0" r="4270" b="45483"/>
          <a:stretch/>
        </p:blipFill>
        <p:spPr>
          <a:xfrm>
            <a:off x="406728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共"/>
          <p:cNvPicPr/>
          <p:nvPr/>
        </p:nvPicPr>
        <p:blipFill>
          <a:blip r:embed="rId3"/>
          <a:srcRect l="45752" t="0" r="4270" b="45483"/>
          <a:stretch/>
        </p:blipFill>
        <p:spPr>
          <a:xfrm>
            <a:off x="547524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共"/>
          <p:cNvPicPr/>
          <p:nvPr/>
        </p:nvPicPr>
        <p:blipFill>
          <a:blip r:embed="rId4"/>
          <a:srcRect l="45752" t="2615" r="4270" b="45483"/>
          <a:stretch/>
        </p:blipFill>
        <p:spPr>
          <a:xfrm>
            <a:off x="5334120" y="2494080"/>
            <a:ext cx="4025880" cy="2670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共"/>
          <p:cNvPicPr/>
          <p:nvPr/>
        </p:nvPicPr>
        <p:blipFill>
          <a:blip r:embed="rId5"/>
          <a:srcRect l="45752" t="2416" r="4270" b="45483"/>
          <a:stretch/>
        </p:blipFill>
        <p:spPr>
          <a:xfrm>
            <a:off x="2374920" y="2484360"/>
            <a:ext cx="4025880" cy="2679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共"/>
          <p:cNvPicPr/>
          <p:nvPr/>
        </p:nvPicPr>
        <p:blipFill>
          <a:blip r:embed="rId6"/>
          <a:srcRect l="45752" t="2761" r="4270" b="45483"/>
          <a:stretch/>
        </p:blipFill>
        <p:spPr>
          <a:xfrm>
            <a:off x="-41400" y="2502000"/>
            <a:ext cx="4017960" cy="2662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197760" y="1781280"/>
            <a:ext cx="21193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01" name="Picture 9" descr=""/>
          <p:cNvPicPr/>
          <p:nvPr/>
        </p:nvPicPr>
        <p:blipFill>
          <a:blip r:embed="rId8"/>
          <a:stretch/>
        </p:blipFill>
        <p:spPr>
          <a:xfrm>
            <a:off x="826920" y="1781280"/>
            <a:ext cx="21193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02" name="Picture 10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3508200" y="1781280"/>
            <a:ext cx="21211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03" name="Picture 11" descr="op"/>
          <p:cNvPicPr/>
          <p:nvPr/>
        </p:nvPicPr>
        <p:blipFill>
          <a:blip r:embed="rId10"/>
          <a:stretch/>
        </p:blipFill>
        <p:spPr>
          <a:xfrm>
            <a:off x="1116000" y="0"/>
            <a:ext cx="6534000" cy="971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工"/>
          <p:cNvPicPr/>
          <p:nvPr/>
        </p:nvPicPr>
        <p:blipFill>
          <a:blip r:embed="rId11"/>
          <a:stretch/>
        </p:blipFill>
        <p:spPr>
          <a:xfrm>
            <a:off x="3635280" y="-14400"/>
            <a:ext cx="1522440" cy="13273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3"/>
          <p:cNvSpPr/>
          <p:nvPr/>
        </p:nvSpPr>
        <p:spPr>
          <a:xfrm>
            <a:off x="514440" y="3554280"/>
            <a:ext cx="7648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-13566600" y="41112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07" name="Group 16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08" name="Text Box 17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09" name="AutoShape 1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4F9-4BCB-47EE-98CB-456DB714E1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04"/>
          <p:cNvPicPr/>
          <p:nvPr/>
        </p:nvPicPr>
        <p:blipFill>
          <a:blip r:embed="rId1"/>
          <a:srcRect l="0" t="0" r="0" b="-70"/>
          <a:stretch/>
        </p:blipFill>
        <p:spPr>
          <a:xfrm>
            <a:off x="-22320" y="-87480"/>
            <a:ext cx="9129960" cy="5450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264960" y="120600"/>
            <a:ext cx="8412480" cy="4827600"/>
          </a:xfrm>
          <a:prstGeom prst="rect">
            <a:avLst/>
          </a:prstGeom>
          <a:noFill/>
          <a:ln w="22320">
            <a:solidFill>
              <a:srgbClr val="85777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15" name="Picture 4" descr="未标题-3"/>
          <p:cNvPicPr/>
          <p:nvPr/>
        </p:nvPicPr>
        <p:blipFill>
          <a:blip r:embed="rId2"/>
          <a:stretch/>
        </p:blipFill>
        <p:spPr>
          <a:xfrm>
            <a:off x="7631280" y="-158760"/>
            <a:ext cx="1473120" cy="167004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479520" y="75564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与制作电动车项目开发申请专利，获全国科技创新一等奖， 参与棋类制作项目研发并申请专利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模特之星大赛，获得最佳表演奖；参加浐霸房产代言人选拔前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强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大学生广告艺术大赛学院奖，独立制作汉王绘图板策划，获得西北赛区三等奖，平面水墨篇获西北赛区三等奖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大学生艺术团并担任外宣部社长，策划多次纳新活动，迎春晚会，迎新生晚会，和外校联谊活动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中国策大赛，制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kappa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策划；参加全国大学生广告大赛，与同学共同制作宝达鞋业策划，七度空间平面，获全国佳作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获得全国网卡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ID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设计全国佳作奖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成为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+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广告社社长，将社员发展到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80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余人，带领组织同学参加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广告节进行广告交流，参加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oneshow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，金犊，学院奖等多项大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18" name="Text Box 7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19" name="AutoShape 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755640" y="-434880"/>
            <a:ext cx="10661760" cy="5816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未标题-1"/>
          <p:cNvPicPr/>
          <p:nvPr/>
        </p:nvPicPr>
        <p:blipFill>
          <a:blip r:embed="rId2"/>
          <a:stretch/>
        </p:blipFill>
        <p:spPr>
          <a:xfrm>
            <a:off x="-755640" y="-434880"/>
            <a:ext cx="10661760" cy="58165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808360" y="0"/>
            <a:ext cx="5964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技能：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WOR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等办公软件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设计软件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S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AI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T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3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，并掌握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2DCG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插画，游戏场景设计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摄影技术，后期修图及相册制作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服装表演经验丰富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仿制古代印章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291840" y="2139840"/>
            <a:ext cx="25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爱好：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看书、旅行、绘画、摄影、音乐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25" name="Picture 6" descr="_MG_1204副本"/>
          <p:cNvPicPr/>
          <p:nvPr/>
        </p:nvPicPr>
        <p:blipFill>
          <a:blip r:embed="rId3"/>
          <a:stretch/>
        </p:blipFill>
        <p:spPr>
          <a:xfrm>
            <a:off x="0" y="3281400"/>
            <a:ext cx="1403280" cy="8809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7"/>
          <p:cNvSpPr/>
          <p:nvPr/>
        </p:nvSpPr>
        <p:spPr>
          <a:xfrm>
            <a:off x="3240" y="2933640"/>
            <a:ext cx="5637240" cy="2478240"/>
          </a:xfrm>
          <a:prstGeom prst="roundRect">
            <a:avLst>
              <a:gd name="adj" fmla="val 16667"/>
            </a:avLst>
          </a:prstGeom>
          <a:solidFill>
            <a:srgbClr val="80808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27" name="Picture 8" descr="yiyi"/>
          <p:cNvPicPr/>
          <p:nvPr/>
        </p:nvPicPr>
        <p:blipFill>
          <a:blip r:embed="rId4"/>
          <a:stretch/>
        </p:blipFill>
        <p:spPr>
          <a:xfrm>
            <a:off x="1440" y="4084560"/>
            <a:ext cx="1416240" cy="885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未标题-5"/>
          <p:cNvPicPr/>
          <p:nvPr/>
        </p:nvPicPr>
        <p:blipFill>
          <a:blip r:embed="rId5"/>
          <a:stretch/>
        </p:blipFill>
        <p:spPr>
          <a:xfrm>
            <a:off x="534960" y="266760"/>
            <a:ext cx="2273400" cy="191916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10"/>
          <p:cNvSpPr/>
          <p:nvPr/>
        </p:nvSpPr>
        <p:spPr>
          <a:xfrm>
            <a:off x="5632560" y="2943360"/>
            <a:ext cx="3512880" cy="2462040"/>
          </a:xfrm>
          <a:prstGeom prst="roundRect">
            <a:avLst>
              <a:gd name="adj" fmla="val 16667"/>
            </a:avLst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30" name="Picture 11" descr="_MG_1204副本"/>
          <p:cNvPicPr/>
          <p:nvPr/>
        </p:nvPicPr>
        <p:blipFill>
          <a:blip r:embed="rId6"/>
          <a:stretch/>
        </p:blipFill>
        <p:spPr>
          <a:xfrm>
            <a:off x="0" y="3289320"/>
            <a:ext cx="1403280" cy="880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DSC00392"/>
          <p:cNvPicPr/>
          <p:nvPr/>
        </p:nvPicPr>
        <p:blipFill>
          <a:blip r:embed="rId7"/>
          <a:stretch/>
        </p:blipFill>
        <p:spPr>
          <a:xfrm>
            <a:off x="8097840" y="3289320"/>
            <a:ext cx="1082520" cy="1717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娱乐至死"/>
          <p:cNvPicPr/>
          <p:nvPr/>
        </p:nvPicPr>
        <p:blipFill>
          <a:blip r:embed="rId8"/>
          <a:stretch/>
        </p:blipFill>
        <p:spPr>
          <a:xfrm>
            <a:off x="1403280" y="3292560"/>
            <a:ext cx="1333440" cy="17143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4" descr="未命名-1"/>
          <p:cNvPicPr/>
          <p:nvPr/>
        </p:nvPicPr>
        <p:blipFill>
          <a:blip r:embed="rId9"/>
          <a:stretch/>
        </p:blipFill>
        <p:spPr>
          <a:xfrm>
            <a:off x="2720880" y="3292560"/>
            <a:ext cx="951120" cy="1714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5" descr="作品"/>
          <p:cNvPicPr/>
          <p:nvPr/>
        </p:nvPicPr>
        <p:blipFill>
          <a:blip r:embed="rId10"/>
          <a:stretch/>
        </p:blipFill>
        <p:spPr>
          <a:xfrm>
            <a:off x="4699080" y="3289320"/>
            <a:ext cx="952560" cy="171756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16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36" name="Text Box 17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37" name="AutoShape 1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338" name="Picture 19" descr="clare-500x706"/>
          <p:cNvPicPr/>
          <p:nvPr/>
        </p:nvPicPr>
        <p:blipFill>
          <a:blip r:embed="rId11"/>
          <a:srcRect l="0" t="0" r="-3243" b="0"/>
          <a:stretch/>
        </p:blipFill>
        <p:spPr>
          <a:xfrm>
            <a:off x="3672000" y="3289320"/>
            <a:ext cx="1084320" cy="171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0" descr="_MG_6994"/>
          <p:cNvPicPr/>
          <p:nvPr/>
        </p:nvPicPr>
        <p:blipFill>
          <a:blip r:embed="rId12"/>
          <a:stretch/>
        </p:blipFill>
        <p:spPr>
          <a:xfrm>
            <a:off x="5635800" y="3289320"/>
            <a:ext cx="2465280" cy="17175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1"/>
          <p:cNvSpPr/>
          <p:nvPr/>
        </p:nvSpPr>
        <p:spPr>
          <a:xfrm>
            <a:off x="395280" y="29336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395280" y="2943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588960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2808360" y="266760"/>
            <a:ext cx="6156360" cy="2520720"/>
          </a:xfrm>
          <a:prstGeom prst="rect">
            <a:avLst/>
          </a:prstGeom>
          <a:noFill/>
          <a:ln w="19080">
            <a:solidFill>
              <a:srgbClr val="6952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590544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1187280" y="1911240"/>
            <a:ext cx="55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THANK  YOU!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48" name="Text Box 5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9" name="AutoShape 6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ji"/>
          <p:cNvPicPr/>
          <p:nvPr/>
        </p:nvPicPr>
        <p:blipFill>
          <a:blip r:embed="rId3"/>
          <a:stretch/>
        </p:blipFill>
        <p:spPr>
          <a:xfrm>
            <a:off x="3060720" y="2571840"/>
            <a:ext cx="2465280" cy="241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xv"/>
          <p:cNvPicPr/>
          <p:nvPr/>
        </p:nvPicPr>
        <p:blipFill>
          <a:blip r:embed="rId4"/>
          <a:stretch/>
        </p:blipFill>
        <p:spPr>
          <a:xfrm>
            <a:off x="4046400" y="42116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未标题-5"/>
          <p:cNvPicPr/>
          <p:nvPr/>
        </p:nvPicPr>
        <p:blipFill>
          <a:blip r:embed="rId5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未标题-3"/>
          <p:cNvPicPr/>
          <p:nvPr/>
        </p:nvPicPr>
        <p:blipFill>
          <a:blip r:embed="rId6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工"/>
          <p:cNvPicPr/>
          <p:nvPr/>
        </p:nvPicPr>
        <p:blipFill>
          <a:blip r:embed="rId3"/>
          <a:stretch/>
        </p:blipFill>
        <p:spPr>
          <a:xfrm>
            <a:off x="4341960" y="1149480"/>
            <a:ext cx="213516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xv"/>
          <p:cNvPicPr/>
          <p:nvPr/>
        </p:nvPicPr>
        <p:blipFill>
          <a:blip r:embed="rId4"/>
          <a:stretch/>
        </p:blipFill>
        <p:spPr>
          <a:xfrm>
            <a:off x="5148360" y="25718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未标题-5"/>
          <p:cNvPicPr/>
          <p:nvPr/>
        </p:nvPicPr>
        <p:blipFill>
          <a:blip r:embed="rId5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未标题-3"/>
          <p:cNvPicPr/>
          <p:nvPr/>
        </p:nvPicPr>
        <p:blipFill>
          <a:blip r:embed="rId6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i"/>
          <p:cNvPicPr/>
          <p:nvPr/>
        </p:nvPicPr>
        <p:blipFill>
          <a:blip r:embed="rId7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未标题-3"/>
          <p:cNvPicPr/>
          <p:nvPr/>
        </p:nvPicPr>
        <p:blipFill>
          <a:blip r:embed="rId3"/>
          <a:stretch/>
        </p:blipFill>
        <p:spPr>
          <a:xfrm>
            <a:off x="6289560" y="314280"/>
            <a:ext cx="1606680" cy="182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xv"/>
          <p:cNvPicPr/>
          <p:nvPr/>
        </p:nvPicPr>
        <p:blipFill>
          <a:blip r:embed="rId4"/>
          <a:stretch/>
        </p:blipFill>
        <p:spPr>
          <a:xfrm>
            <a:off x="6804000" y="1635120"/>
            <a:ext cx="590400" cy="768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未标题-5"/>
          <p:cNvPicPr/>
          <p:nvPr/>
        </p:nvPicPr>
        <p:blipFill>
          <a:blip r:embed="rId5"/>
          <a:stretch/>
        </p:blipFill>
        <p:spPr>
          <a:xfrm>
            <a:off x="764712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ji"/>
          <p:cNvPicPr/>
          <p:nvPr/>
        </p:nvPicPr>
        <p:blipFill>
          <a:blip r:embed="rId6"/>
          <a:stretch/>
        </p:blipFill>
        <p:spPr>
          <a:xfrm>
            <a:off x="306864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未标题-5"/>
          <p:cNvPicPr/>
          <p:nvPr/>
        </p:nvPicPr>
        <p:blipFill>
          <a:blip r:embed="rId3"/>
          <a:stretch/>
        </p:blipFill>
        <p:spPr>
          <a:xfrm>
            <a:off x="7423200" y="0"/>
            <a:ext cx="1720800" cy="145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xv"/>
          <p:cNvPicPr/>
          <p:nvPr/>
        </p:nvPicPr>
        <p:blipFill>
          <a:blip r:embed="rId4"/>
          <a:stretch/>
        </p:blipFill>
        <p:spPr>
          <a:xfrm>
            <a:off x="7956720" y="106848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未标题-3"/>
          <p:cNvPicPr/>
          <p:nvPr/>
        </p:nvPicPr>
        <p:blipFill>
          <a:blip r:embed="rId5"/>
          <a:stretch/>
        </p:blipFill>
        <p:spPr>
          <a:xfrm>
            <a:off x="628164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i"/>
          <p:cNvPicPr/>
          <p:nvPr/>
        </p:nvPicPr>
        <p:blipFill>
          <a:blip r:embed="rId6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0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ji"/>
          <p:cNvPicPr/>
          <p:nvPr/>
        </p:nvPicPr>
        <p:blipFill>
          <a:blip r:embed="rId11"/>
          <a:stretch/>
        </p:blipFill>
        <p:spPr>
          <a:xfrm>
            <a:off x="-38160" y="-9360"/>
            <a:ext cx="9920520" cy="549576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44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48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4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755640" y="482760"/>
            <a:ext cx="7035840" cy="1191240"/>
          </a:xfrm>
          <a:prstGeom prst="rect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姓名： 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龄：  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性别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作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755640" y="2016000"/>
            <a:ext cx="5626080" cy="18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教育背景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2008.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学习内容包括平面设计</a:t>
            </a:r>
            <a:r>
              <a:rPr b="0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英语程度是专业八级；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普通话水平一级甲等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55" name="Group 27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156" name="Text Box 28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57" name="AutoShape 29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158" name="Break31.wav" descr=""/>
          <p:cNvPicPr/>
          <p:nvPr/>
        </p:nvPicPr>
        <p:blipFill>
          <a:blip r:embed="rId19"/>
          <a:stretch/>
        </p:blipFill>
        <p:spPr>
          <a:xfrm>
            <a:off x="-608040" y="339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6661080" y="482760"/>
            <a:ext cx="957240" cy="11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8ac6cc"/>
                </a:solidFill>
                <a:latin typeface="Arial"/>
                <a:ea typeface="黑体"/>
              </a:rPr>
              <a:t>照片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>
    <p:cover dir="u"/>
    <p:sndAc>
      <p:stSnd>
        <p:snd r:embed="rId20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0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3400" cy="550224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74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78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4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-1832040" y="339840"/>
            <a:ext cx="642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493560" y="1101600"/>
            <a:ext cx="924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性格开朗，擅长与人交际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85" name="Group 27"/>
          <p:cNvGrpSpPr/>
          <p:nvPr/>
        </p:nvGrpSpPr>
        <p:grpSpPr>
          <a:xfrm>
            <a:off x="-1844640" y="-14400"/>
            <a:ext cx="8461080" cy="790560"/>
            <a:chOff x="-1844640" y="-14400"/>
            <a:chExt cx="8461080" cy="790560"/>
          </a:xfrm>
        </p:grpSpPr>
        <p:sp>
          <p:nvSpPr>
            <p:cNvPr id="186" name="Text Box 28"/>
            <p:cNvSpPr/>
            <p:nvPr/>
          </p:nvSpPr>
          <p:spPr>
            <a:xfrm>
              <a:off x="183960" y="-14400"/>
              <a:ext cx="643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4400" spc="-1" strike="noStrike">
                  <a:solidFill>
                    <a:srgbClr val="306a66"/>
                  </a:solidFill>
                  <a:latin typeface="黑体"/>
                  <a:ea typeface="黑体"/>
                </a:rPr>
                <a:t>自我评价</a:t>
              </a:r>
              <a:endParaRPr b="0" lang="en-US" sz="4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87" name="Text Box 29"/>
            <p:cNvSpPr/>
            <p:nvPr/>
          </p:nvSpPr>
          <p:spPr>
            <a:xfrm>
              <a:off x="-1844640" y="11880"/>
              <a:ext cx="642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自我评价</a:t>
              </a:r>
              <a:endParaRPr b="0" lang="en-US" sz="4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88" name="Text Box 30"/>
          <p:cNvSpPr/>
          <p:nvPr/>
        </p:nvSpPr>
        <p:spPr>
          <a:xfrm>
            <a:off x="2322720" y="1924200"/>
            <a:ext cx="402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洞察力强</a:t>
            </a:r>
            <a:endParaRPr b="0" lang="en-US" sz="6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592200" y="2778120"/>
            <a:ext cx="447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工作积极主动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办事靠谱！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90" name="Group 32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191" name="Text Box 33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2" name="AutoShape 34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dur="indefinite" nodeType="afterEffect" fill="hold" presetClass="exit" presetID="37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1"/>
                            </p:stCondLst>
                            <p:childTnLst>
                              <p:par>
                                <p:cTn id="71" dur="indefinite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580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580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651"/>
                            </p:stCondLst>
                            <p:childTnLst>
                              <p:par>
                                <p:cTn id="82" dur="indefinite" nodeType="after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33 E">
                                      <p:cBhvr>
                                        <p:cTn id="83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151"/>
                            </p:stCondLst>
                            <p:childTnLst>
                              <p:par>
                                <p:cTn id="85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f"/>
          <p:cNvPicPr/>
          <p:nvPr/>
        </p:nvPicPr>
        <p:blipFill>
          <a:blip r:embed="rId1"/>
          <a:srcRect l="50880" t="0" r="0" b="0"/>
          <a:stretch/>
        </p:blipFill>
        <p:spPr>
          <a:xfrm>
            <a:off x="4429080" y="-26820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df"/>
          <p:cNvPicPr/>
          <p:nvPr/>
        </p:nvPicPr>
        <p:blipFill>
          <a:blip r:embed="rId2"/>
          <a:stretch/>
        </p:blipFill>
        <p:spPr>
          <a:xfrm>
            <a:off x="-744480" y="195120"/>
            <a:ext cx="4137120" cy="525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未标题-3"/>
          <p:cNvPicPr/>
          <p:nvPr/>
        </p:nvPicPr>
        <p:blipFill>
          <a:blip r:embed="rId3"/>
          <a:stretch/>
        </p:blipFill>
        <p:spPr>
          <a:xfrm>
            <a:off x="6145200" y="195120"/>
            <a:ext cx="1473120" cy="1675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i"/>
          <p:cNvPicPr/>
          <p:nvPr/>
        </p:nvPicPr>
        <p:blipFill>
          <a:blip r:embed="rId4"/>
          <a:stretch/>
        </p:blipFill>
        <p:spPr>
          <a:xfrm>
            <a:off x="2916360" y="2454120"/>
            <a:ext cx="2222280" cy="2179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工"/>
          <p:cNvPicPr/>
          <p:nvPr/>
        </p:nvPicPr>
        <p:blipFill>
          <a:blip r:embed="rId5"/>
          <a:stretch/>
        </p:blipFill>
        <p:spPr>
          <a:xfrm>
            <a:off x="4197240" y="1031760"/>
            <a:ext cx="1947960" cy="1854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未标题-5"/>
          <p:cNvPicPr/>
          <p:nvPr/>
        </p:nvPicPr>
        <p:blipFill>
          <a:blip r:embed="rId6"/>
          <a:stretch/>
        </p:blipFill>
        <p:spPr>
          <a:xfrm>
            <a:off x="7486560" y="648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xv"/>
          <p:cNvPicPr/>
          <p:nvPr/>
        </p:nvPicPr>
        <p:blipFill>
          <a:blip r:embed="rId7"/>
          <a:stretch/>
        </p:blipFill>
        <p:spPr>
          <a:xfrm>
            <a:off x="5556240" y="3711600"/>
            <a:ext cx="58896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755640" y="346392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eeece1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286000" y="344664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340000" y="349092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03" name="Picture 12" descr="未标题-3"/>
          <p:cNvPicPr/>
          <p:nvPr/>
        </p:nvPicPr>
        <p:blipFill>
          <a:blip r:embed="rId8"/>
          <a:stretch/>
        </p:blipFill>
        <p:spPr>
          <a:xfrm>
            <a:off x="6137280" y="195120"/>
            <a:ext cx="1473120" cy="1675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工"/>
          <p:cNvPicPr/>
          <p:nvPr/>
        </p:nvPicPr>
        <p:blipFill>
          <a:blip r:embed="rId9"/>
          <a:stretch/>
        </p:blipFill>
        <p:spPr>
          <a:xfrm>
            <a:off x="4189320" y="1031760"/>
            <a:ext cx="1947960" cy="185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ji"/>
          <p:cNvPicPr/>
          <p:nvPr/>
        </p:nvPicPr>
        <p:blipFill>
          <a:blip r:embed="rId10"/>
          <a:stretch/>
        </p:blipFill>
        <p:spPr>
          <a:xfrm>
            <a:off x="0" y="22320"/>
            <a:ext cx="9923400" cy="550224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5"/>
          <p:cNvGrpSpPr/>
          <p:nvPr/>
        </p:nvGrpSpPr>
        <p:grpSpPr>
          <a:xfrm>
            <a:off x="-38160" y="4199040"/>
            <a:ext cx="6915240" cy="826920"/>
            <a:chOff x="-38160" y="4199040"/>
            <a:chExt cx="6915240" cy="826920"/>
          </a:xfrm>
        </p:grpSpPr>
        <p:pic>
          <p:nvPicPr>
            <p:cNvPr id="207" name="Picture 16" descr="ji"/>
            <p:cNvPicPr/>
            <p:nvPr/>
          </p:nvPicPr>
          <p:blipFill>
            <a:blip r:embed="rId11"/>
            <a:stretch/>
          </p:blipFill>
          <p:spPr>
            <a:xfrm>
              <a:off x="-38160" y="4199040"/>
              <a:ext cx="84780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7" descr="ji"/>
            <p:cNvPicPr/>
            <p:nvPr/>
          </p:nvPicPr>
          <p:blipFill>
            <a:blip r:embed="rId12"/>
            <a:stretch/>
          </p:blipFill>
          <p:spPr>
            <a:xfrm>
              <a:off x="740520" y="4199040"/>
              <a:ext cx="3331800" cy="8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8" descr="ji"/>
            <p:cNvPicPr/>
            <p:nvPr/>
          </p:nvPicPr>
          <p:blipFill>
            <a:blip r:embed="rId13"/>
            <a:stretch/>
          </p:blipFill>
          <p:spPr>
            <a:xfrm>
              <a:off x="3545280" y="4199040"/>
              <a:ext cx="3331800" cy="80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19"/>
          <p:cNvGrpSpPr/>
          <p:nvPr/>
        </p:nvGrpSpPr>
        <p:grpSpPr>
          <a:xfrm>
            <a:off x="8422920" y="-200160"/>
            <a:ext cx="825480" cy="6915240"/>
            <a:chOff x="8422920" y="-200160"/>
            <a:chExt cx="825480" cy="6915240"/>
          </a:xfrm>
        </p:grpSpPr>
        <p:pic>
          <p:nvPicPr>
            <p:cNvPr id="211" name="Picture 20" descr="ji"/>
            <p:cNvPicPr/>
            <p:nvPr/>
          </p:nvPicPr>
          <p:blipFill>
            <a:blip r:embed="rId14"/>
            <a:stretch/>
          </p:blipFill>
          <p:spPr>
            <a:xfrm rot="5400000">
              <a:off x="8411760" y="-18900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1" descr="ji"/>
            <p:cNvPicPr/>
            <p:nvPr/>
          </p:nvPicPr>
          <p:blipFill>
            <a:blip r:embed="rId15"/>
            <a:stretch/>
          </p:blipFill>
          <p:spPr>
            <a:xfrm rot="5400000">
              <a:off x="7180200" y="1842120"/>
              <a:ext cx="333180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2" descr="ji"/>
            <p:cNvPicPr/>
            <p:nvPr/>
          </p:nvPicPr>
          <p:blipFill>
            <a:blip r:embed="rId16"/>
            <a:stretch/>
          </p:blipFill>
          <p:spPr>
            <a:xfrm rot="5400000">
              <a:off x="7180200" y="4646880"/>
              <a:ext cx="333180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23" descr="ji"/>
          <p:cNvPicPr/>
          <p:nvPr/>
        </p:nvPicPr>
        <p:blipFill>
          <a:blip r:embed="rId17"/>
          <a:stretch/>
        </p:blipFill>
        <p:spPr>
          <a:xfrm>
            <a:off x="6516720" y="2619360"/>
            <a:ext cx="3219480" cy="3159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4"/>
          <p:cNvSpPr/>
          <p:nvPr/>
        </p:nvSpPr>
        <p:spPr>
          <a:xfrm>
            <a:off x="755640" y="195120"/>
            <a:ext cx="42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8"/>
          <a:stretch/>
        </p:blipFill>
        <p:spPr>
          <a:xfrm>
            <a:off x="19209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19"/>
          <a:stretch/>
        </p:blipFill>
        <p:spPr>
          <a:xfrm>
            <a:off x="25272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20"/>
          <a:stretch/>
        </p:blipFill>
        <p:spPr>
          <a:xfrm>
            <a:off x="31352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21"/>
          <a:stretch/>
        </p:blipFill>
        <p:spPr>
          <a:xfrm>
            <a:off x="374328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"/>
          <p:cNvPicPr/>
          <p:nvPr/>
        </p:nvPicPr>
        <p:blipFill>
          <a:blip r:embed="rId22"/>
          <a:stretch/>
        </p:blipFill>
        <p:spPr>
          <a:xfrm>
            <a:off x="435132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"/>
          <p:cNvPicPr/>
          <p:nvPr/>
        </p:nvPicPr>
        <p:blipFill>
          <a:blip r:embed="rId23"/>
          <a:stretch/>
        </p:blipFill>
        <p:spPr>
          <a:xfrm>
            <a:off x="49593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"/>
          <p:cNvPicPr/>
          <p:nvPr/>
        </p:nvPicPr>
        <p:blipFill>
          <a:blip r:embed="rId24"/>
          <a:stretch/>
        </p:blipFill>
        <p:spPr>
          <a:xfrm>
            <a:off x="55674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"/>
          <p:cNvPicPr/>
          <p:nvPr/>
        </p:nvPicPr>
        <p:blipFill>
          <a:blip r:embed="rId25"/>
          <a:stretch/>
        </p:blipFill>
        <p:spPr>
          <a:xfrm>
            <a:off x="61754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26"/>
          <a:stretch/>
        </p:blipFill>
        <p:spPr>
          <a:xfrm>
            <a:off x="6775560" y="185112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6"/>
          <p:cNvSpPr/>
          <p:nvPr/>
        </p:nvSpPr>
        <p:spPr>
          <a:xfrm>
            <a:off x="3345840" y="339840"/>
            <a:ext cx="24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，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众人之中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7" name="Freeform 6"/>
          <p:cNvSpPr/>
          <p:nvPr/>
        </p:nvSpPr>
        <p:spPr>
          <a:xfrm rot="1033200">
            <a:off x="7276680" y="1409760"/>
            <a:ext cx="250920" cy="4302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8" name="Freeform 6"/>
          <p:cNvSpPr/>
          <p:nvPr/>
        </p:nvSpPr>
        <p:spPr>
          <a:xfrm rot="447600">
            <a:off x="5270400" y="1118880"/>
            <a:ext cx="346320" cy="5904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9" name="Freeform 6"/>
          <p:cNvSpPr/>
          <p:nvPr/>
        </p:nvSpPr>
        <p:spPr>
          <a:xfrm rot="19805400">
            <a:off x="1676160" y="1398600"/>
            <a:ext cx="269640" cy="460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27"/>
          <a:stretch/>
        </p:blipFill>
        <p:spPr>
          <a:xfrm>
            <a:off x="3143160" y="1386000"/>
            <a:ext cx="438120" cy="1654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0"/>
          <p:cNvSpPr/>
          <p:nvPr/>
        </p:nvSpPr>
        <p:spPr>
          <a:xfrm>
            <a:off x="3533400" y="38880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定要有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点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2" name="直接连接符 21"/>
          <p:cNvSpPr/>
          <p:nvPr/>
        </p:nvSpPr>
        <p:spPr>
          <a:xfrm flipH="1">
            <a:off x="2999880" y="137484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3" name="直接连接符 22"/>
          <p:cNvSpPr/>
          <p:nvPr/>
        </p:nvSpPr>
        <p:spPr>
          <a:xfrm flipH="1" flipV="1">
            <a:off x="2999880" y="3045960"/>
            <a:ext cx="357480" cy="180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4" name="直接连接符 23"/>
          <p:cNvSpPr/>
          <p:nvPr/>
        </p:nvSpPr>
        <p:spPr>
          <a:xfrm flipH="1">
            <a:off x="3069720" y="1379520"/>
            <a:ext cx="1800" cy="165564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5" name="TextBox 24"/>
          <p:cNvSpPr/>
          <p:nvPr/>
        </p:nvSpPr>
        <p:spPr>
          <a:xfrm>
            <a:off x="2494800" y="1036800"/>
            <a:ext cx="13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宋体"/>
              </a:rPr>
              <a:t>2.26M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36" name="Group 45"/>
          <p:cNvGrpSpPr/>
          <p:nvPr/>
        </p:nvGrpSpPr>
        <p:grpSpPr>
          <a:xfrm>
            <a:off x="3428640" y="949680"/>
            <a:ext cx="597960" cy="535680"/>
            <a:chOff x="3428640" y="949680"/>
            <a:chExt cx="597960" cy="535680"/>
          </a:xfrm>
        </p:grpSpPr>
        <p:pic>
          <p:nvPicPr>
            <p:cNvPr id="237" name="组合 33" descr=""/>
            <p:cNvPicPr/>
            <p:nvPr/>
          </p:nvPicPr>
          <p:blipFill>
            <a:blip r:embed="rId28"/>
            <a:stretch/>
          </p:blipFill>
          <p:spPr>
            <a:xfrm rot="21599400">
              <a:off x="3526560" y="975600"/>
              <a:ext cx="3664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直接连接符 27"/>
            <p:cNvSpPr/>
            <p:nvPr/>
          </p:nvSpPr>
          <p:spPr>
            <a:xfrm>
              <a:off x="3428640" y="1069560"/>
              <a:ext cx="92880" cy="172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39" name="直接连接符 28"/>
            <p:cNvSpPr/>
            <p:nvPr/>
          </p:nvSpPr>
          <p:spPr>
            <a:xfrm>
              <a:off x="3461040" y="999720"/>
              <a:ext cx="96840" cy="44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0" name="直接连接符 29"/>
            <p:cNvSpPr/>
            <p:nvPr/>
          </p:nvSpPr>
          <p:spPr>
            <a:xfrm>
              <a:off x="3524760" y="949680"/>
              <a:ext cx="44280" cy="396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1" name="直接连接符 30"/>
            <p:cNvSpPr/>
            <p:nvPr/>
          </p:nvSpPr>
          <p:spPr>
            <a:xfrm flipH="1" flipV="1">
              <a:off x="3898800" y="1275840"/>
              <a:ext cx="69840" cy="630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2" name="直接连接符 31"/>
            <p:cNvSpPr/>
            <p:nvPr/>
          </p:nvSpPr>
          <p:spPr>
            <a:xfrm flipH="1" flipV="1">
              <a:off x="3920400" y="1222920"/>
              <a:ext cx="94320" cy="500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3" name="直接连接符 32"/>
            <p:cNvSpPr/>
            <p:nvPr/>
          </p:nvSpPr>
          <p:spPr>
            <a:xfrm flipH="1" flipV="1">
              <a:off x="3944880" y="1176840"/>
              <a:ext cx="81720" cy="17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244" name="Picture 53" descr="dsf"/>
          <p:cNvPicPr/>
          <p:nvPr/>
        </p:nvPicPr>
        <p:blipFill>
          <a:blip r:embed="rId29"/>
          <a:stretch/>
        </p:blipFill>
        <p:spPr>
          <a:xfrm>
            <a:off x="5892840" y="2124000"/>
            <a:ext cx="4030560" cy="3971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4" descr="ji"/>
          <p:cNvPicPr/>
          <p:nvPr/>
        </p:nvPicPr>
        <p:blipFill>
          <a:blip r:embed="rId30"/>
          <a:stretch/>
        </p:blipFill>
        <p:spPr>
          <a:xfrm>
            <a:off x="7669080" y="3979800"/>
            <a:ext cx="884520" cy="66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5" descr="i[]"/>
          <p:cNvPicPr/>
          <p:nvPr/>
        </p:nvPicPr>
        <p:blipFill>
          <a:blip r:embed="rId31"/>
          <a:stretch/>
        </p:blipFill>
        <p:spPr>
          <a:xfrm>
            <a:off x="7381800" y="3219480"/>
            <a:ext cx="414360" cy="1092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6" descr="i[]"/>
          <p:cNvPicPr/>
          <p:nvPr/>
        </p:nvPicPr>
        <p:blipFill>
          <a:blip r:embed="rId32"/>
          <a:stretch/>
        </p:blipFill>
        <p:spPr>
          <a:xfrm>
            <a:off x="7796160" y="4110120"/>
            <a:ext cx="354240" cy="322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7"/>
          <p:cNvSpPr/>
          <p:nvPr/>
        </p:nvSpPr>
        <p:spPr>
          <a:xfrm>
            <a:off x="1877400" y="164628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5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49" name="Group 58"/>
          <p:cNvGrpSpPr/>
          <p:nvPr/>
        </p:nvGrpSpPr>
        <p:grpSpPr>
          <a:xfrm>
            <a:off x="-518400" y="4444920"/>
            <a:ext cx="2606760" cy="337320"/>
            <a:chOff x="-518400" y="4444920"/>
            <a:chExt cx="2606760" cy="337320"/>
          </a:xfrm>
        </p:grpSpPr>
        <p:sp>
          <p:nvSpPr>
            <p:cNvPr id="250" name="Text Box 59"/>
            <p:cNvSpPr/>
            <p:nvPr/>
          </p:nvSpPr>
          <p:spPr>
            <a:xfrm>
              <a:off x="-518400" y="44449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1" name="AutoShape 60"/>
            <p:cNvSpPr/>
            <p:nvPr/>
          </p:nvSpPr>
          <p:spPr>
            <a:xfrm rot="5400000">
              <a:off x="1196280" y="45291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52" name="Text Box 61"/>
          <p:cNvSpPr/>
          <p:nvPr/>
        </p:nvSpPr>
        <p:spPr>
          <a:xfrm>
            <a:off x="3016080" y="546732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形象有标示性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3" name="Text Box 62"/>
          <p:cNvSpPr/>
          <p:nvPr/>
        </p:nvSpPr>
        <p:spPr>
          <a:xfrm>
            <a:off x="-229320" y="5243400"/>
            <a:ext cx="46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还有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....</a:t>
            </a:r>
            <a:endParaRPr b="0" lang="en-US" sz="8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 L 0.006042 -0.900864 E">
                                      <p:cBhvr>
                                        <p:cTn id="98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4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4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4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2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200"/>
                            </p:stCondLst>
                            <p:childTnLst>
                              <p:par>
                                <p:cTn id="138" dur="indefinite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4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4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900"/>
                            </p:stCondLst>
                            <p:childTnLst>
                              <p:par>
                                <p:cTn id="151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66 -0.024307 C -0.008166 -0.024278 -0.007661 -0.024193 -0.007163 -0.024131 C -0.006665 -0.024069 -0.005777 -0.023996 -0.005382 -0.023934 C -0.004989 -0.023871 -0.005006 -0.023819 -0.004804 -0.023755 C -0.004604 -0.023694 -0.003986 -0.023621 -0.004178 -0.023559 C -0.00437 -0.023497 -0.005855 -0.023442 -0.00596 -0.023383 C -0.006066 -0.023323 -0.005399 -0.02327 -0.004804 -0.023204 C -0.004211 -0.023139 -0.003295 -0.023054 -0.002397 -0.022989 C -0.0015 -0.022923 -0.000503 -0.022869 0.000587 -0.02281 C 0.001678 -0.022751 0.003057 -0.022696 0.004151 -0.022634 C 0.005239 -0.022571 0.005937 -0.022499 0.007133 -0.022437 C 0.00833 -0.022374 0.009733 -0.022308 0.011321 -0.022259 C 0.012909 -0.02221 0.014875 -0.022177 0.016664 -0.022141 C 0.018452 -0.022105 0.020161 -0.022079 0.022056 -0.022042 C 0.023949 -0.022007 0.026035 -0.021955 0.028025 -0.021925 C 0.030012 -0.021896 0.032107 -0.02188 0.033993 -0.021866 C 0.035879 -0.021853 0.038446 -0.02185 0.039336 -0.021845 E">
                                      <p:cBhvr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25926 C 0.01632 -0.02821 0.015035 -0.034794 0.01632 -0.03963 C 0.017605 -0.044465 0.022026 -0.049836 0.024028 -0.054938 C 0.026031 -0.060041 0.026609 -0.06463 0.028334 -0.070247 C 0.030058 -0.075864 0.032651 -0.082778 0.034376 -0.088642 C 0.0361 -0.094506 0.036968 -0.099568 0.038681 -0.105432 C 0.040394 -0.111296 0.04279 -0.118477 0.044653 -0.123827 C 0.046517 -0.129177 0.048137 -0.132181 0.049862 -0.137531 C 0.051586 -0.142881 0.052998 -0.150309 0.055001 -0.155926 C 0.057003 -0.161543 0.059295 -0.165885 0.061876 -0.171235 C 0.064457 -0.176584 0.067327 -0.181893 0.070487 -0.188025 C 0.073646 -0.194156 0.078253 -0.202408 0.080834 -0.208025 C 0.083415 -0.213642 0.084248 -0.21714 0.085973 -0.221728 C 0.087697 -0.226317 0.089028 -0.230206 0.091181 -0.235556 C 0.093334 -0.240905 0.096459 -0.248477 0.098889 -0.253827 C 0.10132 -0.259177 0.103751 -0.262798 0.105764 -0.267654 C 0.107778 -0.27251 0.109387 -0.277613 0.110973 -0.282963 C 0.112558 -0.288313 0.113994 -0.29465 0.115278 -0.299753 C 0.116563 -0.304856 0.117686 -0.308992 0.118681 -0.31358 C 0.119676 -0.318169 0.119954 -0.322696 0.121251 -0.327284 C 0.122547 -0.331873 0.126019 -0.336523 0.126459 -0.341111 C 0.126899 -0.3457 0.125614 -0.351255 0.123889 -0.354815 C 0.122165 -0.358375 0.118843 -0.359156 0.116112 -0.362469 C 0.11338 -0.365782 0.11022 -0.37035 0.107501 -0.374691 C 0.104781 -0.379033 0.102373 -0.38393 0.099792 -0.388519 C 0.097211 -0.393107 0.094595 -0.397634 0.092014 -0.402222 C 0.089433 -0.406811 0.086887 -0.411708 0.084306 -0.416049 C 0.081725 -0.420391 0.079121 -0.42393 0.076528 -0.428272 C 0.073936 -0.432613 0.071332 -0.437243 0.068751 -0.442099 C 0.06617 -0.446955 0.063901 -0.452325 0.061042 -0.457407 C 0.058183 -0.46249 0.054468 -0.46751 0.051598 -0.472593 C 0.048727 -0.477675 0.046401 -0.483313 0.04382 -0.487901 C 0.041239 -0.49249 0.038832 -0.495535 0.036112 -0.500124 C 0.033392 -0.504712 0.03066 -0.509815 0.027501 -0.515432 C 0.024341 -0.521049 0.020174 -0.528724 0.017153 -0.533827 C 0.014132 -0.53893 0.011957 -0.541975 0.009376 -0.546049 C 0.006795 -0.550124 0.004248 -0.554691 0.001667 -0.558272 C -0.000914 -0.561852 -0.003379 -0.564198 -0.006111 -0.567531 C -0.008842 -0.570864 -0.011851 -0.574959 -0.014722 -0.578272 C -0.017592 -0.581584 -0.020613 -0.584095 -0.023333 -0.587407 C -0.026053 -0.59072 -0.028321 -0.595082 -0.031041 -0.598148 C -0.033761 -0.601214 -0.036782 -0.602757 -0.039652 -0.605803 C -0.042523 -0.608848 -0.045543 -0.613375 -0.048263 -0.61642 C -0.050983 -0.619465 -0.053391 -0.62177 -0.055972 -0.624074 C -0.058553 -0.626379 -0.060879 -0.627942 -0.063749 -0.630247 C -0.06662 -0.632551 -0.070324 -0.635103 -0.073194 -0.637901 C -0.076064 -0.6407 -0.078391 -0.643971 -0.080972 -0.647037 C -0.083553 -0.650103 -0.086099 -0.653231 -0.08868 -0.656296 C -0.091261 -0.659362 -0.093726 -0.662387 -0.096458 -0.665432 C -0.099189 -0.668477 -0.102349 -0.671255 -0.105069 -0.674568 C -0.107789 -0.677881 -0.110196 -0.682243 -0.112777 -0.685309 C -0.115358 -0.688375 -0.117824 -0.690412 -0.120555 -0.692963 C -0.123287 -0.695515 -0.126446 -0.698333 -0.129166 -0.700617 C -0.131886 -0.702901 -0.134293 -0.704877 -0.136874 -0.706667 C -0.139455 -0.708457 -0.142071 -0.709815 -0.144652 -0.711358 C -0.147233 -0.712901 -0.14978 -0.715165 -0.152361 -0.715926 C -0.154942 -0.716687 -0.157407 -0.716194 -0.160138 -0.715926 C -0.16287 -0.715659 -0.16603 -0.71535 -0.168749 -0.714321 C -0.171469 -0.713292 -0.173877 -0.711523 -0.176458 -0.709753 C -0.179039 -0.707984 -0.181655 -0.706749 -0.184236 -0.703704 C -0.186817 -0.700659 -0.189652 -0.69607 -0.191944 -0.691482 C -0.194236 -0.686893 -0.1964 -0.681029 -0.197986 -0.676173 C -0.199571 -0.671317 -0.20074 -0.667202 -0.201458 -0.662346 C -0.202175 -0.65749 -0.202291 -0.651873 -0.202291 -0.647037 C -0.202291 -0.642202 -0.202175 -0.637922 -0.201458 -0.633333 C -0.20074 -0.628745 -0.199282 -0.624095 -0.197986 -0.619506 C -0.196689 -0.614918 -0.195254 -0.610638 -0.19368 -0.605803 C -0.192106 -0.600967 -0.190972 -0.59535 -0.188541 -0.590494 C -0.186111 -0.585638 -0.182106 -0.581008 -0.179097 -0.576667 C -0.176087 -0.572325 -0.173506 -0.567757 -0.170486 -0.564445 C -0.167465 -0.561132 -0.163842 -0.558827 -0.160972 -0.55679 C -0.158101 -0.554753 -0.155844 -0.552984 -0.153263 -0.552222 C -0.150682 -0.551461 -0.148067 -0.551975 -0.145486 -0.552222 C -0.142905 -0.552469 -0.140497 -0.552696 -0.137777 -0.553704 C -0.135057 -0.554712 -0.131898 -0.556235 -0.129166 -0.558272 C -0.126435 -0.560309 -0.123969 -0.56286 -0.121388 -0.565926 C -0.118807 -0.568992 -0.115393 -0.572325 -0.11368 -0.576667 C -0.111967 -0.581008 -0.112696 -0.587119 -0.111111 -0.591975 C -0.109525 -0.596831 -0.106319 -0.601214 -0.104166 -0.605803 C -0.102013 -0.610391 -0.099768 -0.614918 -0.098194 -0.619506 C -0.09662 -0.624095 -0.095439 -0.628745 -0.094722 -0.633333 C -0.094004 -0.637922 -0.094027 -0.642202 -0.093888 -0.647037 C -0.09375 -0.651873 -0.093611 -0.65749 -0.093888 -0.662346 C -0.094166 -0.667202 -0.095844 -0.67107 -0.095555 -0.676173 C -0.095266 -0.681276 -0.092291 -0.687366 -0.092152 -0.692963 C -0.092013 -0.69856 -0.094155 -0.70465 -0.094722 -0.709753 C -0.095289 -0.714856 -0.09412 -0.719753 -0.095555 -0.72358 C -0.09699 -0.727407 -0.10074 -0.729918 -0.103333 -0.732716 C -0.105925 -0.735514 -0.10853 -0.738066 -0.111111 -0.74037 C -0.113692 -0.742675 -0.116238 -0.744239 -0.118819 -0.746543 C -0.1214 -0.748848 -0.123865 -0.751914 -0.126597 -0.754198 C -0.129328 -0.756482 -0.132349 -0.757696 -0.135208 -0.760247 C -0.138067 -0.762798 -0.14103 -0.767202 -0.143749 -0.769506 C -0.146469 -0.771811 -0.148935 -0.772552 -0.151527 -0.774074 C -0.15412 -0.775597 -0.156585 -0.776605 -0.159305 -0.778642 C -0.162025 -0.780679 -0.164837 -0.784012 -0.167847 -0.786296 C -0.170856 -0.78858 -0.17434 -0.790556 -0.177361 -0.792346 C -0.180381 -0.794136 -0.183252 -0.795494 -0.185972 -0.797037 C -0.188692 -0.79858 -0.191099 -0.799568 -0.19368 -0.801605 C -0.196261 -0.803642 -0.198726 -0.806975 -0.201458 -0.809259 C -0.204189 -0.811543 -0.207349 -0.813786 -0.210069 -0.815309 C -0.212789 -0.816831 -0.215057 -0.817613 -0.217777 -0.818395 C -0.220497 -0.819177 -0.223518 -0.819733 -0.226388 -0.82 C -0.229259 -0.820268 -0.232268 -0.82 -0.234999 -0.82 C -0.237731 -0.82 -0.240196 -0.82 -0.242777 -0.82 C -0.245358 -0.82 -0.247905 -0.82 -0.250486 -0.82 C -0.253067 -0.82 -0.255682 -0.82 -0.258263 -0.82 C -0.260844 -0.82 -0.263391 -0.820268 -0.265972 -0.82 C -0.268553 -0.819733 -0.271018 -0.818663 -0.273749 -0.818395 C -0.276481 -0.818128 -0.279641 -0.818395 -0.282361 -0.818395 C -0.28508 -0.818395 -0.287488 -0.818395 -0.290069 -0.818395 C -0.29265 -0.818395 -0.295266 -0.818642 -0.297847 -0.818395 C -0.300428 -0.818148 -0.302835 -0.817922 -0.305555 -0.816914 C -0.308275 -0.815905 -0.311296 -0.813621 -0.314166 -0.812346 C -0.317037 -0.81107 -0.319907 -0.810041 -0.322777 -0.809259 C -0.325648 -0.808477 -0.328658 -0.807922 -0.331388 -0.807654 C -0.33412 -0.807387 -0.336585 -0.807654 -0.339166 -0.807654 C -0.341747 -0.807654 -0.344293 -0.807387 -0.346874 -0.807654 C -0.349455 -0.807922 -0.352071 -0.809259 -0.354652 -0.809259 C -0.357233 -0.809259 -0.35978 -0.807922 -0.362361 -0.807654 C -0.364942 -0.807387 -0.367557 -0.807901 -0.370138 -0.807654 C -0.372719 -0.807408 -0.375266 -0.806934 -0.377847 -0.806173 C -0.380428 -0.805412 -0.383043 -0.803848 -0.385624 -0.803086 C -0.388205 -0.802325 -0.390752 -0.802366 -0.393333 -0.801605 C -0.395914 -0.800844 -0.39853 -0.79928 -0.401111 -0.798519 C -0.403692 -0.797757 -0.406099 -0.798313 -0.408819 -0.797037 C -0.411539 -0.795761 -0.41456 -0.792654 -0.417431 -0.790864 C -0.4203 -0.789074 -0.423171 -0.788333 -0.426041 -0.786296 C -0.428911 -0.784259 -0.431921 -0.781194 -0.434652 -0.778642 C -0.437384 -0.776091 -0.439699 -0.773786 -0.44243 -0.770988 C -0.445161 -0.768189 -0.448321 -0.765679 -0.451041 -0.761852 C -0.453761 -0.758025 -0.456168 -0.752613 -0.458749 -0.748025 C -0.461331 -0.743436 -0.463946 -0.738395 -0.466527 -0.734321 C -0.469108 -0.730247 -0.471655 -0.727407 -0.474236 -0.72358 C -0.476817 -0.719753 -0.479432 -0.7157 -0.482013 -0.711358 C -0.484594 -0.707017 -0.487569 -0.702387 -0.489722 -0.697531 C -0.491874 -0.692675 -0.492916 -0.687058 -0.49493 -0.682222 C -0.496944 -0.677387 -0.500092 -0.673107 -0.501805 -0.668519 C -0.503518 -0.66393 -0.504641 -0.65928 -0.505208 -0.654691 C -0.505775 -0.650103 -0.505347 -0.645576 -0.505208 -0.640988 C -0.505069 -0.636399 -0.504652 -0.631749 -0.504374 -0.627161 C -0.504097 -0.622572 -0.50383 -0.618045 -0.503541 -0.613457 C -0.503252 -0.608868 -0.503078 -0.604239 -0.502638 -0.59963 C -0.502199 -0.595021 -0.501192 -0.588107 -0.500902 -0.585803 E">
                                      <p:cBhvr>
                                        <p:cTn id="17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800"/>
                            </p:stCondLst>
                            <p:childTnLst>
                              <p:par>
                                <p:cTn id="178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2 0.56 L -0.001945 -0.443334 E">
                                      <p:cBhvr>
                                        <p:cTn id="179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800"/>
                            </p:stCondLst>
                            <p:childTnLst>
                              <p:par>
                                <p:cTn id="18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64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0160" cy="550224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268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Picture 19" descr="ji"/>
          <p:cNvPicPr/>
          <p:nvPr/>
        </p:nvPicPr>
        <p:blipFill>
          <a:blip r:embed="rId15"/>
          <a:stretch/>
        </p:blipFill>
        <p:spPr>
          <a:xfrm>
            <a:off x="8424720" y="-79200"/>
            <a:ext cx="825480" cy="841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0" descr="ji"/>
          <p:cNvPicPr/>
          <p:nvPr/>
        </p:nvPicPr>
        <p:blipFill>
          <a:blip r:embed="rId16"/>
          <a:stretch/>
        </p:blipFill>
        <p:spPr>
          <a:xfrm>
            <a:off x="8447040" y="690480"/>
            <a:ext cx="803160" cy="3333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ji"/>
          <p:cNvPicPr/>
          <p:nvPr/>
        </p:nvPicPr>
        <p:blipFill>
          <a:blip r:embed="rId17"/>
          <a:stretch/>
        </p:blipFill>
        <p:spPr>
          <a:xfrm>
            <a:off x="8447040" y="3497400"/>
            <a:ext cx="803160" cy="3335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3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76" name="图片 16" descr="10.png"/>
          <p:cNvPicPr/>
          <p:nvPr/>
        </p:nvPicPr>
        <p:blipFill>
          <a:blip r:embed="rId19"/>
          <a:stretch/>
        </p:blipFill>
        <p:spPr>
          <a:xfrm>
            <a:off x="0" y="0"/>
            <a:ext cx="2467080" cy="3316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20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"/>
          <p:cNvPicPr/>
          <p:nvPr/>
        </p:nvPicPr>
        <p:blipFill>
          <a:blip r:embed="rId2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2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3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"/>
          <p:cNvPicPr/>
          <p:nvPr/>
        </p:nvPicPr>
        <p:blipFill>
          <a:blip r:embed="rId24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"/>
          <p:cNvPicPr/>
          <p:nvPr/>
        </p:nvPicPr>
        <p:blipFill>
          <a:blip r:embed="rId25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"/>
          <p:cNvPicPr/>
          <p:nvPr/>
        </p:nvPicPr>
        <p:blipFill>
          <a:blip r:embed="rId26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"/>
          <p:cNvPicPr/>
          <p:nvPr/>
        </p:nvPicPr>
        <p:blipFill>
          <a:blip r:embed="rId27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"/>
          <p:cNvPicPr/>
          <p:nvPr/>
        </p:nvPicPr>
        <p:blipFill>
          <a:blip r:embed="rId28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2" descr="07.png"/>
          <p:cNvPicPr/>
          <p:nvPr/>
        </p:nvPicPr>
        <p:blipFill>
          <a:blip r:embed="rId29"/>
          <a:stretch/>
        </p:blipFill>
        <p:spPr>
          <a:xfrm>
            <a:off x="2776680" y="1971720"/>
            <a:ext cx="1152360" cy="12002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7"/>
          <p:cNvSpPr/>
          <p:nvPr/>
        </p:nvSpPr>
        <p:spPr>
          <a:xfrm>
            <a:off x="1896120" y="34574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爱艺术，有独特视角和鉴赏能力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88" name="图片 27" descr="08.png"/>
          <p:cNvPicPr/>
          <p:nvPr/>
        </p:nvPicPr>
        <p:blipFill>
          <a:blip r:embed="rId30"/>
          <a:stretch/>
        </p:blipFill>
        <p:spPr>
          <a:xfrm>
            <a:off x="2611440" y="179244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8"/>
          <p:cNvSpPr/>
          <p:nvPr/>
        </p:nvSpPr>
        <p:spPr>
          <a:xfrm rot="21317400">
            <a:off x="1581840" y="844200"/>
            <a:ext cx="41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  <a:ea typeface="宋体"/>
              </a:rPr>
              <a:t>Vitruvian Man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90" name="Group 38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291" name="Text Box 39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92" name="AutoShape 40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909720" y="4024440"/>
            <a:ext cx="496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hlinkClick r:id="rId31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2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204" dur="3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206" dur="3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208" dur="3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210" dur="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212" dur="3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214" dur="3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216" dur="3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218" dur="3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6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400"/>
                            </p:stCondLst>
                            <p:childTnLst>
                              <p:par>
                                <p:cTn id="226" dur="indefinite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5:4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3:04:1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