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A2D3-3A6F-44A7-A953-799A9B82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F442-A79A-432B-AF2F-3D9A4C9F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4F3E-9420-4E62-B68C-4BB80D83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ED93-A5B8-40A6-A298-A1854EEF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63C-5C8C-433D-8CA2-0FC21762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A0F2-BB35-4354-9E95-60C27112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037-D94C-4FC2-BA78-2C6DD3F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77B-9506-45BC-A97D-8AA973E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A03D-4A3C-4497-A705-FA20AB4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1A4-8344-48E8-804D-B5B78865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23FF-D042-47A4-BA5F-65508C5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591C-76B4-4077-A712-6038269F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17A8-22DF-4D84-A749-7436EC4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876C-7F83-462B-A430-DAB0756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7D5C-7CFF-4ED9-93E3-C480102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F97-BF85-4FD3-B5B9-C5601A04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657-35FC-4F9F-8031-3FFB19B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8EE9-A08C-4578-BF60-3FBE023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5A6B-24DF-4177-A1EC-4329CE2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40DE-762B-4B3A-AD16-DB7EDE0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A3A3-70AE-47D3-8B06-7C470497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74EF-C174-4024-B433-564F7E5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4419-995F-465E-A9F0-2EFBFAF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7D42-106F-40D9-B855-0093661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F66D-97E2-40BE-92B3-F32081AF29D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E4E-D933-40A3-B79D-1179F17E074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3760" y="124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e5e5ff"/>
                </a:solidFill>
                <a:latin typeface="隶书"/>
                <a:ea typeface="隶书"/>
              </a:rPr>
              <a:t>金属塑性加工的摩擦与润滑</a:t>
            </a:r>
            <a:r>
              <a:rPr b="1" lang="zh-CN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9800" y="197820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1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2 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金属塑性加工时摩擦的特点及作用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3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塑性加工中摩擦的分类及机理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4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摩擦系数及其影响因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5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测定摩擦系数的方法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§4. 6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塑性加工的工艺润滑</a:t>
            </a:r>
            <a:r>
              <a:rPr b="0" lang="zh-CN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33668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68360" y="1125360"/>
            <a:ext cx="8243640" cy="4911840"/>
            <a:chOff x="468360" y="1125360"/>
            <a:chExt cx="8243640" cy="49118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388880" y="1137960"/>
              <a:ext cx="6234840" cy="46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91720" y="137448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8360" y="170676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45360" y="205524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1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8360" y="235584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91720" y="270432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8360" y="303660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91720" y="335340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4720" y="368532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4720" y="400212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318920"/>
              <a:ext cx="597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4720" y="461952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4935960"/>
              <a:ext cx="597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1080" y="526860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7120" y="565344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2040" y="571176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3520" y="572760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6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8320" y="5763960"/>
              <a:ext cx="72540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5756400"/>
              <a:ext cx="6987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1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7960" y="5775840"/>
              <a:ext cx="7725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18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66080" y="5763960"/>
              <a:ext cx="7455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22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04720" y="5677200"/>
              <a:ext cx="1007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N/mm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2796120"/>
              <a:ext cx="4701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e5e5ff"/>
                  </a:solidFill>
                  <a:latin typeface="Times New Roman"/>
                </a:rPr>
                <a:t>摩擦系数</a:t>
              </a:r>
              <a:r>
                <a:rPr b="0" lang="zh-CN" sz="1400" spc="-1" strike="noStrike">
                  <a:solidFill>
                    <a:srgbClr val="e5e5ff"/>
                  </a:solidFill>
                  <a:latin typeface="Times New Roman"/>
                </a:rPr>
                <a:t>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1560" y="1125360"/>
              <a:ext cx="5979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0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677960" y="6062760"/>
            <a:ext cx="6348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5e5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e5e5ff"/>
                </a:solidFill>
                <a:latin typeface="宋体"/>
              </a:rPr>
              <a:t>4-6  </a:t>
            </a:r>
            <a:r>
              <a:rPr b="0" lang="zh-CN" sz="2000" spc="-1" strike="noStrike">
                <a:solidFill>
                  <a:srgbClr val="e5e5ff"/>
                </a:solidFill>
                <a:latin typeface="宋体"/>
              </a:rPr>
              <a:t>正压力对摩擦系数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50920" y="1143000"/>
            <a:ext cx="8642520" cy="4446720"/>
            <a:chOff x="250920" y="1143000"/>
            <a:chExt cx="8642520" cy="4446720"/>
          </a:xfrm>
        </p:grpSpPr>
        <p:grpSp>
          <p:nvGrpSpPr>
            <p:cNvPr id="174" name=""/>
            <p:cNvGrpSpPr/>
            <p:nvPr/>
          </p:nvGrpSpPr>
          <p:grpSpPr>
            <a:xfrm>
              <a:off x="250920" y="1143000"/>
              <a:ext cx="4714920" cy="4446720"/>
              <a:chOff x="250920" y="1143000"/>
              <a:chExt cx="4714920" cy="4446720"/>
            </a:xfrm>
          </p:grpSpPr>
          <p:sp>
            <p:nvSpPr>
              <p:cNvPr id="175" name=""/>
              <p:cNvSpPr/>
              <p:nvPr/>
            </p:nvSpPr>
            <p:spPr>
              <a:xfrm>
                <a:off x="285840" y="1251000"/>
                <a:ext cx="438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080" y="1846440"/>
                <a:ext cx="438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4400" y="2440080"/>
                <a:ext cx="43812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400" y="3087720"/>
                <a:ext cx="438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560" y="1143000"/>
                <a:ext cx="4122720" cy="365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250920" y="3735360"/>
                <a:ext cx="43812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2280" y="4303800"/>
                <a:ext cx="28440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4760" y="4888080"/>
                <a:ext cx="439560" cy="63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24160" y="4888080"/>
                <a:ext cx="43812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00400" y="4888080"/>
                <a:ext cx="438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6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97240" y="4888080"/>
                <a:ext cx="43812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8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27720" y="4727520"/>
                <a:ext cx="438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℃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59640" y="1503360"/>
              <a:ext cx="4033800" cy="3948120"/>
              <a:chOff x="4859640" y="1503360"/>
              <a:chExt cx="4033800" cy="394812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9520" y="1757160"/>
                <a:ext cx="3571920" cy="29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4864320" y="2422440"/>
                <a:ext cx="35568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64320" y="3369960"/>
                <a:ext cx="35568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59640" y="1503360"/>
                <a:ext cx="35568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μ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34160" y="4503600"/>
                <a:ext cx="35568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99480" y="4599000"/>
                <a:ext cx="35568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47280" y="4814640"/>
                <a:ext cx="35568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6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98040" y="4814640"/>
                <a:ext cx="3571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8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37760" y="4771800"/>
                <a:ext cx="35568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℃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889280" y="5133960"/>
              <a:ext cx="55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5e5ff"/>
                  </a:solidFill>
                  <a:latin typeface="宋体"/>
                </a:rPr>
                <a:t>图</a:t>
              </a:r>
              <a:r>
                <a:rPr b="0" lang="zh-CN" sz="2000" spc="-1" strike="noStrike">
                  <a:solidFill>
                    <a:srgbClr val="e5e5ff"/>
                  </a:solidFill>
                  <a:latin typeface="宋体"/>
                </a:rPr>
                <a:t>4-7  </a:t>
              </a:r>
              <a:r>
                <a:rPr b="0" lang="zh-CN" sz="2000" spc="-1" strike="noStrike">
                  <a:solidFill>
                    <a:srgbClr val="e5e5ff"/>
                  </a:solidFill>
                  <a:latin typeface="宋体"/>
                </a:rPr>
                <a:t>温度对钢的摩擦系数的影响    图</a:t>
              </a:r>
              <a:r>
                <a:rPr b="0" lang="zh-CN" sz="2000" spc="-1" strike="noStrike">
                  <a:solidFill>
                    <a:srgbClr val="e5e5ff"/>
                  </a:solidFill>
                  <a:latin typeface="宋体"/>
                </a:rPr>
                <a:t>4-8 </a:t>
              </a:r>
              <a:r>
                <a:rPr b="0" lang="zh-CN" sz="2000" spc="-1" strike="noStrike">
                  <a:solidFill>
                    <a:srgbClr val="e5e5ff"/>
                  </a:solidFill>
                  <a:latin typeface="宋体"/>
                </a:rPr>
                <a:t>温度对铜的摩擦系数的影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隶书"/>
                <a:ea typeface="隶书"/>
              </a:rPr>
              <a:t>§4.5 </a:t>
            </a:r>
            <a:r>
              <a:rPr b="1" lang="zh-CN" sz="4400" spc="-1" strike="noStrike">
                <a:solidFill>
                  <a:srgbClr val="e5e5ff"/>
                </a:solidFill>
                <a:latin typeface="隶书"/>
                <a:ea typeface="隶书"/>
              </a:rPr>
              <a:t>测定摩擦系数的方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夹钳轧制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楔形件压缩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塑性加工常用摩擦系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圆环镦粗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052640"/>
            <a:ext cx="838188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§4.6 </a:t>
            </a: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塑性加工的工艺润滑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工艺润滑的目的及润滑机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润滑的目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减少工模具磨损，延长工具使用寿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提高制品质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降低金属变形时的能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润滑机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流体力学原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吸附机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43812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隶书"/>
              </a:rPr>
              <a:t>润滑剂的选择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．塑性成形中对润滑剂的要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在选择及配制润滑剂时，必符合下列要求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应有良好的耐压性能，在高压作用下，润滑膜仍能吸附在接触表面上，保持良好的润滑状态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应有良好耐高温性能，在热加工时，润滑剂应不分解，不变质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有冷却模具的作用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不应对金属和模具有腐蚀作用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应对人体无毒，不污染环境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e5e5ff"/>
                </a:solidFill>
                <a:latin typeface="隶书"/>
                <a:ea typeface="隶书"/>
              </a:rPr>
              <a:t>）润滑剂要求使用、清理方便、来源丰富、价格便宜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2280" y="130824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．常用的润滑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液体润滑剂包括矿物油、动植物油、乳液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固体润滑剂，包括石墨、二硫化钼、肥皂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液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-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固型润滑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熔体润滑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隶书"/>
              </a:rPr>
              <a:t>润滑剂中的添加剂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润滑油中的添加剂，一般应易溶于机油，热稳定性要好，且应具有良好的物理化学性能，常用的添加剂有油性剂、极压剂、抗磨剂和防锈剂等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e5ff"/>
                </a:solidFill>
                <a:latin typeface="Garamond"/>
                <a:ea typeface="隶书"/>
              </a:rPr>
              <a:t>润滑方法的改进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90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．流体润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．表面处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）表面磷化处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）表面氧化处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）表面镀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§4.1 </a:t>
            </a: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概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金属塑性加工中是在工具与工件相接触的条件下进行的，这时必然产生阻止金属流动的摩擦力。这种发生在工件和工具接触面间，阻碍金属流动的摩擦，称外摩擦。由于摩擦的作用，工具产生磨损，工件被擦伤；金属变形力、能增加造成金属变形不均；严重时使工件出现裂纹，还要定期更换工具。因此，塑性加工中，须加以润滑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润滑技术的开发能促进金属塑性加工的发展。随着压力加工新技术新材料新工艺的出现，必将要求人们解决新的润滑问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98100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§4.2 </a:t>
            </a: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金属塑性加工时摩擦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的特点及作用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e5ff"/>
                </a:solidFill>
                <a:latin typeface="隶书"/>
                <a:ea typeface="隶书"/>
              </a:rPr>
              <a:t>塑性成形时摩擦的特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e5ff"/>
                </a:solidFill>
                <a:latin typeface="隶书"/>
                <a:ea typeface="隶书"/>
              </a:rPr>
              <a:t>在高压下产生的摩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e5ff"/>
                </a:solidFill>
                <a:latin typeface="隶书"/>
                <a:ea typeface="隶书"/>
              </a:rPr>
              <a:t>较高温度下的摩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e5ff"/>
                </a:solidFill>
                <a:latin typeface="隶书"/>
                <a:ea typeface="隶书"/>
              </a:rPr>
              <a:t>摩擦副（金属与工具）的性质相差大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e5ff"/>
                </a:solidFill>
                <a:latin typeface="隶书"/>
                <a:ea typeface="隶书"/>
              </a:rPr>
              <a:t>在接触面上各点的摩擦也不一样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438120" y="1552680"/>
            <a:ext cx="838188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隶书"/>
              </a:rPr>
              <a:t>外摩擦在压力加工中的作用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Garamond"/>
                <a:ea typeface="隶书"/>
              </a:rPr>
              <a:t>摩擦的不利方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改变物体应力状态，使变形力和能耗增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引起工件变形与应力分布不均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恶化工件表面质量，加速模具磨损，降低工具寿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Garamond"/>
                <a:ea typeface="隶书"/>
              </a:rPr>
              <a:t>摩擦的利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   </a:t>
            </a: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例如，用增大摩擦改善咬入条件，强化轧制过程；增大冲头与板片间的摩擦，强化工艺，减少起皱和撕裂等造成的废品。</a:t>
            </a: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§4.3 </a:t>
            </a: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塑性加工中摩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擦的分类及机理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925640"/>
            <a:ext cx="29574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Garamond"/>
                <a:ea typeface="隶书"/>
              </a:rPr>
              <a:t>外摩擦的分类</a:t>
            </a:r>
            <a:r>
              <a:rPr b="0" lang="zh-CN" sz="3200" spc="-1" strike="noStrike">
                <a:solidFill>
                  <a:srgbClr val="ffcc00"/>
                </a:solidFill>
                <a:latin typeface="Garamond"/>
                <a:ea typeface="隶书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9240" indent="-2192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干摩擦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9240" indent="-2192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流体摩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9240" indent="-2192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边界摩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36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   </a:t>
            </a:r>
            <a:r>
              <a:rPr b="0" lang="zh-CN" sz="3200" spc="-1" strike="noStrike">
                <a:solidFill>
                  <a:srgbClr val="ccecff"/>
                </a:solidFill>
                <a:latin typeface="Garamond"/>
                <a:ea typeface="隶书"/>
              </a:rPr>
              <a:t>摩擦机理</a:t>
            </a: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分子吸附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Garamond"/>
                <a:ea typeface="隶书"/>
              </a:rPr>
              <a:t>表面凸凹学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40796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Garamond"/>
                <a:ea typeface="隶书"/>
              </a:rPr>
              <a:t>塑性加工时接触表面摩擦力的计算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在计算金属塑性加工时的摩擦力时，分下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隶书"/>
                <a:ea typeface="隶书"/>
              </a:rPr>
              <a:t>三种情况考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．库仑摩擦条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这时不考虑接触面上的粘合现象（即</a:t>
            </a: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全滑动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），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为摩擦符合库仑定律。其内容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）摩擦力与作用于摩擦表面的垂直压力成正比例，      与摩擦表面的大小无关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）摩擦力与滑动速度的大小无关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）静摩擦系数大于动摩擦系数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7632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其数学表达式为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式中  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F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摩擦力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——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外摩擦系数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N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垂直于接触面正压力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——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接触面上的正应力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——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接触面上的摩擦切应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由于摩擦系数为常数（由实验确定），故又称常摩擦系数定律。对于像拉拔及其他润滑效果较好的加工过程，此定律较适用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1700280"/>
          <a:ext cx="934920" cy="33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934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360" y="1700280"/>
          <a:ext cx="10033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1700280"/>
                    <a:ext cx="10033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68360" y="2565360"/>
          <a:ext cx="27000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2565360"/>
                    <a:ext cx="27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95640" y="3429000"/>
          <a:ext cx="3603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342900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95640" y="3933720"/>
          <a:ext cx="311040" cy="3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3933720"/>
                    <a:ext cx="311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．最大摩擦条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当接触表面没有相对滑动，完全处于粘合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态时，单位摩擦力（  ）等于变形金属流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时的临界切应力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，即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= 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k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．摩擦力不变条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认为接触面间的摩擦力，不随正压力大小而变。其单位摩擦力是常数，即常摩擦力定律，其表达式为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          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=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m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·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k 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式中，</a:t>
            </a:r>
            <a:r>
              <a:rPr b="0" i="1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m</a:t>
            </a:r>
            <a:r>
              <a:rPr b="0" lang="zh-CN" sz="2800" spc="-1" strike="noStrike">
                <a:solidFill>
                  <a:srgbClr val="e5e5ff"/>
                </a:solidFill>
                <a:latin typeface="隶书"/>
                <a:ea typeface="隶书"/>
              </a:rPr>
              <a:t>为摩擦因子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340000" y="3284640"/>
          <a:ext cx="37476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2846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43280" y="2492280"/>
          <a:ext cx="2890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492280"/>
                    <a:ext cx="289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411280" y="5300640"/>
          <a:ext cx="312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§4.4 </a:t>
            </a:r>
            <a:r>
              <a:rPr b="1" lang="zh-CN" sz="4000" spc="-1" strike="noStrike">
                <a:solidFill>
                  <a:srgbClr val="e5e5ff"/>
                </a:solidFill>
                <a:latin typeface="隶书"/>
                <a:ea typeface="隶书"/>
              </a:rPr>
              <a:t>摩擦系数及其影响因素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隶书"/>
              </a:rPr>
              <a:t>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摩擦系数随金属性质、工艺条件、表面状态、单位压力及所采用润滑剂的种类与性能等而不同。其主要影响因素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1 .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金属的种类和化学成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2.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工具材料及其表面状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3.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接触面上的单位压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4 .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变形温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5.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变形速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6 .</a:t>
            </a:r>
            <a:r>
              <a:rPr b="0" lang="zh-CN" sz="2800" spc="-1" strike="noStrike">
                <a:solidFill>
                  <a:srgbClr val="e5e5ff"/>
                </a:solidFill>
                <a:latin typeface="Garamond"/>
                <a:ea typeface="隶书"/>
              </a:rPr>
              <a:t>润滑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120680"/>
            <a:ext cx="8381880" cy="76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金属塑性 加工 摩擦 润滑</cp:keywords>
  <dc:language>en-US</dc:language>
  <cp:lastModifiedBy/>
  <cp:revision>0</cp:revision>
  <dc:subject/>
  <dc:title/>
</cp:coreProperties>
</file>