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E8A-B4B0-4AD4-B3B1-93DCC279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974-301F-4963-8094-5775144D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8FA-FD96-4E14-AD1A-E0C6982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615-189F-4D3E-9030-A1266D2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E63-750A-43D3-8A5F-666B96D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CAC-5219-43A3-BB53-15C0485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6BD-8C57-4416-B3E9-CD4EFF3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38A-3A47-4817-85B7-23C3135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C6C-0BC7-4CF8-AC28-8F03BF1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08E-BD99-4EFD-A82A-7A1F0D7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D8E-9A10-412F-AD96-E376386A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19F-8E7D-4DA6-849D-0832C88D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8686800" y="646596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601-5E27-4A07-8D64-054C71855096}" type="slidenum">
              <a:rPr b="0" lang="en-US" sz="1800" spc="-1" strike="noStrike">
                <a:solidFill>
                  <a:srgbClr val="200b5b"/>
                </a:solidFill>
                <a:latin typeface="宋体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F2E-8EA5-43BD-AB24-56CB3F9E78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193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华文行楷"/>
                <a:ea typeface="华文行楷"/>
              </a:rPr>
              <a:t>实验   矩阵、向量和线性方程组的运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178000"/>
            <a:ext cx="36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试验目的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97180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200b5b"/>
                </a:solidFill>
                <a:latin typeface="黑体"/>
                <a:ea typeface="黑体"/>
              </a:rPr>
              <a:t>掌握矩阵初等变换、求矩阵的秩、求向量组的最大无关组操作。熟悉非齐次方程组求通解的方法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五、线性方程组的通解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447920"/>
          <a:ext cx="5956200" cy="29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47920"/>
                    <a:ext cx="595620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447920" y="457200"/>
          <a:ext cx="568944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56894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47920" y="2286000"/>
          <a:ext cx="5460840" cy="17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286000"/>
                    <a:ext cx="54608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447920" y="4114800"/>
          <a:ext cx="6730920" cy="24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4114800"/>
                    <a:ext cx="673092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六、实验内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3716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下列矩阵化为行阶梯形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19520" y="2057400"/>
          <a:ext cx="281916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057400"/>
                    <a:ext cx="28191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4038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上矩阵的秩，并用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ref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化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两向量的模与夹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334120"/>
            <a:ext cx="6629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1=[1  -1  0  1 ]         a2=[2  0  1 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下列向量的最大无关组，并把其它向量用最大无关组表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81080" y="1676520"/>
          <a:ext cx="582948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5829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447920" y="2971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下列方程组的通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33720" y="3657600"/>
          <a:ext cx="4533840" cy="181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657600"/>
                    <a:ext cx="45338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457200"/>
            <a:ext cx="2362320" cy="6426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预备知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实现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初等行变换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889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1)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交换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与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[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]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A([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]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2767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2)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乘以数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k*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6483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3)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的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倍加到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上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+k*A(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838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秩命令：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ank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523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化为最简行阶梯形矩阵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ref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743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两个向量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内积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dot(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9164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向量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长度命令：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norm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3800" y="4648320"/>
            <a:ext cx="271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计算结果表示成分数形式用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format  r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380880"/>
            <a:ext cx="678168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一、矩阵行变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1371600"/>
          <a:ext cx="6362640" cy="36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6264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二、矩阵的秩与最简行阶梯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84200" y="1397160"/>
          <a:ext cx="6489720" cy="35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4200" y="1397160"/>
                    <a:ext cx="64897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三、向量的内积与夹角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066680"/>
            <a:ext cx="73911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求两个行向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1=[1  -1  0  1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2=[2  0  1 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内积以及它们之间的夹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809880"/>
          <a:ext cx="571500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809880"/>
                    <a:ext cx="57150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52480" y="5181480"/>
          <a:ext cx="2146320" cy="96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5181480"/>
                    <a:ext cx="21463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四、向量的内积与夹角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给定向量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2133720"/>
          <a:ext cx="582912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33720"/>
                    <a:ext cx="5829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71600" y="3505320"/>
            <a:ext cx="7391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求该向量组的秩和一个最大无关组，并将其余向量用最大无关组线性表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47920" y="457200"/>
          <a:ext cx="36576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3657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447920" y="990720"/>
          <a:ext cx="6916680" cy="23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990720"/>
                    <a:ext cx="691668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47920" y="3809880"/>
          <a:ext cx="7038720" cy="239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09880"/>
                    <a:ext cx="703872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47920" y="457200"/>
          <a:ext cx="33652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3365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447920" y="1066680"/>
          <a:ext cx="7467480" cy="17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066680"/>
                    <a:ext cx="74674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447920" y="3035160"/>
          <a:ext cx="5473440" cy="23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035160"/>
                    <a:ext cx="54734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47920" y="5715000"/>
          <a:ext cx="604512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5715000"/>
                    <a:ext cx="6045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矩阵 向量 线性方程组</cp:keywords>
  <dc:language>en-US</dc:language>
  <cp:lastModifiedBy/>
  <cp:revision>0</cp:revision>
  <dc:subject/>
  <dc:title/>
</cp:coreProperties>
</file>