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glass.wav" ContentType="audio/x-wav"/>
  <Override PartName="/ppt/media/laser.wav" ContentType="audio/x-wav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1D4F-D5D8-4F7A-9DCE-49947845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94B0-89D3-4B6A-85C8-BE766B46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CF9F-DB26-4809-A000-C5A7F74B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D874-0EB4-4076-B2E0-F5D69FAD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7091C-6077-429C-B14D-1271B676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48535-1B1E-4329-996B-E46D219D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7BC03-E46E-4DE8-8E07-C6386681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39070-412A-449A-A96D-7E44DEC8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A26AF-DDC2-47DF-A94B-B72F7B92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45CB7-1D1E-44AE-9B8C-A9794F6A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90484-FEEF-4D38-BC2F-B0A6A0B2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414D-DEC7-4CC7-8826-5BF9B64C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4ABE3-BC52-47CA-A169-0EB54D34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D95E3-C60B-4419-9EED-9AB81DEE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374C8-738B-4341-8425-142D15E8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DE6C4-31EE-4991-ADA1-AC4B01D9D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DFCA9-9E7A-4DBE-BF15-F2C167DA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94DC-3663-4DF6-8E6A-A74DED05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3943-B586-4D7A-BD18-8C7E83E2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AA26-06C7-4977-9EED-78288C8F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1A8A-ED92-470D-A549-33EBD225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F994-6953-405D-8648-550CF65A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9743-7DEB-4301-AE29-AD0972A7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4F53-3846-46E3-9B7A-59BE248A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06F1-C4F8-448B-B4DC-182C14FD22DE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6A2F-37B4-4688-84A5-1502F2FFD29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971800" y="1654200"/>
            <a:ext cx="246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科学记数法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320" y="27288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复习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5238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乘方运算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6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的意义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2286000"/>
            <a:ext cx="8915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计算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6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6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2254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70080" y="3114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10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70080" y="3908520"/>
            <a:ext cx="25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100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070080" y="4746600"/>
            <a:ext cx="2568600" cy="1260360"/>
            <a:chOff x="3070080" y="4746600"/>
            <a:chExt cx="2568600" cy="1260360"/>
          </a:xfrm>
        </p:grpSpPr>
        <p:sp>
          <p:nvSpPr>
            <p:cNvPr id="130" name=""/>
            <p:cNvSpPr/>
            <p:nvPr/>
          </p:nvSpPr>
          <p:spPr>
            <a:xfrm>
              <a:off x="3070080" y="4746600"/>
              <a:ext cx="256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…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122000">
              <a:off x="3825720" y="4990680"/>
              <a:ext cx="152280" cy="8380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73280" y="548640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Arial"/>
                </a:rPr>
                <a:t>n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</a:rPr>
                <a:t>个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1214280"/>
            <a:ext cx="85341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看以下数据资料，对这些较大的数字，我们可以怎样来表示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北京故宫的占地面积约为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720000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米</a:t>
            </a:r>
            <a:r>
              <a:rPr b="0" lang="zh-CN" sz="3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一只苍蝇腹内细菌多达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28 000 000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个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光的速度为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300 000 000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米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秒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880" y="10666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把一个绝对值大于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的数表示成</a:t>
            </a:r>
            <a:r>
              <a:rPr b="0" lang="zh-CN" sz="3600" spc="-1" strike="noStrike">
                <a:solidFill>
                  <a:srgbClr val="ff237c"/>
                </a:solidFill>
                <a:latin typeface="Arial"/>
              </a:rPr>
              <a:t>a×10</a:t>
            </a:r>
            <a:r>
              <a:rPr b="0" lang="zh-CN" sz="3600" spc="-1" strike="noStrike" baseline="30000">
                <a:solidFill>
                  <a:srgbClr val="ff237c"/>
                </a:solidFill>
                <a:latin typeface="Arial"/>
              </a:rPr>
              <a:t>n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的形式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其中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是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整数位只有一位的数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是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整数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，使用的是科学记数法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65640" y="3854520"/>
            <a:ext cx="176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3440" y="3809880"/>
            <a:ext cx="3355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用科学记数法表示一个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位整数时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的指数是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____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48760" y="4572000"/>
            <a:ext cx="11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Arial"/>
              </a:rPr>
              <a:t>n</a:t>
            </a:r>
            <a:r>
              <a:rPr b="0" lang="zh-CN" sz="3600" spc="-1" strike="noStrike">
                <a:solidFill>
                  <a:srgbClr val="ff5050"/>
                </a:solidFill>
                <a:latin typeface="Arial"/>
              </a:rPr>
              <a:t>－</a:t>
            </a:r>
            <a:r>
              <a:rPr b="0" lang="en-US" sz="3600" spc="-1" strike="noStrike">
                <a:solidFill>
                  <a:srgbClr val="ff505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2286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例题讲解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320" y="927000"/>
            <a:ext cx="8915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、用科学记数法表示下列各数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   ①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中国森林面积约有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128 630 000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公顷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   ②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全世界人口数大约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6100 000 000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人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320" y="3581280"/>
            <a:ext cx="86104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求下列用科学记数法表示的数的原数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①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3.2×10</a:t>
            </a:r>
            <a:r>
              <a:rPr b="0" lang="zh-CN" sz="36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      ② 6×10</a:t>
            </a:r>
            <a:r>
              <a:rPr b="0" lang="zh-CN" sz="36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③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3.25×10</a:t>
            </a:r>
            <a:r>
              <a:rPr b="0" lang="zh-CN" sz="36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    ④ 1.234×10</a:t>
            </a:r>
            <a:r>
              <a:rPr b="0" lang="zh-CN" sz="3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286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试一试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12193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用科学记数法表示一个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位整数时，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的指数是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____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；用科学记数法表示一个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位整数时，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的指数是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____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1720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22860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6880" y="3886200"/>
            <a:ext cx="881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已知光的速度为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300 000 000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米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秒，太阳光到达地球的时间约为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秒。计算太阳与地球的距离大约多少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千米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2286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归纳总结</a:t>
            </a:r>
            <a:r>
              <a:rPr b="0" lang="zh-CN" sz="3600" spc="-1" strike="noStrike">
                <a:solidFill>
                  <a:srgbClr val="ff5050"/>
                </a:solidFill>
                <a:latin typeface="Arial"/>
                <a:ea typeface="楷体_GB2312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1430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科学记数法把绝对值大于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的数表示成</a:t>
            </a:r>
            <a:r>
              <a:rPr b="0" lang="zh-CN" sz="3600" spc="-1" strike="noStrike">
                <a:solidFill>
                  <a:srgbClr val="ff237c"/>
                </a:solidFill>
                <a:latin typeface="Arial"/>
              </a:rPr>
              <a:t>a×10</a:t>
            </a:r>
            <a:r>
              <a:rPr b="0" lang="zh-CN" sz="3600" spc="-1" strike="noStrike" baseline="30000">
                <a:solidFill>
                  <a:srgbClr val="ff237c"/>
                </a:solidFill>
                <a:latin typeface="Arial"/>
              </a:rPr>
              <a:t>n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的形式，</a:t>
            </a:r>
            <a:r>
              <a:rPr b="0" lang="zh-CN" sz="3600" spc="-1" strike="noStrike">
                <a:solidFill>
                  <a:srgbClr val="ff237c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一定是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整数位只有一位的数，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是整数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34290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用科学记数法表示一个数时，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的指数比整数位数少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44136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作业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2803680"/>
            <a:ext cx="73152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教材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P54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练习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1,2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P57    5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题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763640" y="1268280"/>
            <a:ext cx="48243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科学 记数法</cp:keywords>
  <dc:language>en-US</dc:language>
  <cp:lastModifiedBy/>
  <cp:revision>0</cp:revision>
  <dc:subject/>
  <dc:title/>
</cp:coreProperties>
</file>