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B6D-612B-4C31-872F-7D098B7B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A7C-F069-4C16-8D7A-204D00F6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39D-94FA-4D55-995E-5559F5AF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253-CB17-4353-991D-9FE6C94C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3AA-98CC-4BAE-AC07-A15E0CD2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D73-A248-450F-A67E-63EDF37E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90B-A147-42C2-904B-9C03360E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1E-1C2B-4A8A-A521-8167E33C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A9D-AECE-41BE-891B-DB5A1D2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36E-1B35-439C-BD74-BC68AFE7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C0A-0F25-4123-9157-CF83B80E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0FA-81F3-4667-B95F-CBD795D6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1746-FB72-4DC1-BFD7-FEBE7CB341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12D6-C4AE-4953-9C8A-3D15BB974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78,5,&#24187;&#28783;&#29255; 5" TargetMode="External"/><Relationship Id="rId4" Type="http://schemas.openxmlformats.org/officeDocument/2006/relationships/hyperlink" Target="278,5,&#24187;&#28783;&#29255; 5" TargetMode="External"/><Relationship Id="rId5" Type="http://schemas.openxmlformats.org/officeDocument/2006/relationships/hyperlink" Target="260,6,&#24187;&#28783;&#29255; 6" TargetMode="External"/><Relationship Id="rId6" Type="http://schemas.openxmlformats.org/officeDocument/2006/relationships/hyperlink" Target="256,7,&#24187;&#28783;&#29255; 7" TargetMode="External"/><Relationship Id="rId7" Type="http://schemas.openxmlformats.org/officeDocument/2006/relationships/hyperlink" Target="261,8,&#24187;&#28783;&#29255; 8" TargetMode="External"/><Relationship Id="rId8" Type="http://schemas.openxmlformats.org/officeDocument/2006/relationships/hyperlink" Target="283,9,&#24187;&#28783;&#29255; 9" TargetMode="External"/><Relationship Id="rId9" Type="http://schemas.openxmlformats.org/officeDocument/2006/relationships/hyperlink" Target="266,10,&#24187;&#28783;&#29255; 10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R8RMHTT8Q_205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《跨越百年的美丽》课件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200618131442844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0000" y="9045720"/>
            <a:ext cx="9217080" cy="1374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324000" y="638172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20061813144284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7520"/>
            <a:ext cx="9037800" cy="6696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她从一个漂亮的小姑娘，一个端庄坚毅的女学者，变成科学教科书里的新名词“放射线”，变成物理学的一个新的计量单位“居里”，变成一条条科学定律，她变成了科学史上一块永远的里程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29"/>
          <p:cNvSpPr/>
          <p:nvPr/>
        </p:nvSpPr>
        <p:spPr>
          <a:xfrm>
            <a:off x="755640" y="6237360"/>
            <a:ext cx="576360" cy="216000"/>
          </a:xfrm>
          <a:custGeom>
            <a:avLst/>
            <a:gdLst>
              <a:gd name="textAreaLeft" fmla="*/ 13320 w 576360"/>
              <a:gd name="textAreaRight" fmla="*/ 563040 w 576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226" y="1350"/>
                </a:lnTo>
                <a:lnTo>
                  <a:pt x="1350" y="135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226" y="20250"/>
                </a:lnTo>
                <a:lnTo>
                  <a:pt x="56226" y="135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226" y="2025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7576" h="21600">
                <a:moveTo>
                  <a:pt x="25271" y="10800"/>
                </a:moveTo>
                <a:lnTo>
                  <a:pt x="35832" y="3756"/>
                </a:lnTo>
                <a:lnTo>
                  <a:pt x="35832" y="17844"/>
                </a:lnTo>
                <a:close/>
              </a:path>
              <a:path fill="darken" w="57576" h="21600">
                <a:moveTo>
                  <a:pt x="21744" y="3756"/>
                </a:moveTo>
                <a:lnTo>
                  <a:pt x="23416" y="3756"/>
                </a:lnTo>
                <a:lnTo>
                  <a:pt x="23416" y="17844"/>
                </a:lnTo>
                <a:lnTo>
                  <a:pt x="2174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20061813144284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752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4358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根据这句话的意思完成这道练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们说她变成科学教科书里的新名词“放射线”，是因为她开创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放射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）这门新学科；人们说她变成物理学的一个新的计量单位“居里”，是因为她提炼了（     ）；说她变成一条条科学定律，是因为她不断在（                   ）；说她变成了科学史上一块永远的里程碑，是因为她终身（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992920" y="6386400"/>
            <a:ext cx="12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6012000" y="3303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208320" y="4508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科学上探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708360" y="57405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献身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ER8RMHTT8Q_205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91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刘翔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他实现了一次伟大的跨越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来的记录成了身后的历史，十重栏杆不再是东方人的障碍，因为中国有刘翔，亚洲有刘翔！这个风一样的年轻人，他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不断超越，永不言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代表着一个正在加速的民族。他身披国旗，一跃站在世界面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ER8RMHTT8Q_205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致居里夫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便是青春和容颜不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便是奖章和头衔不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切都不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们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烙印下了 您 坚定执着的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这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镌刻下了 您 献身科学的精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这也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记录下了 您 淡泊名利的风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这更是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跨越百年的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ER8RMHTT8Q_205_1024_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延伸美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任选两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这份美丽真诚传递给别人，将居里夫人的故事复述给自己的亲人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这份美丽深深埋藏心底，请你阅读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的阅读链接，联系实际写出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续发现美丽，学习文章的写作方法写自己熟悉的一位科学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0070305013133_680191384"/>
          <p:cNvPicPr/>
          <p:nvPr/>
        </p:nvPicPr>
        <p:blipFill>
          <a:blip r:embed="rId1"/>
          <a:stretch/>
        </p:blipFill>
        <p:spPr>
          <a:xfrm>
            <a:off x="0" y="44280"/>
            <a:ext cx="9147240" cy="6813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289080" y="312840"/>
            <a:ext cx="1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572680" y="638820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5364000" y="522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MasterPiecel686026"/>
          <p:cNvPicPr/>
          <p:nvPr/>
        </p:nvPicPr>
        <p:blipFill>
          <a:blip r:embed="rId1"/>
          <a:stretch/>
        </p:blipFill>
        <p:spPr>
          <a:xfrm>
            <a:off x="0" y="0"/>
            <a:ext cx="9396360" cy="6815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居里夫人的名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奇心是学者的第一美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必须有恒心，尤其要有自信力！我们必须相信我们的天赋是要用来作某种事情的，无论代价多么大，这种事情必须作到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●科学的探讨与研究，其本身就含有至美，其本身给人的愉快就是报酬；所以我在我的工作里面寻得了快乐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●我的最高原则是：不论任何困难，都决不屈服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805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265-1329-4420-ACF9-2EEC41DE1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MasterPiecel686026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0042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大家默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找出描写居里夫人精神美的句子，用自己熟悉的学习方法理解这些句子，并在旁边批注出来。再与同伴说说你读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29"/>
          <p:cNvSpPr/>
          <p:nvPr/>
        </p:nvSpPr>
        <p:spPr>
          <a:xfrm>
            <a:off x="250920" y="6157800"/>
            <a:ext cx="1008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提炼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0"/>
          <p:cNvSpPr/>
          <p:nvPr/>
        </p:nvSpPr>
        <p:spPr>
          <a:xfrm>
            <a:off x="1258920" y="6165720"/>
            <a:ext cx="136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年九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31"/>
          <p:cNvSpPr/>
          <p:nvPr/>
        </p:nvSpPr>
        <p:spPr>
          <a:xfrm>
            <a:off x="2627280" y="6165720"/>
            <a:ext cx="122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可贵性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32"/>
          <p:cNvSpPr/>
          <p:nvPr/>
        </p:nvSpPr>
        <p:spPr>
          <a:xfrm>
            <a:off x="3706920" y="6157800"/>
            <a:ext cx="144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听完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33"/>
          <p:cNvSpPr/>
          <p:nvPr/>
        </p:nvSpPr>
        <p:spPr>
          <a:xfrm>
            <a:off x="4932360" y="6157800"/>
            <a:ext cx="151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卓有成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34"/>
          <p:cNvSpPr/>
          <p:nvPr/>
        </p:nvSpPr>
        <p:spPr>
          <a:xfrm>
            <a:off x="6227640" y="6157800"/>
            <a:ext cx="122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外貌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35"/>
          <p:cNvSpPr/>
          <p:nvPr/>
        </p:nvSpPr>
        <p:spPr>
          <a:xfrm>
            <a:off x="7524720" y="6157800"/>
            <a:ext cx="144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四个变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MasterPiecel686026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提炼纯净的镭，居里夫人搞到一吨可能含镭的工业废渣。他们在院子里支起了一口大锅，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一锅一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进行冶炼，然后再送到化验室溶解、沉淀、分析。化验室只是一个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废弃的破棚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玛丽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终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烟熏火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搅拌着锅里的矿渣。她衣裙上，双手上，留下了酸碱的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点点烧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755640" y="6165720"/>
            <a:ext cx="503280" cy="287640"/>
          </a:xfrm>
          <a:custGeom>
            <a:avLst/>
            <a:gdLst>
              <a:gd name="textAreaLeft" fmla="*/ 18000 w 503280"/>
              <a:gd name="textAreaRight" fmla="*/ 485640 w 50328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423" y="1350"/>
                </a:lnTo>
                <a:lnTo>
                  <a:pt x="1350" y="135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423" y="20250"/>
                </a:lnTo>
                <a:lnTo>
                  <a:pt x="36423" y="135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3" y="2025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3" h="21600">
                <a:moveTo>
                  <a:pt x="15369" y="10800"/>
                </a:moveTo>
                <a:lnTo>
                  <a:pt x="25930" y="3756"/>
                </a:lnTo>
                <a:lnTo>
                  <a:pt x="25930" y="17844"/>
                </a:lnTo>
                <a:close/>
              </a:path>
              <a:path fill="darken" w="37773" h="21600">
                <a:moveTo>
                  <a:pt x="11843" y="3756"/>
                </a:moveTo>
                <a:lnTo>
                  <a:pt x="13514" y="3756"/>
                </a:lnTo>
                <a:lnTo>
                  <a:pt x="13514" y="17844"/>
                </a:lnTo>
                <a:lnTo>
                  <a:pt x="11843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MasterPiecel686026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0042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过了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又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，他们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终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成吨的矿渣中提炼出了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0.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克的镭。他真的有极美丽的颜色，在幽暗的破木棚里发出略带蓝色的荧光。这点美丽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淡蓝色的荧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融入一个女子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美丽的生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不屈的信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826920" y="6165720"/>
            <a:ext cx="505080" cy="287640"/>
          </a:xfrm>
          <a:custGeom>
            <a:avLst/>
            <a:gdLst>
              <a:gd name="textAreaLeft" fmla="*/ 18000 w 505080"/>
              <a:gd name="textAreaRight" fmla="*/ 487440 w 50508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7908" h="21600">
                <a:moveTo>
                  <a:pt x="0" y="0"/>
                </a:moveTo>
                <a:lnTo>
                  <a:pt x="37908" y="0"/>
                </a:lnTo>
                <a:lnTo>
                  <a:pt x="37908" y="21600"/>
                </a:lnTo>
                <a:lnTo>
                  <a:pt x="0" y="21600"/>
                </a:lnTo>
                <a:close/>
              </a:path>
              <a:path fill="lightenLess" w="37908" h="21600">
                <a:moveTo>
                  <a:pt x="0" y="0"/>
                </a:moveTo>
                <a:lnTo>
                  <a:pt x="37908" y="0"/>
                </a:lnTo>
                <a:lnTo>
                  <a:pt x="36558" y="1350"/>
                </a:lnTo>
                <a:lnTo>
                  <a:pt x="1350" y="1350"/>
                </a:lnTo>
                <a:close/>
              </a:path>
              <a:path fill="darken" w="37908" h="21600">
                <a:moveTo>
                  <a:pt x="37908" y="0"/>
                </a:moveTo>
                <a:lnTo>
                  <a:pt x="37908" y="21600"/>
                </a:lnTo>
                <a:lnTo>
                  <a:pt x="36558" y="20250"/>
                </a:lnTo>
                <a:lnTo>
                  <a:pt x="36558" y="1350"/>
                </a:lnTo>
                <a:close/>
              </a:path>
              <a:path fill="darkenLess" w="37908" h="21600">
                <a:moveTo>
                  <a:pt x="379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558" y="20250"/>
                </a:lnTo>
                <a:close/>
              </a:path>
              <a:path fill="lighten" w="379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908" h="21600">
                <a:moveTo>
                  <a:pt x="15437" y="10800"/>
                </a:moveTo>
                <a:lnTo>
                  <a:pt x="25998" y="3756"/>
                </a:lnTo>
                <a:lnTo>
                  <a:pt x="25998" y="17844"/>
                </a:lnTo>
                <a:close/>
              </a:path>
              <a:path fill="darken" w="37908" h="21600">
                <a:moveTo>
                  <a:pt x="11910" y="3756"/>
                </a:moveTo>
                <a:lnTo>
                  <a:pt x="13582" y="3756"/>
                </a:lnTo>
                <a:lnTo>
                  <a:pt x="13582" y="17844"/>
                </a:lnTo>
                <a:lnTo>
                  <a:pt x="1191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MasterPiecel686026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玛丽的性格里天生有一种更可贵的东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她坚定、刚毅、顽强，有远大、执著的追求。这种可贵的性格与高远的追求，使玛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居里几乎在完成这项伟大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自然发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同时，也完成了对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人生意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发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900000" y="6093000"/>
            <a:ext cx="576360" cy="215640"/>
          </a:xfrm>
          <a:custGeom>
            <a:avLst/>
            <a:gdLst>
              <a:gd name="textAreaLeft" fmla="*/ 13320 w 576360"/>
              <a:gd name="textAreaRight" fmla="*/ 563040 w 576360"/>
              <a:gd name="textAreaTop" fmla="*/ 13320 h 215640"/>
              <a:gd name="textAreaBottom" fmla="*/ 20232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322" y="1350"/>
                </a:lnTo>
                <a:lnTo>
                  <a:pt x="1350" y="135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322" y="20250"/>
                </a:lnTo>
                <a:lnTo>
                  <a:pt x="56322" y="135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322" y="2025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57672" h="21600">
                <a:moveTo>
                  <a:pt x="25319" y="10800"/>
                </a:moveTo>
                <a:lnTo>
                  <a:pt x="35880" y="3756"/>
                </a:lnTo>
                <a:lnTo>
                  <a:pt x="35880" y="17844"/>
                </a:lnTo>
                <a:close/>
              </a:path>
              <a:path fill="darken" w="57672" h="21600">
                <a:moveTo>
                  <a:pt x="21792" y="3756"/>
                </a:moveTo>
                <a:lnTo>
                  <a:pt x="23464" y="3756"/>
                </a:lnTo>
                <a:lnTo>
                  <a:pt x="23464" y="17844"/>
                </a:lnTo>
                <a:lnTo>
                  <a:pt x="217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20061813144284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4680"/>
            <a:ext cx="90378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工作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卓有成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同时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雷射线也在无声地侵蚀着她的肌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她美丽健康的容貌在悄悄地隐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逐渐变得眼花耳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浑身乏力。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皮埃尔不幸早逝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社会对女性的歧视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更加重了她生活和思想上的负担。但她什么也不管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只是默默地工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826920" y="6237360"/>
            <a:ext cx="576360" cy="287280"/>
          </a:xfrm>
          <a:custGeom>
            <a:avLst/>
            <a:gdLst>
              <a:gd name="textAreaLeft" fmla="*/ 17640 w 576360"/>
              <a:gd name="textAreaRight" fmla="*/ 558720 w 57636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58" y="1350"/>
                </a:lnTo>
                <a:lnTo>
                  <a:pt x="1350" y="135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58" y="20250"/>
                </a:lnTo>
                <a:lnTo>
                  <a:pt x="41958" y="135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958" y="2025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308" h="21600">
                <a:moveTo>
                  <a:pt x="18137" y="10800"/>
                </a:moveTo>
                <a:lnTo>
                  <a:pt x="28698" y="3756"/>
                </a:lnTo>
                <a:lnTo>
                  <a:pt x="28698" y="17844"/>
                </a:lnTo>
                <a:close/>
              </a:path>
              <a:path fill="darken" w="43308" h="21600">
                <a:moveTo>
                  <a:pt x="14610" y="3756"/>
                </a:moveTo>
                <a:lnTo>
                  <a:pt x="16282" y="3756"/>
                </a:lnTo>
                <a:lnTo>
                  <a:pt x="16282" y="17844"/>
                </a:lnTo>
                <a:lnTo>
                  <a:pt x="1461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00618131442844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752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她美丽健康的容貌在悄悄地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隐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逐渐变得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眼花耳鸣，浑身乏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位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年轻、漂亮庄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又略显疲倦的夫人走上讲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场立即肃然无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玛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居里穿着一袭黑色长裙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白净端庄的脸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出坚定又略带淡薄的神情，那双微微内陷的大眼睛，让你觉得能看透一切，看透未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29"/>
          <p:cNvSpPr/>
          <p:nvPr/>
        </p:nvSpPr>
        <p:spPr>
          <a:xfrm>
            <a:off x="684360" y="6308640"/>
            <a:ext cx="647640" cy="289080"/>
          </a:xfrm>
          <a:custGeom>
            <a:avLst/>
            <a:gdLst>
              <a:gd name="textAreaLeft" fmla="*/ 18000 w 647640"/>
              <a:gd name="textAreaRight" fmla="*/ 629640 w 647640"/>
              <a:gd name="textAreaTop" fmla="*/ 18000 h 289080"/>
              <a:gd name="textAreaBottom" fmla="*/ 27108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7008" y="1350"/>
                </a:lnTo>
                <a:lnTo>
                  <a:pt x="1350" y="135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7008" y="20250"/>
                </a:lnTo>
                <a:lnTo>
                  <a:pt x="47008" y="135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008" y="2025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8358" h="21600">
                <a:moveTo>
                  <a:pt x="20662" y="10800"/>
                </a:moveTo>
                <a:lnTo>
                  <a:pt x="31223" y="3756"/>
                </a:lnTo>
                <a:lnTo>
                  <a:pt x="31223" y="17844"/>
                </a:lnTo>
                <a:close/>
              </a:path>
              <a:path fill="darken" w="48358" h="21600">
                <a:moveTo>
                  <a:pt x="17135" y="3756"/>
                </a:moveTo>
                <a:lnTo>
                  <a:pt x="18807" y="3756"/>
                </a:lnTo>
                <a:lnTo>
                  <a:pt x="18807" y="17844"/>
                </a:lnTo>
                <a:lnTo>
                  <a:pt x="1713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1:23:20Z</dcterms:created>
  <dc:creator/>
  <dc:description/>
  <cp:keywords>幻灯片之家 http:/www.eeppt.com</cp:keywords>
  <dc:language>en-US</dc:language>
  <cp:lastModifiedBy/>
  <dcterms:modified xsi:type="dcterms:W3CDTF">2015-07-20T01:24:17Z</dcterms:modified>
  <cp:revision>1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