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A327-4527-4E6B-AD74-0B22B351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B1EE-A505-4E5C-B766-5BD884F5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1E58-E3C9-4F6B-8FFD-A2E2338FA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CB4B-66E9-4CF4-AB1E-A0FB57E68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F45B-80EA-4F2A-B72F-CF0CE5EA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B9E8-A7E3-4CA6-AA30-EC738E42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36E4-CD14-4D05-81D7-DD4A5936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1265-492D-4705-8F0C-2EF3B046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82F9-0FF0-4840-BB10-4B344F51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5DBE-A82D-4DC3-9EDE-D241B53B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0BDA-E78C-4622-B384-651C8EA2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DCCC-404A-41F7-A283-00787579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9432-CBB5-4B61-BCB1-9107BC570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0" y="0"/>
            <a:ext cx="9144000" cy="3068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0" y="1415880"/>
            <a:ext cx="9144000" cy="5442120"/>
          </a:xfrm>
          <a:prstGeom prst="rect">
            <a:avLst/>
          </a:prstGeom>
          <a:gradFill rotWithShape="0">
            <a:gsLst>
              <a:gs pos="0">
                <a:srgbClr val="1e3064"/>
              </a:gs>
              <a:gs pos="100000">
                <a:srgbClr val="7697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6327720" y="1415880"/>
            <a:ext cx="2816280" cy="5442120"/>
          </a:xfrm>
          <a:prstGeom prst="rect">
            <a:avLst/>
          </a:prstGeom>
          <a:gradFill rotWithShape="0">
            <a:gsLst>
              <a:gs pos="0">
                <a:srgbClr val="171f35"/>
              </a:gs>
              <a:gs pos="100000">
                <a:srgbClr val="344b6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0" y="1415880"/>
            <a:ext cx="9144000" cy="5442120"/>
          </a:xfrm>
          <a:prstGeom prst="rect">
            <a:avLst/>
          </a:prstGeom>
          <a:gradFill rotWithShape="0">
            <a:gsLst>
              <a:gs pos="0">
                <a:srgbClr val="434343">
                  <a:alpha val="78039"/>
                </a:srgbClr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0" y="1403280"/>
            <a:ext cx="9144000" cy="5454720"/>
          </a:xfrm>
          <a:prstGeom prst="rect">
            <a:avLst/>
          </a:prstGeom>
          <a:solidFill>
            <a:srgbClr val="3b3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0" y="1403280"/>
            <a:ext cx="9144000" cy="545472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-6480" y="6372360"/>
            <a:ext cx="9144000" cy="52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-6480" y="1289160"/>
            <a:ext cx="9144000" cy="992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-6480" y="6372360"/>
            <a:ext cx="9144000" cy="522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-6480" y="1289160"/>
            <a:ext cx="9144000" cy="992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0" y="1415880"/>
            <a:ext cx="9144000" cy="5442120"/>
          </a:xfrm>
          <a:prstGeom prst="rect">
            <a:avLst/>
          </a:prstGeom>
          <a:gradFill rotWithShape="0">
            <a:gsLst>
              <a:gs pos="0">
                <a:srgbClr val="1e3064"/>
              </a:gs>
              <a:gs pos="100000">
                <a:srgbClr val="7697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223"/>
          <p:cNvGrpSpPr/>
          <p:nvPr/>
        </p:nvGrpSpPr>
        <p:grpSpPr>
          <a:xfrm>
            <a:off x="847800" y="1927080"/>
            <a:ext cx="7734960" cy="4137840"/>
            <a:chOff x="847800" y="1927080"/>
            <a:chExt cx="7734960" cy="4137840"/>
          </a:xfrm>
        </p:grpSpPr>
        <p:grpSp>
          <p:nvGrpSpPr>
            <p:cNvPr id="311" name="Group 222"/>
            <p:cNvGrpSpPr/>
            <p:nvPr/>
          </p:nvGrpSpPr>
          <p:grpSpPr>
            <a:xfrm>
              <a:off x="847800" y="1927080"/>
              <a:ext cx="7734960" cy="4137840"/>
              <a:chOff x="847800" y="1927080"/>
              <a:chExt cx="7734960" cy="4137840"/>
            </a:xfrm>
          </p:grpSpPr>
          <p:sp>
            <p:nvSpPr>
              <p:cNvPr id="312" name="Freeform 218"/>
              <p:cNvSpPr/>
              <p:nvPr/>
            </p:nvSpPr>
            <p:spPr>
              <a:xfrm>
                <a:off x="853560" y="3783960"/>
                <a:ext cx="7729200" cy="1380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00000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3" name="Group 220"/>
              <p:cNvGrpSpPr/>
              <p:nvPr/>
            </p:nvGrpSpPr>
            <p:grpSpPr>
              <a:xfrm>
                <a:off x="847800" y="1927080"/>
                <a:ext cx="7262640" cy="3237120"/>
                <a:chOff x="847800" y="1927080"/>
                <a:chExt cx="7262640" cy="3237120"/>
              </a:xfrm>
            </p:grpSpPr>
            <p:sp>
              <p:nvSpPr>
                <p:cNvPr id="314" name="Freeform 7"/>
                <p:cNvSpPr/>
                <p:nvPr/>
              </p:nvSpPr>
              <p:spPr>
                <a:xfrm>
                  <a:off x="847800" y="1927080"/>
                  <a:ext cx="1771920" cy="3237120"/>
                </a:xfrm>
                <a:prstGeom prst="pie">
                  <a:avLst/>
                </a:prstGeom>
                <a:gradFill rotWithShape="0">
                  <a:gsLst>
                    <a:gs pos="0">
                      <a:srgbClr val="b3cde7"/>
                    </a:gs>
                    <a:gs pos="100000">
                      <a:srgbClr val="d6e4f2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Freeform 8"/>
                <p:cNvSpPr/>
                <p:nvPr/>
              </p:nvSpPr>
              <p:spPr>
                <a:xfrm>
                  <a:off x="6383880" y="1927080"/>
                  <a:ext cx="1726560" cy="3237120"/>
                </a:xfrm>
                <a:prstGeom prst="pie">
                  <a:avLst/>
                </a:prstGeom>
                <a:solidFill>
                  <a:srgbClr val="9520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Freeform 9"/>
                <p:cNvSpPr/>
                <p:nvPr/>
              </p:nvSpPr>
              <p:spPr>
                <a:xfrm>
                  <a:off x="5949360" y="1927080"/>
                  <a:ext cx="1672920" cy="3237120"/>
                </a:xfrm>
                <a:prstGeom prst="pie">
                  <a:avLst/>
                </a:prstGeom>
                <a:solidFill>
                  <a:srgbClr val="2852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Freeform 10"/>
                <p:cNvSpPr/>
                <p:nvPr/>
              </p:nvSpPr>
              <p:spPr>
                <a:xfrm>
                  <a:off x="5846040" y="2845440"/>
                  <a:ext cx="1339560" cy="1447920"/>
                </a:xfrm>
                <a:prstGeom prst="pie">
                  <a:avLst/>
                </a:pr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Freeform 11"/>
                <p:cNvSpPr/>
                <p:nvPr/>
              </p:nvSpPr>
              <p:spPr>
                <a:xfrm>
                  <a:off x="5058360" y="2845440"/>
                  <a:ext cx="1325520" cy="1447920"/>
                </a:xfrm>
                <a:prstGeom prst="pie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12"/>
                <p:cNvSpPr/>
                <p:nvPr/>
              </p:nvSpPr>
              <p:spPr>
                <a:xfrm>
                  <a:off x="4270680" y="2845440"/>
                  <a:ext cx="1325160" cy="1447920"/>
                </a:xfrm>
                <a:prstGeom prst="pi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13"/>
                <p:cNvSpPr/>
                <p:nvPr/>
              </p:nvSpPr>
              <p:spPr>
                <a:xfrm>
                  <a:off x="3435120" y="2845440"/>
                  <a:ext cx="1374840" cy="1447920"/>
                </a:xfrm>
                <a:prstGeom prst="pie">
                  <a:avLst/>
                </a:prstGeom>
                <a:solidFill>
                  <a:srgbClr val="bfc2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14"/>
                <p:cNvSpPr/>
                <p:nvPr/>
              </p:nvSpPr>
              <p:spPr>
                <a:xfrm>
                  <a:off x="2649240" y="2845440"/>
                  <a:ext cx="1325520" cy="1447920"/>
                </a:xfrm>
                <a:prstGeom prst="pie">
                  <a:avLst/>
                </a:prstGeom>
                <a:solidFill>
                  <a:srgbClr val="eeee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15"/>
                <p:cNvSpPr/>
                <p:nvPr/>
              </p:nvSpPr>
              <p:spPr>
                <a:xfrm>
                  <a:off x="1950840" y="4344840"/>
                  <a:ext cx="4593240" cy="819360"/>
                </a:xfrm>
                <a:prstGeom prst="pie">
                  <a:avLst/>
                </a:prstGeom>
                <a:gradFill rotWithShape="0">
                  <a:gsLst>
                    <a:gs pos="0">
                      <a:srgbClr val="28517a"/>
                    </a:gs>
                    <a:gs pos="100000">
                      <a:srgbClr val="b9d1e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Freeform 16"/>
                <p:cNvSpPr/>
                <p:nvPr/>
              </p:nvSpPr>
              <p:spPr>
                <a:xfrm>
                  <a:off x="1950840" y="1927080"/>
                  <a:ext cx="4635360" cy="870840"/>
                </a:xfrm>
                <a:prstGeom prst="pie">
                  <a:avLst/>
                </a:prstGeom>
                <a:gradFill rotWithShape="0">
                  <a:gsLst>
                    <a:gs pos="0">
                      <a:srgbClr val="28517a"/>
                    </a:gs>
                    <a:gs pos="100000">
                      <a:srgbClr val="b9d1e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17"/>
                <p:cNvSpPr/>
                <p:nvPr/>
              </p:nvSpPr>
              <p:spPr>
                <a:xfrm>
                  <a:off x="1383480" y="1927080"/>
                  <a:ext cx="1803240" cy="3237120"/>
                </a:xfrm>
                <a:prstGeom prst="pie">
                  <a:avLst/>
                </a:prstGeom>
                <a:solidFill>
                  <a:srgbClr val="b9d1e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Group 219"/>
              <p:cNvGrpSpPr/>
              <p:nvPr/>
            </p:nvGrpSpPr>
            <p:grpSpPr>
              <a:xfrm>
                <a:off x="847800" y="5218200"/>
                <a:ext cx="6643440" cy="846720"/>
                <a:chOff x="847800" y="5218200"/>
                <a:chExt cx="6643440" cy="846720"/>
              </a:xfrm>
            </p:grpSpPr>
            <p:sp>
              <p:nvSpPr>
                <p:cNvPr id="326" name="Freeform 19"/>
                <p:cNvSpPr/>
                <p:nvPr/>
              </p:nvSpPr>
              <p:spPr>
                <a:xfrm>
                  <a:off x="847800" y="5218200"/>
                  <a:ext cx="1154520" cy="846720"/>
                </a:xfrm>
                <a:prstGeom prst="pie">
                  <a:avLst/>
                </a:prstGeom>
                <a:gradFill rotWithShape="0">
                  <a:gsLst>
                    <a:gs pos="0">
                      <a:srgbClr val="d6e4f2">
                        <a:alpha val="40000"/>
                      </a:srgbClr>
                    </a:gs>
                    <a:gs pos="100000">
                      <a:srgbClr val="b3cde7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Freeform 20"/>
                <p:cNvSpPr/>
                <p:nvPr/>
              </p:nvSpPr>
              <p:spPr>
                <a:xfrm>
                  <a:off x="6383880" y="5218200"/>
                  <a:ext cx="1107360" cy="846720"/>
                </a:xfrm>
                <a:prstGeom prst="pie">
                  <a:avLst/>
                </a:prstGeom>
                <a:gradFill rotWithShape="0">
                  <a:gsLst>
                    <a:gs pos="0">
                      <a:srgbClr val="a6241a">
                        <a:alpha val="3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Freeform 21"/>
                <p:cNvSpPr/>
                <p:nvPr/>
              </p:nvSpPr>
              <p:spPr>
                <a:xfrm>
                  <a:off x="5949360" y="5218200"/>
                  <a:ext cx="1053720" cy="846720"/>
                </a:xfrm>
                <a:prstGeom prst="pie">
                  <a:avLst/>
                </a:prstGeom>
                <a:gradFill rotWithShape="0">
                  <a:gsLst>
                    <a:gs pos="0">
                      <a:srgbClr val="28527c">
                        <a:alpha val="3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22"/>
                <p:cNvSpPr/>
                <p:nvPr/>
              </p:nvSpPr>
              <p:spPr>
                <a:xfrm>
                  <a:off x="1950840" y="5218200"/>
                  <a:ext cx="4615560" cy="846720"/>
                </a:xfrm>
                <a:prstGeom prst="pie">
                  <a:avLst/>
                </a:prstGeom>
                <a:gradFill rotWithShape="0">
                  <a:gsLst>
                    <a:gs pos="0">
                      <a:srgbClr val="b9d1e9">
                        <a:alpha val="40000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Freeform 23"/>
                <p:cNvSpPr/>
                <p:nvPr/>
              </p:nvSpPr>
              <p:spPr>
                <a:xfrm>
                  <a:off x="1383480" y="5218200"/>
                  <a:ext cx="1184040" cy="846720"/>
                </a:xfrm>
                <a:prstGeom prst="pie">
                  <a:avLst/>
                </a:prstGeom>
                <a:gradFill rotWithShape="0">
                  <a:gsLst>
                    <a:gs pos="0">
                      <a:srgbClr val="b9d1e9">
                        <a:alpha val="40000"/>
                      </a:srgbClr>
                    </a:gs>
                    <a:gs pos="100000">
                      <a:srgbClr val="c8dbee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1" name="Group 221"/>
            <p:cNvGrpSpPr/>
            <p:nvPr/>
          </p:nvGrpSpPr>
          <p:grpSpPr>
            <a:xfrm>
              <a:off x="929160" y="2016000"/>
              <a:ext cx="7056720" cy="3052800"/>
              <a:chOff x="929160" y="2016000"/>
              <a:chExt cx="7056720" cy="3052800"/>
            </a:xfrm>
          </p:grpSpPr>
          <p:sp>
            <p:nvSpPr>
              <p:cNvPr id="332" name="Text Box 35"/>
              <p:cNvSpPr/>
              <p:nvPr/>
            </p:nvSpPr>
            <p:spPr>
              <a:xfrm rot="18540600">
                <a:off x="752400" y="3937680"/>
                <a:ext cx="19162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Add text in here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Add text in here too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 Box 168"/>
              <p:cNvSpPr/>
              <p:nvPr/>
            </p:nvSpPr>
            <p:spPr>
              <a:xfrm>
                <a:off x="2702160" y="4427280"/>
                <a:ext cx="3048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Arial"/>
                  </a:rPr>
                  <a:t>Add text in here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Arial"/>
                  </a:rPr>
                  <a:t>Add text here add text in here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Arial"/>
                  </a:rPr>
                  <a:t>Add text in here too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Text Box 191"/>
              <p:cNvSpPr/>
              <p:nvPr/>
            </p:nvSpPr>
            <p:spPr>
              <a:xfrm>
                <a:off x="2702160" y="2016000"/>
                <a:ext cx="3048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Arial"/>
                  </a:rPr>
                  <a:t>Add text in here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Arial"/>
                  </a:rPr>
                  <a:t>Add text here add text in here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Arial"/>
                  </a:rPr>
                  <a:t>Add text in here too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 Box 192"/>
              <p:cNvSpPr/>
              <p:nvPr/>
            </p:nvSpPr>
            <p:spPr>
              <a:xfrm rot="18540600">
                <a:off x="2835000" y="3780000"/>
                <a:ext cx="99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Add text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 Box 193"/>
              <p:cNvSpPr/>
              <p:nvPr/>
            </p:nvSpPr>
            <p:spPr>
              <a:xfrm rot="18540600">
                <a:off x="3607200" y="3780000"/>
                <a:ext cx="99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Add text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 Box 194"/>
              <p:cNvSpPr/>
              <p:nvPr/>
            </p:nvSpPr>
            <p:spPr>
              <a:xfrm rot="18540600">
                <a:off x="4418280" y="3780000"/>
                <a:ext cx="99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Add text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Text Box 195"/>
              <p:cNvSpPr/>
              <p:nvPr/>
            </p:nvSpPr>
            <p:spPr>
              <a:xfrm rot="18540600">
                <a:off x="5228640" y="3780000"/>
                <a:ext cx="99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Add text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Text Box 209"/>
              <p:cNvSpPr/>
              <p:nvPr/>
            </p:nvSpPr>
            <p:spPr>
              <a:xfrm rot="18540600">
                <a:off x="5991120" y="3780000"/>
                <a:ext cx="99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Arial"/>
                  </a:rPr>
                  <a:t>Add text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Text Box 210"/>
              <p:cNvSpPr/>
              <p:nvPr/>
            </p:nvSpPr>
            <p:spPr>
              <a:xfrm rot="18540600">
                <a:off x="2131560" y="3780000"/>
                <a:ext cx="99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Add text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211"/>
              <p:cNvSpPr/>
              <p:nvPr/>
            </p:nvSpPr>
            <p:spPr>
              <a:xfrm rot="18540600">
                <a:off x="6602760" y="3780000"/>
                <a:ext cx="99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Arial"/>
                  </a:rPr>
                  <a:t>Add text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Text Box 212"/>
              <p:cNvSpPr/>
              <p:nvPr/>
            </p:nvSpPr>
            <p:spPr>
              <a:xfrm rot="18540600">
                <a:off x="7063560" y="3780000"/>
                <a:ext cx="99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Arial"/>
                  </a:rPr>
                  <a:t>Add text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矩形 38"/>
          <p:cNvSpPr/>
          <p:nvPr/>
        </p:nvSpPr>
        <p:spPr>
          <a:xfrm>
            <a:off x="2141640" y="6359400"/>
            <a:ext cx="475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.glzy8.com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免费下载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08000" y="6308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698560" y="76500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流程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素材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6F7E-9C33-428E-848E-B5A0C20A94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02:40:17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1:41:36Z</dcterms:modified>
  <cp:revision>1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