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F668-FF66-4721-92C5-9907AD76F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FCBD-D4F7-4D69-9F0C-AEBBAB354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DFE9-01B0-4FA6-BC3E-2B5C0B0F1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A417-6179-496A-BDF5-167940513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B85C-E307-4116-861C-AB9DA9185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3B2F-653C-4126-86A7-64B6FB5E4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691D-2AE7-47F2-A8EA-7BE2E1017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C7A8-E137-4EAB-A1F9-3283E424F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CA3A-1A6D-4BFC-9731-3674337DC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7988-91D5-4BFC-A95B-95B54439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0B1D-84B5-41E0-9863-6D32B72E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C8EB-2755-4762-B472-144470EC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5F103-A0F0-4897-A958-8D03C6C245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旅行社的采购管理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3548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本章的教学目的与要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55640" y="2276640"/>
            <a:ext cx="74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通过本章的学习，了解旅行社旅游服务采购的内涵与任务；了解旅行社协作网络的建立与旅游服务采购的关系；掌握旅行社旅游服务采购的管理方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425448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本章的教学重点与难点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98560" y="508176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旅行社旅游服务采购的管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六章   旅行社的采购管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第一节   旅行社旅游服务的采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3070080"/>
            <a:ext cx="822960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第二节   旅行社协作网络与旅游服务的采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4008600"/>
            <a:ext cx="82296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第三节   旅行社旅游服务采购的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一节   旅行社旅游服务的采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71640" y="177156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一、旅行社旅游服务采购的内涵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71640" y="278748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二、旅行社旅游服务采购的任务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二节   旅行社协作网络与旅游服务的采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49400" y="1852560"/>
            <a:ext cx="72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一、与交通部门的合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74600" y="2422440"/>
            <a:ext cx="794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、与住宿部门的合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74600" y="2990880"/>
            <a:ext cx="812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三、与餐饮部门的合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74600" y="3554280"/>
            <a:ext cx="72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四、与参观游览部门的合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74600" y="4124160"/>
            <a:ext cx="794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五、与购物商店的合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7560" y="4718160"/>
            <a:ext cx="811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六、与娱乐部门的合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74600" y="5276880"/>
            <a:ext cx="812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七、与保险公司的合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74600" y="5865840"/>
            <a:ext cx="72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八、与相关旅行社的合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7680" y="274320"/>
            <a:ext cx="877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三节   旅行社旅游服务采购的管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49400" y="1852560"/>
            <a:ext cx="72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一、建立广泛的采购协作网络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74600" y="2473200"/>
            <a:ext cx="794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、正确处理保证供应与降低成本的关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074600" y="3105000"/>
            <a:ext cx="812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三、正确处理集中采购与分散采购的关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74600" y="3745080"/>
            <a:ext cx="72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四、正确处理预定与退定的关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74600" y="4390920"/>
            <a:ext cx="794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五、加强对采购合同的管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旅行社 采购 管理</cp:keywords>
  <dc:language>en-US</dc:language>
  <cp:lastModifiedBy/>
  <cp:revision>0</cp:revision>
  <dc:subject/>
  <dc:title/>
</cp:coreProperties>
</file>