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462-4A29-4EB7-9CE1-D6313886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DBD-AD70-4CB2-A0FA-6BC7AE4D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1DD-3F1F-42FA-85D1-0542F4ED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7E7-B79B-44EF-86A2-CF8E24A4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C3F-686A-4DAC-832E-891749EC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C49-C4FC-492C-8E35-6A10186C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AA2-E816-4EA6-B440-184347CA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AD4-3B38-4030-938D-DABDEF62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096-59B2-4C7C-AA2C-B8B7C949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815-83F0-4348-8E75-04884D8C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3F0-686E-494C-9667-972A728D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C0A-09CD-4063-A831-03501AC9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CAC3-3322-4D4A-983F-7B7469E8FB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旅行社的财务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7354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章的教学目的与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9461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本章的学习，了解旅行社资本金的构成；掌握旅行社六定资产与固定资产的管理；掌握旅行社成本费用的管理；掌握旅行社营业收入与利润的管理；了解旅行社的税金管理；掌握旅行社的结算管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1911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章的教学重点与难点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8560" y="4827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旅行社流动资产和固定资产的管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8560" y="53481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旅行社成本费用管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58816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旅行社营业收入与利润管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八章   旅行社的财务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6960" y="213372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一节   旅行社流动资产和固定资产的管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6960" y="307008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二节   旅行社成本费用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6960" y="40086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三节   旅行社营业收入与利润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9482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第四节   旅行社的结算管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 旅行社流动资产和固定资产的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20131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旅行社流动资产的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3029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旅行社固定资产的管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  旅行社成本费用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20131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旅行社的成本与费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029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旅行社成本费用的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  旅行社营业收入与利润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771560"/>
            <a:ext cx="75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旅行社营业收入的概念、构成和核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27874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旅行社应收帐款的管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37908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旅行社利润的管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    旅行社的结算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20131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旅行社的国际结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30290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旅行社的国内结算管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行社 财务管理</cp:keywords>
  <dc:language>en-US</dc:language>
  <cp:lastModifiedBy/>
  <cp:revision>0</cp:revision>
  <dc:subject/>
  <dc:title/>
</cp:coreProperties>
</file>