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044-A7D5-4A0D-A78F-5ADCC01E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F1D-0F48-419E-B858-FCB7B350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8BE-3D01-485E-A266-E1BB5530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8AE-49AA-4F2D-87D2-327F74A8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1D4-DB93-42D1-AB1D-1D04B5ED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1D7C-CB01-4B98-BEC5-4CF9F78B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D423-7145-4E9D-8CAB-FE81DA0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C521-11D4-40CE-8112-0C32D505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833A-A1EF-4656-87D4-7C8F9CF9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AE20-9FD6-4121-BBED-58175FE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A527-3D31-4A0B-9D57-F139A1F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391-52FA-44D9-B490-33016161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3B00-9E34-45E9-95EB-1249D47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81E-9C9D-42AF-8719-513BEFE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6DA9-295A-48E0-BEBA-863A008F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F7EB-0C5B-4E44-B850-D89DEC5B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A9E9-E2DD-4024-B6DE-9DE2AA22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2AD-23A3-4F8B-B97D-71645CA2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FA4-BF25-4579-9BBB-CB12D6D2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B07-751A-4DAC-AB44-AC02BE8A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6F4-3094-439D-856B-3788314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F2A-7FD9-4BBB-BC5A-9EC3427D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DA9-1C36-4795-BFAD-486B768E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744-A7FF-4830-8EF2-EAB55A60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E353-D961-4176-8C21-3E90C6AAAAE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63AC-EB0F-4C37-B082-23478256F7B0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章  旅游动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基本内容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旅游动机的功能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产生旅游动机的内部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●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产生旅游动机的外部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需要对象的层次性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马斯洛是根据需要产生和发展的心理规律来划分其层次的。早在马斯洛前，马克思对需要的对象，即生活资料作出生存资料、享受资料和发展资料的划分，是需要理论的重要基础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恩格尔系数”、“义务教育”、“美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·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四层次”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需要的单一性和复杂性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人的需要既有复杂性，也有单一性。持单一性需要的观点认为，人们在生活中总是寻求平衡、和谐、相同、可预见性和没有冲突，任何非单一性都会产生心理紧张，从而设法防止这种由于意外产生的威胁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持复杂性需要的观点认为需要产生的实质是人们追求新奇、出乎意料、变化和不可预见性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我们认为，单一性过多会使人产生厌倦，复杂性太多又会使人过分紧张，以至恐惧，理想的方式是选择两者的平衡。所以解决的办法是缺少哪一种就需要用哪一种来平衡（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图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ccecff"/>
                </a:solidFill>
                <a:latin typeface="宋体"/>
              </a:rPr>
              <a:t>—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心 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理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厌倦                                         恐慌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cccc"/>
                </a:solidFill>
                <a:latin typeface="Verdana"/>
              </a:rPr>
              <a:t>度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                                   最理想的紧张程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zh-CN" sz="2400" spc="-1" strike="noStrike">
                <a:solidFill>
                  <a:srgbClr val="ffffcc"/>
                </a:solidFill>
                <a:latin typeface="Verdana"/>
              </a:rPr>
              <a:t>单一性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0" i="1" lang="zh-CN" sz="2400" spc="-1" strike="noStrike">
                <a:solidFill>
                  <a:srgbClr val="ffffcc"/>
                </a:solidFill>
                <a:latin typeface="Verdana"/>
              </a:rPr>
              <a:t>复杂性 </a:t>
            </a:r>
            <a:r>
              <a:rPr b="0" i="1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5638680"/>
            <a:ext cx="3276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76520" y="5638680"/>
            <a:ext cx="35049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76520" y="1676520"/>
            <a:ext cx="0" cy="3962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352680"/>
            <a:ext cx="579096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800600" y="1447560"/>
            <a:ext cx="0" cy="4190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1752480"/>
            <a:ext cx="4876560" cy="1524240"/>
          </a:xfrm>
          <a:custGeom>
            <a:avLst/>
            <a:gdLst/>
            <a:ahLst/>
            <a:rect l="l" t="t" r="r" b="b"/>
            <a:pathLst>
              <a:path w="3072" h="960">
                <a:moveTo>
                  <a:pt x="0" y="0"/>
                </a:moveTo>
                <a:cubicBezTo>
                  <a:pt x="16" y="108"/>
                  <a:pt x="32" y="216"/>
                  <a:pt x="96" y="288"/>
                </a:cubicBezTo>
                <a:cubicBezTo>
                  <a:pt x="160" y="360"/>
                  <a:pt x="280" y="360"/>
                  <a:pt x="384" y="432"/>
                </a:cubicBezTo>
                <a:cubicBezTo>
                  <a:pt x="488" y="504"/>
                  <a:pt x="608" y="640"/>
                  <a:pt x="720" y="720"/>
                </a:cubicBezTo>
                <a:cubicBezTo>
                  <a:pt x="832" y="800"/>
                  <a:pt x="872" y="872"/>
                  <a:pt x="1056" y="912"/>
                </a:cubicBezTo>
                <a:cubicBezTo>
                  <a:pt x="1240" y="952"/>
                  <a:pt x="1640" y="960"/>
                  <a:pt x="1824" y="960"/>
                </a:cubicBezTo>
                <a:cubicBezTo>
                  <a:pt x="2008" y="960"/>
                  <a:pt x="2080" y="936"/>
                  <a:pt x="2160" y="912"/>
                </a:cubicBezTo>
                <a:cubicBezTo>
                  <a:pt x="2240" y="888"/>
                  <a:pt x="2256" y="848"/>
                  <a:pt x="2304" y="816"/>
                </a:cubicBezTo>
                <a:cubicBezTo>
                  <a:pt x="2352" y="784"/>
                  <a:pt x="2408" y="752"/>
                  <a:pt x="2448" y="720"/>
                </a:cubicBezTo>
                <a:cubicBezTo>
                  <a:pt x="2488" y="688"/>
                  <a:pt x="2504" y="656"/>
                  <a:pt x="2544" y="624"/>
                </a:cubicBezTo>
                <a:cubicBezTo>
                  <a:pt x="2584" y="592"/>
                  <a:pt x="2616" y="560"/>
                  <a:pt x="2688" y="528"/>
                </a:cubicBezTo>
                <a:cubicBezTo>
                  <a:pt x="2760" y="496"/>
                  <a:pt x="2912" y="472"/>
                  <a:pt x="2976" y="432"/>
                </a:cubicBezTo>
                <a:cubicBezTo>
                  <a:pt x="3040" y="392"/>
                  <a:pt x="3056" y="312"/>
                  <a:pt x="3072" y="288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宋体"/>
              </a:rPr>
              <a:t>三、需要在旅游动机中的具体表现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从现代人的日常生活中所缺少的方面分析，旅游者存在求补偿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扩展和更新自己的生活，从而得到新鲜感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寻求广义的人类之爱，从而得到亲切感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．通过旅游来提高自我评价，从而获得自豪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（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</a:rPr>
              <a:t>二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）（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</a:rPr>
              <a:t>三</a:t>
            </a:r>
            <a:r>
              <a:rPr b="0" lang="zh-CN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二）从现代人的日常生活中所多余的方面分析，旅游者存在求解脱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从单一性与复杂性需要方面分析，旅游者存在求平衡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宋体"/>
              </a:rPr>
              <a:t>四、现代旅游者需要的特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一）更注重精神需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二）更注重个性化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三）旅游休闲成为工作的延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3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产生旅游动机的外部条件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需要产生动机，动机产生行为，整个过程受到行为主体的人格因素和外在环境的影响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Y=F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）：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</a:rPr>
              <a:t>西方的定量分析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i="1" lang="zh-CN" sz="3200" spc="-1" strike="noStrike">
                <a:solidFill>
                  <a:srgbClr val="ffffcc"/>
                </a:solidFill>
                <a:latin typeface="Verdana"/>
              </a:rPr>
              <a:t>抹桌子”、“擦皮鞋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客观条件主要包括：经济条件、时间条件和社会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主观条件除需要外，还包括兴趣、好奇心、价值观和目标等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社会文化因素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文化对旅游消费行为的影响主要表现在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文化决定了旅游者的消费观念和行为标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文化造就和影响旅游者的习性和行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33cccc"/>
                </a:solidFill>
                <a:latin typeface="Verdana"/>
              </a:rPr>
              <a:t>P86-90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文化与旅游决策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思考题：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．调查一个家庭，研究其作旅游决策时的类型，并分析其决策原因。你若是旅游产品的推销人员，你应如何向该家庭宣传，促其作出购买决策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．试述文化的地域性与超地域性、时代性与超时代性对旅游决策的影响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３．列举一些类型的旅游动机，并举例分析说明不同类型旅游者的主导动机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。旅游者在作旅游决策时如何维持单一性与复杂性需要的平衡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。什么是旅游动机？举例说明常见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种旅游动机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第一次作业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旅游动机的功能和类型有哪些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你是怎样理解马斯洛需要观的主要贡献和意义的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  需要有何特点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．试分析需要在旅游动机中的具体表现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．简述产生旅游动机的社会条件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第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章  旅游动机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一、教学目的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人们为什么要旅游，是旅游心理学首先要解决的一个重要的基本问题。通过本章学习了解旅游动机的性质和类型，理解需要理论，了解产生旅游动机的外部条件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 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二、教学重点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动机的类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\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理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三、教学难点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理量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方正舒体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四、教学时数：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4  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Verdana"/>
                <a:ea typeface="楷体_GB2312"/>
              </a:rPr>
              <a:t>学时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1  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旅游动机的功能和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旅游动机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Verdana"/>
              </a:rPr>
              <a:t>动机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是指引起和维持个体的活动，并使活动朝向某一目标的心理过程或内部动力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动机的</a:t>
            </a:r>
            <a:r>
              <a:rPr b="1" lang="zh-CN" sz="3200" spc="-1" strike="noStrike">
                <a:solidFill>
                  <a:srgbClr val="33cccc"/>
                </a:solidFill>
                <a:latin typeface="Verdana"/>
              </a:rPr>
              <a:t>功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激活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指向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强化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动机与需要关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Verdana"/>
              </a:rPr>
              <a:t>动机与需要关系密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。动机是在需要的基础上产生的，但只有需要并一定能产生动机。动机的产生，一是要有需要的存在，且还要被强化到一定程度；二是要具有满足需要的对象。需要是产生动机的内在的根本原因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Verdana"/>
              </a:rPr>
              <a:t>动机按性质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，有生理动机和心理动机；按其在行为中的作用分，有主导动机和辅助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．旅游动机的分类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旅游动机由低到高排序可以区分为五个层次：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放松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剌激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关系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发展动机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---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实现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常见的旅游动机分类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健康、娱乐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好奇探索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审美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社会交往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宗教信仰的动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更多的是商务动机的旅游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）各类旅游者的主导动机分析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旅游度假者动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外国旅游者的主导动机是文化方面动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华侨、港澳台同胞的主导动机是交际方面的动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国内旅游者的长线旅游，主要是出自于文化方面的动机；短线旅游主要是出自于健康动机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商人、公务员等的旅游，主要出自于业务方面的动机。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2  </a:t>
            </a:r>
            <a:r>
              <a:rPr b="1" lang="zh-CN" sz="3600" spc="-1" strike="noStrike">
                <a:solidFill>
                  <a:srgbClr val="ccecff"/>
                </a:solidFill>
                <a:latin typeface="Arial"/>
              </a:rPr>
              <a:t>产生旅游动机的内部条件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一、需要的概念和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Verdana"/>
              </a:rPr>
              <a:t>需要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是一个人对生理和社会的要求的反映，或是个体缺乏某种东西时的一种主观状态。就需要的生理机制来看，需要是由于缺乏某种东西且达到一定程度，造成生理和心理平衡的破坏，为了恢复平衡就会产生需要来进行调节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需要具有指向性、选择性和周期性等</a:t>
            </a:r>
            <a:r>
              <a:rPr b="1" lang="zh-CN" sz="2800" spc="-1" strike="noStrike">
                <a:solidFill>
                  <a:srgbClr val="ffffcc"/>
                </a:solidFill>
                <a:latin typeface="Verdana"/>
              </a:rPr>
              <a:t>特点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，并有对象性、紧张性、驱动性、层次性、发展性等具体表现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宋体"/>
              </a:rPr>
              <a:t>二、主要的需要理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．马斯洛的需要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美国学者马斯洛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low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主要贡献在于；一是将需要划分为五个层次；二是指出了五个层次间的相互关系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将需要划分为生理需要、安全需要、社交需要、尊重需要和自我实现需要（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-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指出了五个层次从低到高的层次关系，和相互依赖与相互重叠的发展关系见图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3-2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图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3-2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  <a:ea typeface="方正舒体"/>
              </a:rPr>
              <a:t>  </a:t>
            </a:r>
            <a:r>
              <a:rPr b="0" i="1" lang="zh-CN" sz="3200" spc="-1" strike="noStrike">
                <a:solidFill>
                  <a:srgbClr val="ffffff"/>
                </a:solidFill>
                <a:latin typeface="Verdana"/>
                <a:ea typeface="方正舒体"/>
              </a:rPr>
              <a:t>生理    安全    社交    尊重    自我实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981080"/>
            <a:ext cx="0" cy="3581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5562720"/>
            <a:ext cx="7010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3073320"/>
            <a:ext cx="7023240" cy="1981440"/>
          </a:xfrm>
          <a:custGeom>
            <a:avLst/>
            <a:gdLst/>
            <a:ahLst/>
            <a:rect l="l" t="t" r="r" b="b"/>
            <a:pathLst>
              <a:path w="4424" h="1248">
                <a:moveTo>
                  <a:pt x="0" y="32"/>
                </a:moveTo>
                <a:cubicBezTo>
                  <a:pt x="88" y="16"/>
                  <a:pt x="176" y="0"/>
                  <a:pt x="336" y="32"/>
                </a:cubicBezTo>
                <a:cubicBezTo>
                  <a:pt x="496" y="64"/>
                  <a:pt x="736" y="160"/>
                  <a:pt x="960" y="224"/>
                </a:cubicBezTo>
                <a:cubicBezTo>
                  <a:pt x="1184" y="288"/>
                  <a:pt x="1384" y="312"/>
                  <a:pt x="1680" y="416"/>
                </a:cubicBezTo>
                <a:cubicBezTo>
                  <a:pt x="1976" y="520"/>
                  <a:pt x="2360" y="720"/>
                  <a:pt x="2736" y="848"/>
                </a:cubicBezTo>
                <a:cubicBezTo>
                  <a:pt x="3112" y="976"/>
                  <a:pt x="3664" y="1120"/>
                  <a:pt x="3936" y="1184"/>
                </a:cubicBezTo>
                <a:cubicBezTo>
                  <a:pt x="4208" y="1248"/>
                  <a:pt x="4312" y="1224"/>
                  <a:pt x="4368" y="1232"/>
                </a:cubicBezTo>
                <a:cubicBezTo>
                  <a:pt x="4424" y="1240"/>
                  <a:pt x="4288" y="1232"/>
                  <a:pt x="4272" y="1232"/>
                </a:cubicBezTo>
              </a:path>
            </a:pathLst>
          </a:custGeom>
          <a:solidFill>
            <a:srgbClr val="ffffcc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124080"/>
            <a:ext cx="7010640" cy="2438640"/>
          </a:xfrm>
          <a:custGeom>
            <a:avLst/>
            <a:gdLst/>
            <a:ahLst/>
            <a:rect l="l" t="t" r="r" b="b"/>
            <a:pathLst>
              <a:path w="4416" h="1536">
                <a:moveTo>
                  <a:pt x="0" y="1536"/>
                </a:moveTo>
                <a:cubicBezTo>
                  <a:pt x="180" y="1440"/>
                  <a:pt x="360" y="1344"/>
                  <a:pt x="528" y="1200"/>
                </a:cubicBezTo>
                <a:cubicBezTo>
                  <a:pt x="696" y="1056"/>
                  <a:pt x="888" y="856"/>
                  <a:pt x="1008" y="672"/>
                </a:cubicBezTo>
                <a:cubicBezTo>
                  <a:pt x="1128" y="488"/>
                  <a:pt x="1144" y="192"/>
                  <a:pt x="1248" y="96"/>
                </a:cubicBezTo>
                <a:cubicBezTo>
                  <a:pt x="1352" y="0"/>
                  <a:pt x="1440" y="64"/>
                  <a:pt x="1632" y="96"/>
                </a:cubicBezTo>
                <a:cubicBezTo>
                  <a:pt x="1824" y="128"/>
                  <a:pt x="2088" y="176"/>
                  <a:pt x="2400" y="288"/>
                </a:cubicBezTo>
                <a:cubicBezTo>
                  <a:pt x="2712" y="400"/>
                  <a:pt x="3168" y="640"/>
                  <a:pt x="3504" y="768"/>
                </a:cubicBezTo>
                <a:cubicBezTo>
                  <a:pt x="3840" y="896"/>
                  <a:pt x="4264" y="1016"/>
                  <a:pt x="4416" y="105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200400"/>
            <a:ext cx="5334120" cy="2362320"/>
          </a:xfrm>
          <a:custGeom>
            <a:avLst/>
            <a:gdLst/>
            <a:ahLst/>
            <a:rect l="l" t="t" r="r" b="b"/>
            <a:pathLst>
              <a:path w="3360" h="1488">
                <a:moveTo>
                  <a:pt x="0" y="1488"/>
                </a:moveTo>
                <a:cubicBezTo>
                  <a:pt x="88" y="1344"/>
                  <a:pt x="176" y="1200"/>
                  <a:pt x="240" y="1104"/>
                </a:cubicBezTo>
                <a:cubicBezTo>
                  <a:pt x="304" y="1008"/>
                  <a:pt x="304" y="992"/>
                  <a:pt x="384" y="912"/>
                </a:cubicBezTo>
                <a:cubicBezTo>
                  <a:pt x="464" y="832"/>
                  <a:pt x="616" y="720"/>
                  <a:pt x="720" y="624"/>
                </a:cubicBezTo>
                <a:cubicBezTo>
                  <a:pt x="824" y="528"/>
                  <a:pt x="928" y="432"/>
                  <a:pt x="1008" y="336"/>
                </a:cubicBezTo>
                <a:cubicBezTo>
                  <a:pt x="1088" y="240"/>
                  <a:pt x="1144" y="96"/>
                  <a:pt x="1200" y="48"/>
                </a:cubicBezTo>
                <a:cubicBezTo>
                  <a:pt x="1256" y="0"/>
                  <a:pt x="1288" y="48"/>
                  <a:pt x="1344" y="48"/>
                </a:cubicBezTo>
                <a:cubicBezTo>
                  <a:pt x="1400" y="48"/>
                  <a:pt x="1440" y="24"/>
                  <a:pt x="1536" y="48"/>
                </a:cubicBezTo>
                <a:cubicBezTo>
                  <a:pt x="1632" y="72"/>
                  <a:pt x="1744" y="128"/>
                  <a:pt x="1920" y="192"/>
                </a:cubicBezTo>
                <a:cubicBezTo>
                  <a:pt x="2096" y="256"/>
                  <a:pt x="2376" y="352"/>
                  <a:pt x="2592" y="432"/>
                </a:cubicBezTo>
                <a:cubicBezTo>
                  <a:pt x="2808" y="512"/>
                  <a:pt x="3088" y="624"/>
                  <a:pt x="3216" y="672"/>
                </a:cubicBezTo>
                <a:cubicBezTo>
                  <a:pt x="3344" y="720"/>
                  <a:pt x="3336" y="712"/>
                  <a:pt x="3360" y="720"/>
                </a:cubicBezTo>
              </a:path>
            </a:pathLst>
          </a:cu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352680"/>
            <a:ext cx="2057400" cy="2210040"/>
          </a:xfrm>
          <a:custGeom>
            <a:avLst/>
            <a:gdLst/>
            <a:ahLst/>
            <a:rect l="l" t="t" r="r" b="b"/>
            <a:pathLst>
              <a:path w="1296" h="1392">
                <a:moveTo>
                  <a:pt x="0" y="1392"/>
                </a:moveTo>
                <a:cubicBezTo>
                  <a:pt x="40" y="1332"/>
                  <a:pt x="80" y="1272"/>
                  <a:pt x="144" y="1200"/>
                </a:cubicBezTo>
                <a:cubicBezTo>
                  <a:pt x="208" y="1128"/>
                  <a:pt x="304" y="1048"/>
                  <a:pt x="384" y="960"/>
                </a:cubicBezTo>
                <a:cubicBezTo>
                  <a:pt x="464" y="872"/>
                  <a:pt x="536" y="784"/>
                  <a:pt x="624" y="672"/>
                </a:cubicBezTo>
                <a:cubicBezTo>
                  <a:pt x="712" y="560"/>
                  <a:pt x="840" y="368"/>
                  <a:pt x="912" y="288"/>
                </a:cubicBezTo>
                <a:cubicBezTo>
                  <a:pt x="984" y="208"/>
                  <a:pt x="992" y="240"/>
                  <a:pt x="1056" y="192"/>
                </a:cubicBezTo>
                <a:cubicBezTo>
                  <a:pt x="1120" y="144"/>
                  <a:pt x="1256" y="32"/>
                  <a:pt x="1296" y="0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3263760"/>
            <a:ext cx="2209680" cy="546120"/>
          </a:xfrm>
          <a:custGeom>
            <a:avLst/>
            <a:gdLst/>
            <a:ahLst/>
            <a:rect l="l" t="t" r="r" b="b"/>
            <a:pathLst>
              <a:path w="1392" h="344">
                <a:moveTo>
                  <a:pt x="0" y="56"/>
                </a:moveTo>
                <a:cubicBezTo>
                  <a:pt x="40" y="32"/>
                  <a:pt x="80" y="8"/>
                  <a:pt x="144" y="8"/>
                </a:cubicBezTo>
                <a:cubicBezTo>
                  <a:pt x="208" y="8"/>
                  <a:pt x="176" y="0"/>
                  <a:pt x="384" y="56"/>
                </a:cubicBezTo>
                <a:cubicBezTo>
                  <a:pt x="592" y="112"/>
                  <a:pt x="1224" y="296"/>
                  <a:pt x="1392" y="344"/>
                </a:cubicBez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327480"/>
            <a:ext cx="3124440" cy="2158920"/>
          </a:xfrm>
          <a:custGeom>
            <a:avLst/>
            <a:gdLst/>
            <a:ahLst/>
            <a:rect l="l" t="t" r="r" b="b"/>
            <a:pathLst>
              <a:path w="1968" h="1360">
                <a:moveTo>
                  <a:pt x="0" y="1360"/>
                </a:moveTo>
                <a:cubicBezTo>
                  <a:pt x="56" y="1224"/>
                  <a:pt x="112" y="1088"/>
                  <a:pt x="192" y="976"/>
                </a:cubicBezTo>
                <a:cubicBezTo>
                  <a:pt x="272" y="864"/>
                  <a:pt x="384" y="776"/>
                  <a:pt x="480" y="688"/>
                </a:cubicBezTo>
                <a:cubicBezTo>
                  <a:pt x="576" y="600"/>
                  <a:pt x="704" y="504"/>
                  <a:pt x="768" y="448"/>
                </a:cubicBezTo>
                <a:cubicBezTo>
                  <a:pt x="832" y="392"/>
                  <a:pt x="784" y="408"/>
                  <a:pt x="864" y="352"/>
                </a:cubicBezTo>
                <a:cubicBezTo>
                  <a:pt x="944" y="296"/>
                  <a:pt x="1128" y="168"/>
                  <a:pt x="1248" y="112"/>
                </a:cubicBezTo>
                <a:cubicBezTo>
                  <a:pt x="1368" y="56"/>
                  <a:pt x="1464" y="32"/>
                  <a:pt x="1584" y="16"/>
                </a:cubicBezTo>
                <a:cubicBezTo>
                  <a:pt x="1704" y="0"/>
                  <a:pt x="1904" y="16"/>
                  <a:pt x="1968" y="16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666880"/>
            <a:ext cx="0" cy="381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27432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66688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2666880"/>
            <a:ext cx="0" cy="609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29600" y="2666880"/>
            <a:ext cx="0" cy="533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 动机</cp:keywords>
  <dc:language>en-US</dc:language>
  <cp:lastModifiedBy/>
  <cp:revision>0</cp:revision>
  <dc:subject/>
  <dc:title/>
</cp:coreProperties>
</file>