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E9C-9D7B-4CAA-A173-1A01CDE6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98D-FDD7-42D9-AA6F-AB76E993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B4C-D9AB-4236-AAA5-97D5A7EF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053-8C0F-46D5-BB87-0CC116B9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F79-01AC-4B23-8A87-617071C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06C-9C68-4769-9EA5-5E248084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547-D6FA-4262-8603-12F880B0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2DD-D68D-4D16-B206-750D40B8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803-A6BE-43CA-9004-9ADD032C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AB4-60EF-439D-8DDE-A8F5ED39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F32A-C044-43C0-A348-DB7B130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C889-5E7C-4B44-820C-597287C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0E94-33E1-4EF7-8BFE-08C25F99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_水边的阿狄丽娜.MP3" descr=""/>
          <p:cNvPicPr/>
          <p:nvPr/>
        </p:nvPicPr>
        <p:blipFill>
          <a:blip r:embed="rId2"/>
          <a:stretch/>
        </p:blipFill>
        <p:spPr>
          <a:xfrm>
            <a:off x="8172360" y="623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xinsrc_cbcb9086b41011d6b5d200b0d03f0b06"/>
          <p:cNvPicPr/>
          <p:nvPr/>
        </p:nvPicPr>
        <p:blipFill>
          <a:blip r:embed="rId3"/>
          <a:stretch/>
        </p:blipFill>
        <p:spPr>
          <a:xfrm>
            <a:off x="1979640" y="2060640"/>
            <a:ext cx="4486320" cy="403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10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1600" y="33336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轮椅上的霍金》优质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546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31687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333399"/>
                </a:solidFill>
                <a:latin typeface="华文彩云"/>
                <a:ea typeface="华文彩云"/>
              </a:rPr>
              <a:t>课后作业</a:t>
            </a:r>
            <a:r>
              <a:rPr b="1" lang="en-US" sz="4400" spc="-1" strike="noStrike">
                <a:solidFill>
                  <a:srgbClr val="333399"/>
                </a:solidFill>
                <a:latin typeface="华文彩云"/>
                <a:ea typeface="华文彩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7632720" cy="26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以“轮椅上的霍金，我想对您说”为题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写一段话</a:t>
            </a:r>
            <a:r>
              <a:rPr b="0" lang="zh-CN" sz="3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 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课外阅读（选其一）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假如给我三天光明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海伦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凯勒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钢铁是怎样炼成的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奥斯特洛夫斯基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42920" y="2912760"/>
            <a:ext cx="7131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霍金先生，病魔已将您永远固定在轮椅上，你不认为命运让你失去太多了吗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908000" y="1647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方正北魏楷书简体"/>
              </a:rPr>
              <a:t>悲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2886120" y="4005360"/>
            <a:ext cx="15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Verdana"/>
              </a:rPr>
              <a:t>.  .  .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4932360" y="2249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xinsrc_cbcb9086b41011d6b5d200b0d03f0b06"/>
          <p:cNvPicPr/>
          <p:nvPr/>
        </p:nvPicPr>
        <p:blipFill>
          <a:blip r:embed="rId20"/>
          <a:stretch/>
        </p:blipFill>
        <p:spPr>
          <a:xfrm>
            <a:off x="1690560" y="1628640"/>
            <a:ext cx="518652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98288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霍金的魅力不仅在于他是一个充满传奇色彩的物理天才，更因为他是一个令人折服的生活强者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55640" y="191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虽然，他的身体一点也没有离开过轮椅，但是，他的思维却飞出了地球，飞出了太阳系，飞出了银河系，飞到了上百亿光年外的宇宙深处，飞向了神秘莫测的黑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522800" y="3357720"/>
            <a:ext cx="5284080" cy="2503440"/>
            <a:chOff x="1522800" y="3357720"/>
            <a:chExt cx="5284080" cy="2503440"/>
          </a:xfrm>
        </p:grpSpPr>
        <p:sp>
          <p:nvSpPr>
            <p:cNvPr id="58" name="Text Box 4"/>
            <p:cNvSpPr/>
            <p:nvPr/>
          </p:nvSpPr>
          <p:spPr>
            <a:xfrm>
              <a:off x="2459520" y="3357720"/>
              <a:ext cx="73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5661360" y="3375000"/>
              <a:ext cx="114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6"/>
            <p:cNvSpPr/>
            <p:nvPr/>
          </p:nvSpPr>
          <p:spPr>
            <a:xfrm>
              <a:off x="2060640" y="3933720"/>
              <a:ext cx="114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2109960" y="4581360"/>
              <a:ext cx="155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  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>
              <a:off x="1522800" y="5157720"/>
              <a:ext cx="73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99"/>
                  </a:solidFill>
                  <a:latin typeface="Verdana"/>
                </a:rPr>
                <a:t>.  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982880"/>
            <a:ext cx="822960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霍金的魅力不仅在于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他是一个充满传奇色彩的物理天才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，更因为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他是一个令人折服的生活强者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。他</a:t>
            </a:r>
            <a:r>
              <a:rPr b="1" lang="zh-CN" sz="3700" spc="-1" strike="noStrike" u="sng">
                <a:solidFill>
                  <a:srgbClr val="333399"/>
                </a:solidFill>
                <a:uFillTx/>
                <a:latin typeface="Arial"/>
              </a:rPr>
              <a:t>不断求索的科学精神和勇敢顽强的人格力量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深深地感动了大众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806436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的手指还能活动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的大脑还能思维；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我有终生追求的理想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有我爱和爱我的亲人和朋友；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对了，我还有一颗感恩的心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019240" y="771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Verdana"/>
                <a:ea typeface="楷体_GB2312"/>
              </a:rPr>
              <a:t>依然充满恬静的微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3CD-88EB-4DE8-95D0-A1E79E4FAD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96300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Verdana"/>
                <a:ea typeface="华文彩云"/>
              </a:rPr>
              <a:t>霍金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68360" y="1989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上帝既造就天才，也造就傻瓜，这不取决于天赋，完全是个人努力程度不同的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当你面临着夭折的可能性，你就会意识到，生命是宝贵的，你有大量的事情要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0:25:21Z</dcterms:created>
  <dc:creator/>
  <dc:description/>
  <cp:keywords>幻灯片之家 http:/www.eeppt.com</cp:keywords>
  <dc:language>en-US</dc:language>
  <cp:lastModifiedBy/>
  <dcterms:modified xsi:type="dcterms:W3CDTF">2015-07-20T01:29:5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