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990-7766-42F4-B9E2-EFBAF52E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DEB-3468-460B-BD6D-8118CBFE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C42-0CC3-452C-9AF6-AB53F7A5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1CA-E869-467C-A1FD-49852E4C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B0D-B7CC-4D2D-A1F0-DCD017BB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EEB3-435D-4868-94E6-AD31F4F7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52FA-CD5C-4E36-B575-DA1D8656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A854-B74F-4AA5-86B4-EE16FCA5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BC7C-DA75-4E64-B4DB-150EBF3A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1936-3BC2-4F09-AD35-BFF54751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13C1-1ACA-469F-9EAF-2DE45BA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45B-1576-4D79-B973-A09F5C4B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BD5F-FBDE-4111-BFE9-483F4CB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2343-BC9F-46BD-96BB-5B03F638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AFD2-CB40-4277-8755-C0B97B2B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7753-F355-47DD-A912-51B1A4F7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169C-FE49-43E2-AB1B-E9590F8F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31F-8659-4869-9F47-6D96A786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1C2-C42D-41A0-A2A0-58233677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286-10E2-466B-9C5D-16C36D1C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019-2759-461B-AA7B-38352483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5A2-7274-443C-BE66-A303E6A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114-5470-4DDA-842D-D83267C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442-4EC7-4345-818D-E8715B8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EF6D-4E58-4C7D-B2FA-76C87426D87F}" type="slidenum">
              <a:rPr b="0" lang="zh-TW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BDCA-24E0-40F1-B39C-E8928C009EF4}" type="slidenum">
              <a:rPr b="0" lang="zh-TW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 遊 網 站 商 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隨著網際網路電子商務蓬勃發展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網路旅遊相關的服務一直是滿重要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的發展領域，更成為除了電腦週邊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書籍產品以外，網路使用者上網交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易的主要目的之一。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結         論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電子商務的時代已經來臨了！現在旅遊風氣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盛行，國內旅遊網站如雨後春筍，在旅遊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站上占有一席之地，除了必須提供實用、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時的旅遊資訊而且操作便利外，結合飯店成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為便捷的聯合訂房中心、提供最廉價機票、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優惠房價或旅遊行程等，都是旅遊網站搶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的策略，希望能提供我們消費者更便利、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16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惠的選擇 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全 球 旅 遊 網 站 商 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在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國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2001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年的電子商務總營收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530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億美元中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旅遊網的市場就佔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了其中三分之一的收入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全 球 旅 遊 網 站 商 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SzPct val="118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2001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年有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1780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萬人是透過網路完成訂機票、旅館、租車服務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SzPct val="1182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2007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年透過網路完成訂購服務的   人，將超過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3700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萬人，是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2001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的兩倍左右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zh-TW" sz="1800" spc="-1" strike="noStrike">
                <a:solidFill>
                  <a:srgbClr val="eaeaea"/>
                </a:solidFill>
                <a:latin typeface="Arial"/>
              </a:rPr>
              <a:t>資料來源：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XXX</a:t>
            </a:r>
            <a:r>
              <a:rPr b="0" lang="zh-TW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eaeaea"/>
                </a:solidFill>
                <a:latin typeface="Arial"/>
              </a:rPr>
              <a:t>市場研究公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XX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 遊 網 站 商 機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8208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根據資策會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MIC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的調查顯示，目前在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最受歡迎的電子商務商品是旅遊相關的服務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5652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 遊 網 站 主 要 分 成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072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5000"/>
              </a:lnSpc>
              <a:spcBef>
                <a:spcPts val="1100"/>
              </a:spcBef>
              <a:buSzPct val="1182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原生旅遊網站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Bef>
                <a:spcPts val="1100"/>
              </a:spcBef>
              <a:buSzPct val="1182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傳統旅遊企業經營之旅遊網站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Bef>
                <a:spcPts val="1100"/>
              </a:spcBef>
              <a:buSzPct val="1182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旅遊入口網站、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ICP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125000"/>
              </a:lnSpc>
              <a:spcBef>
                <a:spcPts val="1100"/>
              </a:spcBef>
              <a:buSzPct val="1182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B2B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</a:rPr>
              <a:t>旅遊仲介網站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原 生 旅 遊 網 站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buSzPct val="11833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根據旅遊業界估計，每年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約有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300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億元的消費市場，旅遊類就佔了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52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％，旅遊網站市場潛力可見一斑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TW" sz="5200" spc="-1" strike="noStrike">
                <a:solidFill>
                  <a:srgbClr val="ccecff"/>
                </a:solidFill>
                <a:latin typeface="Arial"/>
              </a:rPr>
              <a:t>傳統旅遊企業經營之旅遊網站</a:t>
            </a:r>
            <a:endParaRPr b="0" lang="en-US" sz="5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buSzPct val="118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主要提供服務：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DIY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行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網路訂房及訂票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SzPct val="1182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例如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網 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XXX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轉投資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華網 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轉投資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遊入口網站、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ICP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SzPct val="118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只是純粹提供旅遊內容，不負責線上下單的工作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182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例如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番薯藤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B2B </a:t>
            </a:r>
            <a:r>
              <a:rPr b="1" lang="zh-TW" sz="5400" spc="-1" strike="noStrike">
                <a:solidFill>
                  <a:srgbClr val="ccecff"/>
                </a:solidFill>
                <a:latin typeface="Arial"/>
              </a:rPr>
              <a:t>旅 遊 仲 介 網 站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SzPct val="11833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這類網站主要是類似旅行社和消費者之間的交流管道，以仲介的角色進行經營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，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一方面提供消費者買賣平台，一方面提供旅遊產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例如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X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網旅遊服務有限公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 商机</cp:keywords>
  <dc:language>en-US</dc:language>
  <cp:lastModifiedBy/>
  <cp:revision>0</cp:revision>
  <dc:subject/>
  <dc:title/>
</cp:coreProperties>
</file>