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52AC-D453-45F5-AD7F-0EC07D98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7556-D02C-4851-AE4B-20D84D78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06F5-242E-4945-9497-89D2318F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28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22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34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28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22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127-792D-4F59-9A76-FDC10EAE5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8AAB-8B86-4648-936B-3C49AF16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D64AE-FF73-47E9-AD1D-96A09A95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FFC0-4B3A-4415-95C9-17F63A0E8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C6B2-A038-4CA4-8817-36937B61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2BFB-B6EE-41F5-8744-6AE07AA5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23440" y="334440"/>
            <a:ext cx="816156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02C5-F7DE-4F19-AED1-66E85239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36A3-C70A-4DCE-8897-DF4B973B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558-FCB8-44B9-A9FC-ADAE108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660D-5D24-4AC1-BE91-5AA8B4E5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0E4F-C013-41C2-8252-81E5902E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D48E-026E-490B-BC3B-47F31775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22C9-8FCC-4568-B096-7727AB23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28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22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34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28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22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0261-4F1F-42AA-9EB2-77CB92D35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24E80-D871-412D-BCB4-49DF9E10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2E2E-9F31-4900-8375-836A2ABF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E0C6-0012-40C0-8F69-CD00D002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9D463-B52C-4AE0-BAD2-AB9F1486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CEA75-F473-4FA0-B2F9-610D9CA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4F8-CEC4-4083-88CE-CA94C7E9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23440" y="334440"/>
            <a:ext cx="816156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25A8-8055-4638-B083-BFDE3DA7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7310C-14BE-4763-917E-A8A2A9AF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B7BAA-30D3-444A-AFDA-67FAEA59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B0A5-9C6A-449A-B811-BB5A8E7F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0145E-4E4C-4DA0-8309-19F88E62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29D26-9863-4B7D-A1F7-14B3B49B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28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42240" y="127116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34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28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42240" y="3968640"/>
            <a:ext cx="262764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A4BC-1567-4B9C-B733-095003C3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A62-8272-4FE7-BED0-B4A7DF84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763-B262-443B-84C1-074C1504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3440" y="334440"/>
            <a:ext cx="8161560" cy="328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E97-58A9-4153-AD72-7BD01532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132-9E9E-4716-BE94-A0DD893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5560" y="396864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00E-68DC-495D-A113-94032616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44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5560" y="1271160"/>
            <a:ext cx="398268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440" y="3968640"/>
            <a:ext cx="816156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785C-3A57-42B0-AE75-06E52DB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7FF7-8E8D-4098-B654-746C57A72B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86000" cy="47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5" descr=""/>
          <p:cNvPicPr/>
          <p:nvPr/>
        </p:nvPicPr>
        <p:blipFill>
          <a:blip r:embed="rId2"/>
          <a:srcRect l="11573" t="27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矩形 3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9A22-EA38-4089-AEDD-FC1DF16F74F1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523440" y="334440"/>
            <a:ext cx="816156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e9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23440" y="1271160"/>
            <a:ext cx="816156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3b8de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Click to edit the outline text format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1" marL="357120" indent="-357120" algn="just">
              <a:lnSpc>
                <a:spcPct val="110000"/>
              </a:lnSpc>
              <a:spcBef>
                <a:spcPts val="601"/>
              </a:spcBef>
              <a:buClr>
                <a:srgbClr val="70d4d7"/>
              </a:buClr>
              <a:buFont typeface="幼圆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con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2" marL="11430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Third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3" marL="16002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our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4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Fif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5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ix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  <a:p>
            <a:pPr lvl="6" marL="2057400" indent="-228600" algn="just">
              <a:lnSpc>
                <a:spcPct val="11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8de9"/>
                </a:solidFill>
                <a:latin typeface="幼圆"/>
              </a:rPr>
              <a:t>Seventh Outline Level</a:t>
            </a:r>
            <a:endParaRPr b="0" lang="en-US" sz="2400" spc="-1" strike="noStrike">
              <a:solidFill>
                <a:srgbClr val="3b8de9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9d9d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C0C5-22CD-4882-9BBA-0FB339D77539}" type="slidenum">
              <a:rPr b="0" lang="zh-CN" sz="1200" spc="-1" strike="noStrike">
                <a:solidFill>
                  <a:srgbClr val="9d9d9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title"/>
          </p:nvPr>
        </p:nvSpPr>
        <p:spPr>
          <a:xfrm>
            <a:off x="4599000" y="2995560"/>
            <a:ext cx="3859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8de9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www.eeppt.com/sucai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D:\教程\PPT\PPT素材\3D小人\目标\目标.jpg"/>
          <p:cNvPicPr/>
          <p:nvPr/>
        </p:nvPicPr>
        <p:blipFill>
          <a:blip r:embed="rId1"/>
          <a:srcRect l="9119" t="23530" r="0" b="11764"/>
          <a:stretch/>
        </p:blipFill>
        <p:spPr>
          <a:xfrm>
            <a:off x="1785960" y="2928960"/>
            <a:ext cx="7358040" cy="3929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00" y="38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907920"/>
            <a:ext cx="393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目标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f5f5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" descr="冠军.jpg"/>
          <p:cNvPicPr/>
          <p:nvPr/>
        </p:nvPicPr>
        <p:blipFill>
          <a:blip r:embed="rId1"/>
          <a:stretch/>
        </p:blipFill>
        <p:spPr>
          <a:xfrm>
            <a:off x="7668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2" descr="金牌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爬梯.jpg"/>
          <p:cNvPicPr/>
          <p:nvPr/>
        </p:nvPicPr>
        <p:blipFill>
          <a:blip r:embed="rId3"/>
          <a:stretch/>
        </p:blipFill>
        <p:spPr>
          <a:xfrm>
            <a:off x="1328760" y="3543480"/>
            <a:ext cx="214308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4" descr="成功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1" descr="起跑2.jpg"/>
          <p:cNvPicPr/>
          <p:nvPr/>
        </p:nvPicPr>
        <p:blipFill>
          <a:blip r:embed="rId1"/>
          <a:stretch/>
        </p:blipFill>
        <p:spPr>
          <a:xfrm>
            <a:off x="343080" y="708120"/>
            <a:ext cx="4114800" cy="23540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" descr="起跑3.jpg"/>
          <p:cNvPicPr/>
          <p:nvPr/>
        </p:nvPicPr>
        <p:blipFill>
          <a:blip r:embed="rId2"/>
          <a:stretch/>
        </p:blipFill>
        <p:spPr>
          <a:xfrm>
            <a:off x="4686480" y="708120"/>
            <a:ext cx="4114800" cy="235404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3" descr="起跑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de9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3b8de9"/>
              </a:solidFill>
              <a:latin typeface="微软雅黑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4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b0f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b8de9"/>
              </a:solidFill>
              <a:latin typeface="幼圆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f5f5f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5C9B-6C0F-4434-9730-CDD87B48EB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目标1.jpg"/>
          <p:cNvPicPr/>
          <p:nvPr/>
        </p:nvPicPr>
        <p:blipFill>
          <a:blip r:embed="rId1"/>
          <a:stretch/>
        </p:blipFill>
        <p:spPr>
          <a:xfrm>
            <a:off x="692280" y="457200"/>
            <a:ext cx="3414600" cy="28576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目标2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3" descr="目标3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4" descr="目标4.jpg"/>
          <p:cNvPicPr/>
          <p:nvPr/>
        </p:nvPicPr>
        <p:blipFill>
          <a:blip r:embed="rId4"/>
          <a:stretch/>
        </p:blipFill>
        <p:spPr>
          <a:xfrm>
            <a:off x="5599080" y="3543480"/>
            <a:ext cx="22878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目标5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" descr="目标6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3" descr="目标7.jpg"/>
          <p:cNvPicPr/>
          <p:nvPr/>
        </p:nvPicPr>
        <p:blipFill>
          <a:blip r:embed="rId3"/>
          <a:stretch/>
        </p:blipFill>
        <p:spPr>
          <a:xfrm>
            <a:off x="971640" y="3543480"/>
            <a:ext cx="2857320" cy="285732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" descr="目标8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900000" y="5805360"/>
            <a:ext cx="564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3086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b0f0"/>
                </a:solidFill>
                <a:uFillTx/>
                <a:latin typeface="Calibri"/>
                <a:hlinkClick r:id="rId5"/>
              </a:rPr>
              <a:t>ppt素材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5f5f5f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目标9.jpg"/>
          <p:cNvPicPr/>
          <p:nvPr/>
        </p:nvPicPr>
        <p:blipFill>
          <a:blip r:embed="rId1"/>
          <a:stretch/>
        </p:blipFill>
        <p:spPr>
          <a:xfrm>
            <a:off x="615960" y="457200"/>
            <a:ext cx="3568680" cy="28576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" descr="目标10.jpg"/>
          <p:cNvPicPr/>
          <p:nvPr/>
        </p:nvPicPr>
        <p:blipFill>
          <a:blip r:embed="rId2"/>
          <a:stretch/>
        </p:blipFill>
        <p:spPr>
          <a:xfrm>
            <a:off x="53150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3" descr="目标11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4" descr="目标12.jpg"/>
          <p:cNvPicPr/>
          <p:nvPr/>
        </p:nvPicPr>
        <p:blipFill>
          <a:blip r:embed="rId4"/>
          <a:stretch/>
        </p:blipFill>
        <p:spPr>
          <a:xfrm>
            <a:off x="5124600" y="3543480"/>
            <a:ext cx="32367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目标13.jpg"/>
          <p:cNvPicPr/>
          <p:nvPr/>
        </p:nvPicPr>
        <p:blipFill>
          <a:blip r:embed="rId1"/>
          <a:stretch/>
        </p:blipFill>
        <p:spPr>
          <a:xfrm>
            <a:off x="797040" y="457200"/>
            <a:ext cx="3206520" cy="285768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" descr="目标14.jpg"/>
          <p:cNvPicPr/>
          <p:nvPr/>
        </p:nvPicPr>
        <p:blipFill>
          <a:blip r:embed="rId2"/>
          <a:stretch/>
        </p:blipFill>
        <p:spPr>
          <a:xfrm>
            <a:off x="4989600" y="457200"/>
            <a:ext cx="3508200" cy="28576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目标15.jpg"/>
          <p:cNvPicPr/>
          <p:nvPr/>
        </p:nvPicPr>
        <p:blipFill>
          <a:blip r:embed="rId3"/>
          <a:stretch/>
        </p:blipFill>
        <p:spPr>
          <a:xfrm>
            <a:off x="343080" y="360216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4" descr="目标17.jpg"/>
          <p:cNvPicPr/>
          <p:nvPr/>
        </p:nvPicPr>
        <p:blipFill>
          <a:blip r:embed="rId4"/>
          <a:stretch/>
        </p:blipFill>
        <p:spPr>
          <a:xfrm>
            <a:off x="4838760" y="354348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目标模糊.jpg"/>
          <p:cNvPicPr/>
          <p:nvPr/>
        </p:nvPicPr>
        <p:blipFill>
          <a:blip r:embed="rId1"/>
          <a:stretch/>
        </p:blipFill>
        <p:spPr>
          <a:xfrm>
            <a:off x="4953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冲刺1.jpg"/>
          <p:cNvPicPr/>
          <p:nvPr/>
        </p:nvPicPr>
        <p:blipFill>
          <a:blip r:embed="rId2"/>
          <a:stretch/>
        </p:blipFill>
        <p:spPr>
          <a:xfrm>
            <a:off x="4686480" y="600120"/>
            <a:ext cx="4114800" cy="257184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3" descr="冲刺.jpg"/>
          <p:cNvPicPr/>
          <p:nvPr/>
        </p:nvPicPr>
        <p:blipFill>
          <a:blip r:embed="rId3"/>
          <a:stretch/>
        </p:blipFill>
        <p:spPr>
          <a:xfrm>
            <a:off x="343080" y="3602160"/>
            <a:ext cx="4114800" cy="27399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4" descr="第一1.jpg"/>
          <p:cNvPicPr/>
          <p:nvPr/>
        </p:nvPicPr>
        <p:blipFill>
          <a:blip r:embed="rId4"/>
          <a:stretch/>
        </p:blipFill>
        <p:spPr>
          <a:xfrm>
            <a:off x="5672160" y="3543480"/>
            <a:ext cx="2143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第一2.jpg"/>
          <p:cNvPicPr/>
          <p:nvPr/>
        </p:nvPicPr>
        <p:blipFill>
          <a:blip r:embed="rId1"/>
          <a:stretch/>
        </p:blipFill>
        <p:spPr>
          <a:xfrm>
            <a:off x="971640" y="4572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" descr="第一3.jpg"/>
          <p:cNvPicPr/>
          <p:nvPr/>
        </p:nvPicPr>
        <p:blipFill>
          <a:blip r:embed="rId2"/>
          <a:stretch/>
        </p:blipFill>
        <p:spPr>
          <a:xfrm>
            <a:off x="4838760" y="457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" descr="第一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4" descr="冠军1.jpg"/>
          <p:cNvPicPr/>
          <p:nvPr/>
        </p:nvPicPr>
        <p:blipFill>
          <a:blip r:embed="rId4"/>
          <a:stretch/>
        </p:blipFill>
        <p:spPr>
          <a:xfrm>
            <a:off x="5110200" y="3543480"/>
            <a:ext cx="3265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" descr="冠军2.jpg"/>
          <p:cNvPicPr/>
          <p:nvPr/>
        </p:nvPicPr>
        <p:blipFill>
          <a:blip r:embed="rId1"/>
          <a:stretch/>
        </p:blipFill>
        <p:spPr>
          <a:xfrm>
            <a:off x="766800" y="457200"/>
            <a:ext cx="3265560" cy="28576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2" descr="冠军3.jpg"/>
          <p:cNvPicPr/>
          <p:nvPr/>
        </p:nvPicPr>
        <p:blipFill>
          <a:blip r:embed="rId2"/>
          <a:stretch/>
        </p:blipFill>
        <p:spPr>
          <a:xfrm>
            <a:off x="5672160" y="457200"/>
            <a:ext cx="2143080" cy="285768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3" descr="冠军4.jpg"/>
          <p:cNvPicPr/>
          <p:nvPr/>
        </p:nvPicPr>
        <p:blipFill>
          <a:blip r:embed="rId3"/>
          <a:stretch/>
        </p:blipFill>
        <p:spPr>
          <a:xfrm>
            <a:off x="965160" y="3543480"/>
            <a:ext cx="2868480" cy="28573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冠军5.jpg"/>
          <p:cNvPicPr/>
          <p:nvPr/>
        </p:nvPicPr>
        <p:blipFill>
          <a:blip r:embed="rId4"/>
          <a:stretch/>
        </p:blipFill>
        <p:spPr>
          <a:xfrm>
            <a:off x="4686480" y="3701880"/>
            <a:ext cx="4114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冠军6.jpg"/>
          <p:cNvPicPr/>
          <p:nvPr/>
        </p:nvPicPr>
        <p:blipFill>
          <a:blip r:embed="rId1"/>
          <a:stretch/>
        </p:blipFill>
        <p:spPr>
          <a:xfrm>
            <a:off x="379440" y="457200"/>
            <a:ext cx="4041720" cy="285768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2" descr="冠军7.jpg"/>
          <p:cNvPicPr/>
          <p:nvPr/>
        </p:nvPicPr>
        <p:blipFill>
          <a:blip r:embed="rId2"/>
          <a:stretch/>
        </p:blipFill>
        <p:spPr>
          <a:xfrm>
            <a:off x="5076720" y="457200"/>
            <a:ext cx="3332160" cy="285768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3" descr="冠军8.jpg"/>
          <p:cNvPicPr/>
          <p:nvPr/>
        </p:nvPicPr>
        <p:blipFill>
          <a:blip r:embed="rId3"/>
          <a:stretch/>
        </p:blipFill>
        <p:spPr>
          <a:xfrm>
            <a:off x="495360" y="35434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" descr="冠军9.jpg"/>
          <p:cNvPicPr/>
          <p:nvPr/>
        </p:nvPicPr>
        <p:blipFill>
          <a:blip r:embed="rId4"/>
          <a:stretch/>
        </p:blipFill>
        <p:spPr>
          <a:xfrm>
            <a:off x="5110200" y="3543480"/>
            <a:ext cx="32655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5:03:0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3:01:3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