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FAB-7A6B-4C6A-83F0-6666E8AE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3BE-CE6B-4AD5-B072-1A73C042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658-4356-4E12-BAF1-7337B061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D1B-98C9-4974-8F92-FBE79129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F72-B70C-44BF-B733-941F1358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1B4-476D-46F9-91F3-5CA5B7FD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182-B2BF-4018-8CC2-93BA3E1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9B1-5122-4C5F-8006-D39F0B2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530-7069-4948-88C4-8556D756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2D7-747E-469A-BFD8-52EEE1E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147-6750-4F5E-826E-8CAF0C9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1C0-8A02-4491-A611-CCEC4374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50EF-C287-46C8-A6E2-F7309C7B3C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798480" y="993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苏教版 六年级 语文 下册 第六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3025440" y="278136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《莫泊桑拜师》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A7A-2731-4D8F-9018-824176F4EB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162864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了一会儿，都德也来了。他一来就谈起巴黎的事情，讲叙着这个贪图享受、寻欢作乐并十分活跃和愉快的巴黎。他只用几句话，就勾画出某人滑稽的轮廓。他用他那独特的、具有南方风味和吸引人的讽刺口吻谈论着一切事物和一切人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的头很小却很漂亮，乌木色的浓密卷发从头上一直披到肩上，和卷曲的胡须连成一片；他习惯用手捋着自己的胡子尖。他的眼睛像切开的长缝，眯缝着，但却从中射出一道墨一样的黑光。也许是由于过度近视，他的眼光有时很模糊；讲话时调子有些像唱歌。他举止活跃，手势生动，具有一切南方人的特征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5" descr="拓展学习"/>
          <p:cNvPicPr/>
          <p:nvPr/>
        </p:nvPicPr>
        <p:blipFill>
          <a:blip r:embed="rId2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042920" y="263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小练笔：学了本文后，你有什么收获？观察马路上来往的行人和车辆，抓住特点试写一段话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5" descr="拓展学习"/>
          <p:cNvPicPr/>
          <p:nvPr/>
        </p:nvPicPr>
        <p:blipFill>
          <a:blip r:embed="rId2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6699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826920" y="141300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会生字，理解生词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、有感情地朗读课文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莫泊桑拜师的故事，知道，仔细观察、不断积累、勤奋练习是提高写作水平的必由之路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课文内容，感受福楼拜的循循善诱和莫泊桑虚心好学、勤学苦练的精神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11280" y="981000"/>
            <a:ext cx="252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学习目标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305080" cy="3457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635280" y="159696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福楼拜：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中叶法国重要的批判现实主义作家，其作品反映了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848-187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间法国的时代风貌，揭露了丑恶鄙俗的资产阶级社会。他的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客观而无动于衷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创作理论和精雕细刻的艺术风格，在法国文学史上独树一帜。著名作品有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包法利夫人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情感教育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146320" cy="324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492360" y="1844640"/>
            <a:ext cx="48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莫泊桑：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后半期法国优秀的批判现实主义作家。一生创作了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部长篇小说和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5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篇中短篇小说，他的文学成就以短篇小说最为突出，被誉为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短篇小说之王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对后世产生极大影响。著名作品有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项链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羊脂球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俊友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124000" y="2060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用自己喜欢的方式读课文，想想课文主要写了什么内容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6" descr="小女孩"/>
          <p:cNvPicPr/>
          <p:nvPr/>
        </p:nvPicPr>
        <p:blipFill>
          <a:blip r:embed="rId3"/>
          <a:stretch/>
        </p:blipFill>
        <p:spPr>
          <a:xfrm>
            <a:off x="755640" y="206064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971640" y="177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，不不！怎么能说没有什么东西好写呢？那富丽堂皇的马车，跟装饰简陋的马车是一样的走法吗？烈日炎炎下的马车是怎样走的？狂风暴雨中的马车是怎样走的？马车上坡时，马怎样用力？车下坡时，赶车人怎样吆喝？他的表情是什么样的？这一些你都能写得清楚吗？你看，怎么会没有什么好写呢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5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971640" y="2060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那富丽堂皇的马车，跟装饰简陋的马车是一样的走法吗？烈日炎炎下的马车是怎样走的？狂风暴雨中的马车是怎样走的？马车上坡时，马怎样用力？车下坡时，赶车人怎样吆喝？他的表情是什么样的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04292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青年人贵在坚持，才气就是坚持写作的结果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对你所要写的东西，光仔细观察还不够，还要能发现别人没有发现和没有写过的特点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6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755640" y="1484280"/>
            <a:ext cx="7777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福楼拜家的星期天 （节选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屠格涅夫仰坐在一个沙发上，用一种轻轻并有点犹豫的声调慢慢地讲着；但是不管什么事情一经他的嘴讲出，就都带上非凡的魅力和极大的趣味。福楼拜转动着蓝色的大眼睛盯着朋友这张白晳的脸，十分钦佩地听着。当他回答时，他的嗓音特别洪亮，仿佛在他那古高卢斗士式的大胡须下面吹响一把军号。他们的谈话很少涉及日常琐事，总是围绕着文学史方面的事件。屠格涅夫也常常带来一些外文书籍，并非常流利地翻译一些歌德和普希金的诗句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6" descr="拓展学习"/>
          <p:cNvPicPr/>
          <p:nvPr/>
        </p:nvPicPr>
        <p:blipFill>
          <a:blip r:embed="rId2"/>
          <a:stretch/>
        </p:blipFill>
        <p:spPr>
          <a:xfrm>
            <a:off x="539640" y="981000"/>
            <a:ext cx="1935360" cy="478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0:38:26Z</dcterms:created>
  <dc:creator/>
  <dc:description/>
  <cp:keywords>幻灯片之家 http:/www.eeppt.com</cp:keywords>
  <dc:language>en-US</dc:language>
  <cp:lastModifiedBy/>
  <dcterms:modified xsi:type="dcterms:W3CDTF">2015-07-03T11:39:47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