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69E-7A0C-460D-9B60-7A9FDA7A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B16-FEAC-4790-9CD9-FA5D5842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68D-6D39-45D5-A07B-258D731D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26B-4401-4F61-B8F8-7CE76559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EC2B-194F-41D4-A6DD-C335AA2B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AB4F-8DBD-45F1-A251-2B8BA2C3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8971-0D09-4980-873E-FD331BC8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6A89-C8F5-44AD-898B-55913275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9A44-224F-4BF0-AA0C-2B894696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6576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1334-3373-4216-BEDD-3671950D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906B-6E22-4E47-913F-12EAB92E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4A2-24C6-47B4-A1B0-0E157AC0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610B-FCDA-4D18-A029-0A53400D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9FD7-6B67-4640-923F-61E5BB62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9BD4-8686-4424-B8C4-E39491C3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400A-E052-459B-945E-CF23DDD1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769E-7572-4137-9418-1EA237B5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09C-BB66-4505-A6F3-A85BBF20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F0B-52D4-40C2-AE69-47E3A402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E89-8BE2-4339-8273-DF0A1B53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6576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18B-CC12-4D43-A8EA-66E72F10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683-20CF-4CD9-90E9-F4F20090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218-6756-4542-B415-44146301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2B1-DA14-409F-96CB-1BE5B580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6600"/>
            <a:ext cx="7858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華康中黑體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920" y="3622680"/>
            <a:ext cx="4640400" cy="323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2209320"/>
            <a:ext cx="788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  <a:p>
            <a:pPr lvl="1" marL="623880" indent="-2397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  <a:p>
            <a:pPr lvl="2" marL="960120" indent="-19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  <a:p>
            <a:pPr lvl="3" marL="1343880" indent="-191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  <a:p>
            <a:pPr lvl="4" marL="1728000" indent="-191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  <a:p>
            <a:pPr lvl="5" marL="1728000" indent="-191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  <a:p>
            <a:pPr lvl="6" marL="1728000" indent="-1918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7C30-5920-485C-9F51-D9AC3D6F5F51}" type="slidenum">
              <a:rPr b="0" lang="zh-TW" sz="1400" spc="-1" strike="noStrike">
                <a:solidFill>
                  <a:srgbClr val="000000"/>
                </a:solidFill>
                <a:latin typeface="Verdan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6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華康中黑體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920" y="3622680"/>
            <a:ext cx="4640400" cy="323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2D29-6AE6-4B92-AD9E-D2839B3DE49B}" type="slidenum">
              <a:rPr b="0" lang="zh-TW" sz="1400" spc="-1" strike="noStrike">
                <a:solidFill>
                  <a:srgbClr val="000000"/>
                </a:solidFill>
                <a:latin typeface="Verdan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華康中黑體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華康中黑體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華康中黑體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華康中黑體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華康中黑體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華康中黑體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華康中黑體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華康中黑體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華康中黑體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華康中黑體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華康中黑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3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華康中黑體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美麗 新世界</cp:keywords>
  <dc:language>en-US</dc:language>
  <cp:lastModifiedBy/>
  <cp:revision>0</cp:revision>
  <dc:subject/>
  <dc:title/>
</cp:coreProperties>
</file>