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2A3-161A-42DE-8BB0-28A3DB22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3DA-7E15-4CC5-9AB6-B2C50F1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13C-45C4-4B3D-82EC-FEE29F8F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AA8-F1AD-4CF3-829F-68FDE118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0B27-9870-4DB1-A57A-98E02A33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2A08-540D-4F42-B141-5BBFDD57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DDB2-1F32-4CCA-B41A-C6BE4A6D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6178-7ADF-4B40-8D6A-969DEF0C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B3F2-515A-48C5-973D-D8DA36D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B82A-2EAE-46C3-A4DC-6D487DB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6065-A83B-4CA5-9481-6F2C117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7CB-930E-4868-BC48-D59CD23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D85C-669F-4B05-9963-B3C73C4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F9E-30D8-4D79-B6BE-AE58E59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425-8F5E-41A5-AB07-7353AAA2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B2BF-96B5-40A4-8A0F-E2C04683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6AE1-9C79-4F1A-9104-78DC8ECD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A37-B2F0-449A-9F6F-5DADF2D1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66D-1E6F-48DC-B301-535786CD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ACF-8292-42E8-AC38-9741FBA8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C59-8930-4874-A886-6E87B593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DDF-6FE6-4CFA-9859-4E88F166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214-000A-478C-A4AF-CA706A0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9FE-3C4E-4C2C-AF23-D145BF81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443B-AC1F-4495-82C4-A554A9F2098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84B-F076-4BD2-AF98-2EEEB2285F7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penedu.com.cn/newsdy/teach.php?PHPSESSID=ec836118a5d7ea2d01cbdf0c855bf5cf" TargetMode="External"/><Relationship Id="rId2" Type="http://schemas.openxmlformats.org/officeDocument/2006/relationships/hyperlink" Target="http://www.openedu.com.cn/newsdy/teach.php?PHPSESSID=ec836118a5d7ea2d01cbdf0c855bf5cf" TargetMode="External"/><Relationship Id="rId3" Type="http://schemas.openxmlformats.org/officeDocument/2006/relationships/hyperlink" Target="http://www.openedu.com.cn/newsdy/teach.php?PHPSESSID=ec836118a5d7ea2d01cbdf0c855bf5cf" TargetMode="External"/><Relationship Id="rId4" Type="http://schemas.openxmlformats.org/officeDocument/2006/relationships/hyperlink" Target="http://www.openedu.com.cn/newsdy/teach.php?PHPSESSID=ec836118a5d7ea2d01cbdf0c855bf5c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edu.com.cn/" TargetMode="External"/><Relationship Id="rId2" Type="http://schemas.openxmlformats.org/officeDocument/2006/relationships/hyperlink" Target="http://www.openedu.com.cn/" TargetMode="External"/><Relationship Id="rId3" Type="http://schemas.openxmlformats.org/officeDocument/2006/relationships/hyperlink" Target="http://www.openedu.com.c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533520"/>
            <a:ext cx="71625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隶书"/>
                <a:ea typeface="隶书"/>
              </a:rPr>
              <a:t>教学资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057400"/>
            <a:ext cx="70866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581280"/>
            <a:ext cx="7315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隶书"/>
                <a:ea typeface="隶书"/>
              </a:rPr>
              <a:t>PowerPoint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隶书"/>
                <a:ea typeface="隶书"/>
              </a:rPr>
              <a:t>的制作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866160" y="533520"/>
            <a:ext cx="20091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457200"/>
            <a:ext cx="484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会用硬件设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04360" y="1176480"/>
            <a:ext cx="2619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掌握信息技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02640" y="2014560"/>
            <a:ext cx="292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熟练使用计算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6680" y="2852640"/>
            <a:ext cx="32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多种媒体综合运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71200" y="3809880"/>
            <a:ext cx="3533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会使用常用工具软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866160" y="533520"/>
            <a:ext cx="20091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7621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录音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15238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录像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23623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VCD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31240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计算机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（编辑文档、超文本调用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6252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大屏幕投影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72428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实物投影仪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视频展台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380880"/>
            <a:ext cx="4876920" cy="100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会用硬件设施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56272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答疑电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-866160" y="533520"/>
            <a:ext cx="20091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80880"/>
            <a:ext cx="4876920" cy="100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掌握信息技术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6002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上网浏览、下载网页或文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3623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申请免费电子信箱、收发邮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12408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在中央、省、市三级网站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注册用户并浏览教学辅导信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49568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使用和维护市级版在线平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52578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在网上通过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BBS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或论坛对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辅导、发帖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2468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-866160" y="533520"/>
            <a:ext cx="20091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380880"/>
            <a:ext cx="5715000" cy="100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熟练使用计算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1600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用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WORD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编辑文档（图文混排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36232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使用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Excel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电子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3124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用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PowerPoint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制作演示文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或电子教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44956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会用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FrontPage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编辑网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6019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8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8" y="3985"/>
                </a:lnTo>
                <a:lnTo>
                  <a:pt x="21581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8" y="18155"/>
                </a:lnTo>
                <a:cubicBezTo>
                  <a:pt x="9970" y="18155"/>
                  <a:pt x="7394" y="15596"/>
                  <a:pt x="7394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866160" y="533520"/>
            <a:ext cx="20091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895480"/>
            <a:ext cx="6477120" cy="1008360"/>
          </a:xfrm>
          <a:prstGeom prst="rect">
            <a:avLst/>
          </a:prstGeom>
          <a:solidFill>
            <a:srgbClr val="996600"/>
          </a:solidFill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多种媒体综合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380880"/>
            <a:ext cx="1066680" cy="2057400"/>
          </a:xfrm>
          <a:prstGeom prst="wedgeEllipseCallout">
            <a:avLst>
              <a:gd name="adj1" fmla="val -43305"/>
              <a:gd name="adj2" fmla="val 69986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533520"/>
            <a:ext cx="1600200" cy="1904760"/>
          </a:xfrm>
          <a:prstGeom prst="cloudCallout">
            <a:avLst>
              <a:gd name="adj1" fmla="val -44643"/>
              <a:gd name="adj2" fmla="val 70000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录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录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457200"/>
            <a:ext cx="2209680" cy="1371600"/>
          </a:xfrm>
          <a:prstGeom prst="wedgeRoundRectCallout">
            <a:avLst>
              <a:gd name="adj1" fmla="val -54092"/>
              <a:gd name="adj2" fmla="val 116550"/>
              <a:gd name="adj3" fmla="val 1666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A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I P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VO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点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4267080"/>
            <a:ext cx="1447920" cy="2590920"/>
          </a:xfrm>
          <a:prstGeom prst="wedgeEllipseCallout">
            <a:avLst>
              <a:gd name="adj1" fmla="val -51972"/>
              <a:gd name="adj2" fmla="val -66300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495680"/>
            <a:ext cx="1143000" cy="2362320"/>
          </a:xfrm>
          <a:prstGeom prst="cloudCallout">
            <a:avLst>
              <a:gd name="adj1" fmla="val -93194"/>
              <a:gd name="adj2" fmla="val -70967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直播课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4495680"/>
            <a:ext cx="1600200" cy="2362320"/>
          </a:xfrm>
          <a:prstGeom prst="cloudCallout">
            <a:avLst>
              <a:gd name="adj1" fmla="val -64384"/>
              <a:gd name="adj2" fmla="val -73120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网上超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链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952880"/>
            <a:ext cx="2133720" cy="1219320"/>
          </a:xfrm>
          <a:prstGeom prst="wedgeRectCallout">
            <a:avLst>
              <a:gd name="adj1" fmla="val -59078"/>
              <a:gd name="adj2" fmla="val -138800"/>
            </a:avLst>
          </a:prstGeom>
          <a:solidFill>
            <a:srgbClr val="cc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调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Offic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866160" y="533520"/>
            <a:ext cx="200916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媒体手段运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25240" y="2761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会使用常用工具软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12952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查杀病毒软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62320" y="21337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XX   XX   XX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6120" y="2895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下载工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365760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XXX  X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7960" y="44956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压缩解压缩工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3040" y="533412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95200" y="304920"/>
            <a:ext cx="5038920" cy="1008360"/>
          </a:xfrm>
          <a:prstGeom prst="rect">
            <a:avLst/>
          </a:prstGeom>
          <a:solidFill>
            <a:srgbClr val="996600"/>
          </a:solidFill>
          <a:ln w="12600">
            <a:solidFill>
              <a:srgbClr val="cc66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PowerPoint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的制作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1447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幻灯片版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13372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应用设计模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8954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背景（填充 纹理 图片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36576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文本框（横 竖 总分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字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51055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自定义动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95200" y="304920"/>
            <a:ext cx="5038920" cy="1008360"/>
          </a:xfrm>
          <a:prstGeom prst="rect">
            <a:avLst/>
          </a:prstGeom>
          <a:solidFill>
            <a:srgbClr val="996600"/>
          </a:solidFill>
          <a:ln w="12600">
            <a:solidFill>
              <a:srgbClr val="cc6600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PowerPoint</a:t>
            </a: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的制作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4479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幻灯片切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2286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动作按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1240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声音设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39625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超级链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48769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关于设置放映方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09480" y="304920"/>
            <a:ext cx="8534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XX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电大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XX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秋季网上教学活动安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371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网上直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5120" y="4572000"/>
            <a:ext cx="419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卫星传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24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80880"/>
            <a:ext cx="5029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文字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371600"/>
            <a:ext cx="4876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音像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2438280"/>
            <a:ext cx="4876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计算机辅助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429000"/>
            <a:ext cx="5257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</a:rPr>
              <a:t>网上远程教学资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040" y="533520"/>
            <a:ext cx="549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24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088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文字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21932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文字主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2133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辅助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1295280"/>
            <a:ext cx="4267080" cy="838440"/>
          </a:xfrm>
          <a:prstGeom prst="wedgeRoundRectCallout">
            <a:avLst>
              <a:gd name="adj1" fmla="val -61087"/>
              <a:gd name="adj2" fmla="val 86930"/>
              <a:gd name="adj3" fmla="val 16667"/>
            </a:avLst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学习指导、各类参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438280"/>
            <a:ext cx="4343400" cy="685800"/>
          </a:xfrm>
          <a:prstGeom prst="wedgeRoundRectCallout">
            <a:avLst>
              <a:gd name="adj1" fmla="val -56944"/>
              <a:gd name="adj2" fmla="val -30324"/>
              <a:gd name="adj3" fmla="val 16667"/>
            </a:avLst>
          </a:pr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期末复习、实验指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822960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80880"/>
            <a:ext cx="3657600" cy="762120"/>
          </a:xfrm>
          <a:prstGeom prst="wedgeRoundRectCallout">
            <a:avLst>
              <a:gd name="adj1" fmla="val -54601"/>
              <a:gd name="adj2" fmla="val 83541"/>
              <a:gd name="adj3" fmla="val 16667"/>
            </a:avLst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系统性、逻辑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3352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指导、参考、扩展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191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平时作业（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中央电大作业册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6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685800"/>
            <a:ext cx="22860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音像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52480" y="1371600"/>
            <a:ext cx="3353040" cy="1465560"/>
            <a:chOff x="1752480" y="1371600"/>
            <a:chExt cx="3353040" cy="1465560"/>
          </a:xfrm>
        </p:grpSpPr>
        <p:sp>
          <p:nvSpPr>
            <p:cNvPr id="168" name=""/>
            <p:cNvSpPr/>
            <p:nvPr/>
          </p:nvSpPr>
          <p:spPr>
            <a:xfrm>
              <a:off x="1752480" y="137160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52480" y="2514600"/>
              <a:ext cx="152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2680" y="2133720"/>
              <a:ext cx="1752840" cy="70344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录音带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2438280"/>
            <a:ext cx="3429000" cy="1846440"/>
            <a:chOff x="1752480" y="2438280"/>
            <a:chExt cx="3429000" cy="1846440"/>
          </a:xfrm>
        </p:grpSpPr>
        <p:sp>
          <p:nvSpPr>
            <p:cNvPr id="172" name=""/>
            <p:cNvSpPr/>
            <p:nvPr/>
          </p:nvSpPr>
          <p:spPr>
            <a:xfrm>
              <a:off x="1752480" y="2438280"/>
              <a:ext cx="0" cy="1524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52480" y="3962520"/>
              <a:ext cx="152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3581280"/>
              <a:ext cx="1828800" cy="70344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录像带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05520" y="1295280"/>
            <a:ext cx="2590560" cy="762120"/>
          </a:xfrm>
          <a:prstGeom prst="wedgeRoundRectCallout">
            <a:avLst>
              <a:gd name="adj1" fmla="val -42462"/>
              <a:gd name="adj2" fmla="val 73958"/>
              <a:gd name="adj3" fmla="val 16667"/>
            </a:avLst>
          </a:prstGeom>
          <a:solidFill>
            <a:srgbClr val="99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英语教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2819520"/>
            <a:ext cx="3276720" cy="1371600"/>
          </a:xfrm>
          <a:prstGeom prst="wedgeRoundRectCallout">
            <a:avLst>
              <a:gd name="adj1" fmla="val -60416"/>
              <a:gd name="adj2" fmla="val 33564"/>
              <a:gd name="adj3" fmla="val 16667"/>
            </a:avLst>
          </a:prstGeom>
          <a:solidFill>
            <a:srgbClr val="99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学辅导讲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直播课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6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533520"/>
            <a:ext cx="4343400" cy="70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计算机多媒体教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523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磁盘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软盘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4382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光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581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CAI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件    （助教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CAL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件    （助学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0292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集文本、图像、声音于一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77320" y="60958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7493"/>
                </a:moveTo>
                <a:lnTo>
                  <a:pt x="9988" y="7493"/>
                </a:lnTo>
                <a:lnTo>
                  <a:pt x="9988" y="12828"/>
                </a:lnTo>
                <a:cubicBezTo>
                  <a:pt x="9988" y="13751"/>
                  <a:pt x="10789" y="14482"/>
                  <a:pt x="11825" y="14482"/>
                </a:cubicBezTo>
                <a:lnTo>
                  <a:pt x="13487" y="14482"/>
                </a:lnTo>
                <a:cubicBezTo>
                  <a:pt x="14523" y="14482"/>
                  <a:pt x="15324" y="13751"/>
                  <a:pt x="15324" y="12828"/>
                </a:cubicBezTo>
                <a:lnTo>
                  <a:pt x="15324" y="7493"/>
                </a:lnTo>
                <a:lnTo>
                  <a:pt x="13487" y="7493"/>
                </a:lnTo>
                <a:lnTo>
                  <a:pt x="16995" y="3985"/>
                </a:lnTo>
                <a:lnTo>
                  <a:pt x="20668" y="7493"/>
                </a:lnTo>
                <a:lnTo>
                  <a:pt x="18831" y="7493"/>
                </a:lnTo>
                <a:lnTo>
                  <a:pt x="18831" y="12828"/>
                </a:lnTo>
                <a:cubicBezTo>
                  <a:pt x="18831" y="15596"/>
                  <a:pt x="16255" y="18155"/>
                  <a:pt x="13487" y="18155"/>
                </a:cubicBezTo>
                <a:lnTo>
                  <a:pt x="11825" y="18155"/>
                </a:lnTo>
                <a:cubicBezTo>
                  <a:pt x="9057" y="18155"/>
                  <a:pt x="6481" y="15596"/>
                  <a:pt x="6481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380880"/>
            <a:ext cx="4343400" cy="70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网上远程教学资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447920"/>
            <a:ext cx="7696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XXXXXXX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电大在线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XXXXXX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133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文本辅导材料（需要注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819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直播课堂 （视频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5812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直播课堂 （文本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主持教师网上答疑（实时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6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80880"/>
            <a:ext cx="4419720" cy="70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网上远程教学资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大在线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25760" y="2133720"/>
            <a:ext cx="41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文本辅导材料（需要注册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9718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CAI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课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3886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VOD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视频点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48769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IP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课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6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80880"/>
            <a:ext cx="4419720" cy="70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网上远程教学资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1219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大在线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XXXXXXXXXXXX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981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文本辅导材料（需要注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81952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文件  课程说明  导学提纲  教学安排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辅导  作业练习  阶段测试  在线测试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4197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电子教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5328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60" y="304920"/>
            <a:ext cx="1094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教  学  资  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533520"/>
            <a:ext cx="2895480" cy="825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卫星传输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75248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VBI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教学信息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312408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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IP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课件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60958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媒体手段 运用 教学 资源</cp:keywords>
  <dc:language>en-US</dc:language>
  <cp:lastModifiedBy/>
  <cp:revision>0</cp:revision>
  <dc:subject/>
  <dc:title/>
</cp:coreProperties>
</file>