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0A8-E798-44F1-81A9-878684BE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A15-A4BC-4906-A169-EDABA887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E69-C99E-4110-9ECC-129F8694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860-7A2F-4CE2-B156-85B56286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8AA-E71C-49F6-88AA-54B38E36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A990-8B32-499E-A9FA-378C2DDC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DA2E-1ADE-421C-B7B4-DB8C7C09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9C0B-D1B7-4D78-B542-FAB3FAAB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F135-42E5-4596-A634-FB691F9A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9714-C70E-442C-8571-B4D9D725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81A0-59DB-49A1-8282-F7C0BF4C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71D-3441-4EB4-887C-BACE3667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5EB-233E-4344-9519-469136E3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90F6-1EF8-4DC0-9D7D-A5B7FC40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1738-91A6-4663-BA15-58AB7439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8F14-FC3B-4D37-8354-3B24C8FC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A3D3-C66F-4CBA-B028-E397F337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B80-673B-44AA-9F6F-4619FFEC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C14-0EBB-439A-AF16-EC395685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C57-3C59-4DB2-A8CE-6E02B74E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8D3-EBD5-40A6-903C-FB26EB6F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893-7247-48E9-BCA1-BC72E367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736-4C9C-4158-A3E9-5CF52F4C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F68-3EBD-4F49-889A-E5BD0268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4241-5529-4579-BB05-0901769A0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16F8-44CC-47F8-A636-95865BFCC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781920"/>
            <a:ext cx="7772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10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3560" y="1701720"/>
            <a:ext cx="28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南辕北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32000" y="1980720"/>
            <a:ext cx="64404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南辕北辙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讲了一个什么故事？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南辕北辙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中那个做车人是怎么想的？他的朋友又是怎么想的？谁的想法对？为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470-F298-4C5B-9BEC-91E99C09BD92}" type="slidenum">
              <a:t>3</a:t>
            </a:fld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476360" y="2276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现在你明白季梁为什么要给魏王讲这个故事吗？可以帮老师接故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692360" y="184464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还知道哪些寓言故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拔苗助长、掩耳盗铃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守株待兔、亡羊补牢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狐假虎威、自相矛盾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滥竽充数、买椟还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叶公好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6237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03:34:03Z</dcterms:created>
  <dc:creator/>
  <dc:description/>
  <cp:keywords>幻灯片之家 http:/www.eeppt.com</cp:keywords>
  <dc:language>en-US</dc:language>
  <cp:lastModifiedBy/>
  <dcterms:modified xsi:type="dcterms:W3CDTF">2015-07-20T01:30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