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FB7-C531-43C4-8A03-9102389F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7C4-82A0-4E87-BDBE-50C2ADD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9BD-9C80-42F5-9A51-2DACE93C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ADB-9C21-4BB0-9EE5-E65FC2B3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233-223B-4AA9-B9DA-E7B33032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386-1712-4464-9F1A-AE4E09BD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851-6A7B-47B7-9468-CB620ACD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1B3-8534-4F58-9567-5FD4876F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F86-98E7-458B-960B-5FD702A0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4E5-914B-4D32-9699-707920A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190-20A1-4520-8A3E-10783F7F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83B-CEC0-4125-9159-23B38D5E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615B-9E5A-4409-9883-F80384B3C8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背景1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684360" y="620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人教新课标版三年级数学上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26720" y="6454800"/>
            <a:ext cx="32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694960" y="1989000"/>
            <a:ext cx="34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的认识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373480" y="9144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隶书"/>
              </a:rPr>
              <a:t>试一试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45280" y="2209680"/>
            <a:ext cx="536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00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）千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8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）千米（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91720" y="2209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568040" y="3429000"/>
            <a:ext cx="30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5             83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143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1219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50840" y="9828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486320" y="1066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选择合适的长度单位填在括号里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263320" y="2286000"/>
            <a:ext cx="3632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小明从家里到学校要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2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两个县城间的公路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一本日记本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排球队队员的平均身高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68600" y="2286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70672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572000" y="39625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092640" y="4876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1920" y="5715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10948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把下面的速度与合适的交通工具用线连起来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3" descr="自行车"/>
          <p:cNvPicPr/>
          <p:nvPr/>
        </p:nvPicPr>
        <p:blipFill>
          <a:blip r:embed="rId1"/>
          <a:stretch/>
        </p:blipFill>
        <p:spPr>
          <a:xfrm>
            <a:off x="914400" y="2514600"/>
            <a:ext cx="1589040" cy="106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巴士"/>
          <p:cNvPicPr/>
          <p:nvPr/>
        </p:nvPicPr>
        <p:blipFill>
          <a:blip r:embed="rId2"/>
          <a:stretch/>
        </p:blipFill>
        <p:spPr>
          <a:xfrm>
            <a:off x="3657600" y="243828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飞机"/>
          <p:cNvPicPr/>
          <p:nvPr/>
        </p:nvPicPr>
        <p:blipFill>
          <a:blip r:embed="rId3"/>
          <a:stretch/>
        </p:blipFill>
        <p:spPr>
          <a:xfrm>
            <a:off x="6400800" y="2590920"/>
            <a:ext cx="1752480" cy="92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0666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59960" y="480060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小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495960" y="4800600"/>
            <a:ext cx="19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小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627240" y="480060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每小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7" name="AutoShape 12"/>
          <p:cNvCxnSpPr>
            <a:stCxn id="111" idx="2"/>
            <a:endCxn id="114" idx="0"/>
          </p:cNvCxnSpPr>
          <p:nvPr/>
        </p:nvCxnSpPr>
        <p:spPr>
          <a:xfrm flipH="1">
            <a:off x="1553760" y="3627000"/>
            <a:ext cx="2899440" cy="117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AutoShape 13"/>
          <p:cNvCxnSpPr>
            <a:endCxn id="115" idx="0"/>
          </p:cNvCxnSpPr>
          <p:nvPr/>
        </p:nvCxnSpPr>
        <p:spPr>
          <a:xfrm flipH="1">
            <a:off x="4463640" y="3580920"/>
            <a:ext cx="2775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22"/>
          <p:cNvCxnSpPr>
            <a:stCxn id="110" idx="2"/>
            <a:endCxn id="116" idx="0"/>
          </p:cNvCxnSpPr>
          <p:nvPr/>
        </p:nvCxnSpPr>
        <p:spPr>
          <a:xfrm>
            <a:off x="1709640" y="3578040"/>
            <a:ext cx="571248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761480" y="8604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隶书"/>
              </a:rPr>
              <a:t>考一考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55600" y="2209680"/>
            <a:ext cx="6879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3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（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0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0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  ）千米（     ）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905120" y="228600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02600" y="2209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906920" y="312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402600" y="3048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1355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346480" y="588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5716800" y="396252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                53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135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40120" y="480060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                    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69D-CB91-4FC7-A9BD-3BB7B5517C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706760" y="2590920"/>
            <a:ext cx="620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 汽车每小时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，摩托车每小时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汽车每小时比摩托车慢多少千米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要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千米长的公路，已经筑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，还要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筑多少米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95280" y="11430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ahoma"/>
                <a:ea typeface="隶书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3"/>
          <p:cNvSpPr txBox="1"/>
          <p:nvPr/>
        </p:nvSpPr>
        <p:spPr>
          <a:xfrm>
            <a:off x="1981080" y="1752480"/>
            <a:ext cx="5096160" cy="15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配合！</a:t>
            </a:r>
            <a:endParaRPr b="0" lang="en-US" sz="8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36640" y="2430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073240" y="2141640"/>
            <a:ext cx="282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）分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分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）厘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）毫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      ）厘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039120" y="21337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420000" y="3124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392960" y="48610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420000" y="4114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033360" y="50292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13880" y="106668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说出测量下列物体用什么长度单位比较合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613600" y="226692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铅笔的长度  （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22600" y="310500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旗杆的高度   （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638440" y="396252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硬币的厚度   （ 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057400" y="4800600"/>
            <a:ext cx="34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课桌的高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563720" y="220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21040" y="3048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63968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593240" y="480060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分米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6"/>
          <p:cNvSpPr/>
          <p:nvPr/>
        </p:nvSpPr>
        <p:spPr>
          <a:xfrm>
            <a:off x="1042920" y="2773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Picture 3" descr="china"/>
          <p:cNvPicPr/>
          <p:nvPr/>
        </p:nvPicPr>
        <p:blipFill>
          <a:blip r:embed="rId1"/>
          <a:stretch/>
        </p:blipFill>
        <p:spPr>
          <a:xfrm>
            <a:off x="0" y="1143000"/>
            <a:ext cx="4246560" cy="5105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741680" y="609480"/>
            <a:ext cx="51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计量路程的远近，通常用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千米（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km)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做单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15400" y="1676520"/>
            <a:ext cx="255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北京到杭州的铁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北京到昆明的铁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7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北京到哈尔滨的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路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8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267920" y="1905120"/>
            <a:ext cx="72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米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00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米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0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米就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868120" y="2995560"/>
            <a:ext cx="330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千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=100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844560" y="1876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33520" y="220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想想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从学校门口到什么地方是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千米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181240" y="1906560"/>
            <a:ext cx="51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0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45440" y="2641680"/>
            <a:ext cx="68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个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就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74080" y="4470480"/>
            <a:ext cx="547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再加上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5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一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25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962520" y="19051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312520" y="373392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25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97160" y="990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隶书"/>
              </a:rPr>
              <a:t>试一试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418480" y="1963800"/>
            <a:ext cx="357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千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093200" y="190512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8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093200" y="32004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6606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01040" y="2057400"/>
            <a:ext cx="549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00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 ）千米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35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   ）千米（     ）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176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33920" y="2743200"/>
            <a:ext cx="783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里面有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个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就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34280" y="4664160"/>
            <a:ext cx="73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想：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00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，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35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是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千米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350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032720" y="1981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962520" y="380988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4            350                    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0:52:45Z</dcterms:created>
  <dc:creator/>
  <dc:description/>
  <cp:keywords>幻灯片之家 http:/www.eeppt.com</cp:keywords>
  <dc:language>en-US</dc:language>
  <cp:lastModifiedBy/>
  <dcterms:modified xsi:type="dcterms:W3CDTF">2015-07-20T01:21:29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