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D93C-C21F-491B-961D-8A571577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467532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42B7-3D62-481F-BC40-2558D015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34207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4720" y="4038120"/>
            <a:ext cx="34207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4675320"/>
            <a:ext cx="34207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4720" y="4675320"/>
            <a:ext cx="34207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5E25-83A6-4E6F-839F-431334F60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225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3240" y="4038120"/>
            <a:ext cx="225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480" y="4038120"/>
            <a:ext cx="225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4675320"/>
            <a:ext cx="225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3240" y="4675320"/>
            <a:ext cx="225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480" y="4675320"/>
            <a:ext cx="225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B56A-5A61-445A-A6E7-80A57E42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C08A-F2A6-4E81-B40F-B3E7803AE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2640" y="403812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1195-304E-4B02-9EB4-6DB458B7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1CEF-903F-4B53-A77E-98ABB66F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3420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4720" y="4038120"/>
            <a:ext cx="3420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DA37-2BCC-4DD0-8290-996E4BF4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A936-A7A8-49E4-9462-64C88338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701028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C489-7880-4EAF-9C77-E9C27173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34207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34720" y="4038120"/>
            <a:ext cx="3420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42640" y="4675320"/>
            <a:ext cx="34207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D92F-1B82-47F9-A9F6-A9CD330F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403812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C329-00E6-4F7A-A082-0BA957BC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3420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34720" y="4038120"/>
            <a:ext cx="34207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34720" y="4675320"/>
            <a:ext cx="34207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9B43-AF48-4403-9FF1-57AED97C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34207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34720" y="4038120"/>
            <a:ext cx="34207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42640" y="467532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7213-C31A-44B5-9A1C-1BEA2222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42640" y="467532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0F77-1AE6-4224-9296-78705430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34207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4720" y="4038120"/>
            <a:ext cx="34207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2640" y="4675320"/>
            <a:ext cx="34207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34720" y="4675320"/>
            <a:ext cx="34207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C6F0-4E40-457B-A757-B312C6D92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225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13240" y="4038120"/>
            <a:ext cx="225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83480" y="4038120"/>
            <a:ext cx="225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42640" y="4675320"/>
            <a:ext cx="225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13240" y="4675320"/>
            <a:ext cx="225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83480" y="4675320"/>
            <a:ext cx="22572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816E-6740-425D-8EFE-729D7DAEC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7732-0558-42C6-A50D-9F79C9B6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3420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4720" y="4038120"/>
            <a:ext cx="3420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7E3E-1F38-4F18-A1C3-1EA11987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CAB9-78E1-4D53-BBBE-5C56B17D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701028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094B-8992-4D5A-95E3-8C55061E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34207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4720" y="4038120"/>
            <a:ext cx="3420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4675320"/>
            <a:ext cx="34207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66F4-2E6B-4530-984E-73E418A5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3420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4720" y="4038120"/>
            <a:ext cx="34207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4720" y="4675320"/>
            <a:ext cx="34207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6B0B-5C55-4EB6-8BC7-960647D5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34207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4720" y="4038120"/>
            <a:ext cx="342072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467532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7902-7CC7-4053-8DF8-181E0F9E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824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82400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824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82400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824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9C75-B05A-4460-90D9-344A192904E7}" type="slidenum">
              <a:rPr b="0" lang="zh-TW" sz="1400" spc="-1" strike="noStrike">
                <a:solidFill>
                  <a:srgbClr val="4824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824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82400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824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82400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76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824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0684-A758-4598-8B20-DD3315C7F02A}" type="slidenum">
              <a:rPr b="0" lang="zh-TW" sz="1400" spc="-1" strike="noStrike">
                <a:solidFill>
                  <a:srgbClr val="4824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42640" y="403812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通用 咖啡</cp:keywords>
  <dc:language>en-US</dc:language>
  <cp:lastModifiedBy/>
  <cp:revision>0</cp:revision>
  <dc:subject/>
  <dc:title/>
</cp:coreProperties>
</file>