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43E-5B06-4FCB-BA4D-A566A41D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602-B111-4257-B5CA-4D98F2B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E0A-5B3B-42D3-A256-8D7FE441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750-C8A8-45AC-9352-EC32B6B6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A082-9B50-40B9-B43B-37F3A2B5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59EE-D3E2-45F7-ACE8-E4B01375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1083-4561-4B01-9267-EAAD7396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8F27-0B8C-4C10-8C31-D8686369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CD12-7BD3-4ACB-9852-8AB0B7B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F0C3-10FD-455B-8589-1A1CFA2E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E82-4CEC-438D-8A29-0630F9A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2E5-6181-4E47-A5C9-2FFA6AB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1F28-5977-44E4-856D-222DAB7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4B49-FA8B-4AA3-815B-00239AB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45D-6808-4813-A345-0077223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CFED-EE3C-4E44-A654-6E55A90A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E131-B68E-45BC-A029-C353FFCC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E46-1675-4676-BBEC-D790B7C5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562-7B08-4100-ABF5-35584AE3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9BD-A6A4-48B5-9C7F-C46D1F85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290-DED1-48A4-A498-F1F1013F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EBC-20A0-4E46-BD39-A0009F14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C36-6561-4918-9012-B06B6B6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441-EC8B-4DB0-B369-F4B8ABB0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4476-F068-4F95-8B9B-6101066BD1D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1DF-75A5-4D7C-A52C-AFB013B9651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如何学习《财务案例研究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、面授辅导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面授辅导老师负责以下教学任务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根据教学大纲的要求，配合文字教材、录像课，对学生进行辅导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②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负责教学答疑并按中央电大的统一教学要求布置并批改作业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③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组织学生收看录像课和直播课，定期组织学生进行讨论 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④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指导学习小组活动 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 </a:t>
            </a:r>
            <a:r>
              <a:rPr b="0" lang="zh-CN" sz="2400" spc="-1" strike="noStrike">
                <a:solidFill>
                  <a:srgbClr val="006699"/>
                </a:solidFill>
                <a:latin typeface="Tahoma"/>
              </a:rPr>
              <a:t>  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 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网上辅导 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本课程将利用计算机网页发布网上教学辅导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内容包括课程教学大纲、教学实施方案、课程教学进度、课程学习重难点指导、具体案例分析，同时推出网上教与学讨论、电子邮件答疑等手段帮助学生学习。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4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直播课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  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为帮助学生熟悉和掌握财务案例分析方法，提高财务案例研究课程的教学质量和学生的学习效率，本课程将安排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次直播课堂以配合教学进度，其内容包括各章节重、难点解答、学习方法及学习时应注意的问题及解题思路的提示、期末复习要求。具体播出日期中央电大另行通知。 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5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作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财务案例研究课程本学期学生必须完成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次作业。四次大作业及期中测验进度安排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一次作业：案例一至案例四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二次作业：案例五至案例八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三次作业：案例九至案例十二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四次作业：案例十三至案例十四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另外，市电大将根据实际的教学进度和学生的具体情况，安排离线作业，希望同学们按时完成。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         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《财务案例研究》充分体现财务管理理论、实务与政策的有机统一。对于财务管理理论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 ，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我们通过以前的专业课程的学习已有一定的理论基础，但是，对于财务政策和财务实务大家比较陌生，吃透财务政策，熟悉财务实务也正是这门课程的重点所在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政策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要掌握财务政策，除了教材中提供的政策背景资料之外，我认为还应研读政策原文，这样才能准确全面的理解政策精神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查找政策原文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研读政策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政策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查找政策原文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【举例】案例一涉及到的政策法规有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    ①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《中华人民共和国公司法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     ②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《上市公司章程指引》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     ③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《中国上市公司治理准则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     ④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中国证监会《关于在上市公司建立独立董事制度的指导意见》 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政策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研读政策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应全面研读政策，完整准确地把握政策实质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应结合案例研读，对案例所涉及到的政策内容应结合案例进行对照研究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实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财务实务是在财务理论指导下，在财务政策的规范下进行的。在学习财务实务 时，一方面要原原本本的学，注意方法、步骤、程序等实务问题，同时还应注意在实务背后的理论和政策规范，把三者统一起来，从而达到提高专业技能的目的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㈡要结合主讲教师对案例的点评，进行重点思考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一个实务案例会涉及到方方面面的问题，在研究一个具体案例时，不能眉毛胡子一把抓，要结合主讲教师对案例的点评，进行重点思考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讲授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课程性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课程主要内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教学媒体使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教学环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学习方法建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作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【举例】案例一主讲教师对案例进行了五个方面的点评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（一）公司治理结构是财务管理的基础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 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（二）公司财务分层管理架构</a:t>
            </a: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；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(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三）专业委员会和独立董事制度能够夯实治理结构，提升财务决策与监控效率；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(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四）治理结构中各机构责权需要适度“量化”；</a:t>
            </a: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(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五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)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真正实现“事业部”的架构任重道远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我们在研究这个案例时要结合主讲教师对案例的点评，进行重点思考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㈢ 要进行延伸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对于案例的把握，不要局限于教材和主讲教师的分析，要有自己的分析和观点，对于教材涉及到而又没有进行讲解的重要内容应进行延伸性学习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㈢ 要进行延伸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【举例】在案例一的思考题中，有一个名词解释“类别股东”，这个名词在案例材料中并未出现，而掌握这个概念对理解案例内容十分重要，那么我们如何学习这个概念呢？我们可以充分利用网络资源进行延伸性学习——我们到互联网上去查一查什么是“类别股东”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㈣要积极进行学习交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由于案例材料涉及方方面面的问题，一个人的思考和理解总是存在着局限性，同时，我们每个人在学习时也会存在着这样那样的疑问，这时就要主动的进行学习交流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六、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我如何学习《财务案例研究》这门课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（ 《财务案例研究》 学习计划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9480" y="4572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58c"/>
                </a:solidFill>
                <a:latin typeface="Tahoma"/>
              </a:rPr>
              <a:t>谢谢大家，再见！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XX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年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月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一、课程性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、高级性。《财务案例研究 》是在专科《企业财务管理》、《中级财务会计》、《管理会计》和《审计学原理》以及本科《高级财务会计》、《高级财务管理》等课程的基础上，为进一步提高学生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理论层次和管理能力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而设置的一门专业课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一、课程性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综合性。  《财务案例研究》充分体现财务管理理论、实务与政策的有机统一，通过案例致力于培养学员清晰的专业理念、高超的专业技能和敏锐的专业判断 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一、课程性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实践性。《财务案例研究》充分体现财务管理活动不能脱离特定的理财环境 ，以中国上市公司的案例为主就财务管理领域中的新的、特殊的管理问题进行阐述， 注重对学生研究能力和实践能力的培养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二、教学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1371600"/>
          <a:ext cx="8076960" cy="4654440"/>
        </p:xfrm>
        <a:graphic>
          <a:graphicData uri="http://schemas.openxmlformats.org/drawingml/2006/table">
            <a:tbl>
              <a:tblPr/>
              <a:tblGrid>
                <a:gridCol w="2286000"/>
                <a:gridCol w="579096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教学内容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文字教材案例名称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_x000b__x000c_"/>
                        </a:rPr>
                        <a:t>一、财务 基础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一：  华南石油化工股份有限公司治理结构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二：  华北汽车集团母子公司控制体制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4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二、筹资运作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二：贵州仙酒股份有限公司的改制上市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三：</a:t>
                      </a: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01</a:t>
                      </a: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年中国长江三峡工程开发总公司企             业债券发行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四：    吴越仪表发行可转换债券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三、资产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五：     绿远公司固定资产投资可行性评价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八：   东亚石化集团财务公司内部结算中心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四、企业内部控制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六   上海胜华制药有限公司企业内部控制制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二、教学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1397160"/>
          <a:ext cx="8153280" cy="4876560"/>
        </p:xfrm>
        <a:graphic>
          <a:graphicData uri="http://schemas.openxmlformats.org/drawingml/2006/table">
            <a:tbl>
              <a:tblPr/>
              <a:tblGrid>
                <a:gridCol w="2362320"/>
                <a:gridCol w="579096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教学内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文字教材案例名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五、盈利分配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九：    凌波石化目标利润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一：  川江控股股份有限公司股利分配方案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六、业绩评价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：    中国华资集团的业绩评价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七、资产重组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三：  兰岛啤酒集团购并扩张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八、预算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d0e1d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七：    山东新华集团全面预算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九、财务战略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d0e1d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四：   深科新出售深佳和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三、教学媒体使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文字教材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本课程的文字教材是汤谷良编著的《财务案例研究》，中央广播电视大学出版社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200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年出版。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音像教材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音像教材为录像教材，共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课时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r>
              <a:rPr b="0" lang="zh-CN" sz="4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自学及 学习小组活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   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《财务案例研究》是在本科阶段高年级开设的一门理论性与实践性较强的课程，带有一定的研究性质。同学们在这门课程的学习过程中，要充分发挥学习的自主性，进行研究性学习，同时，希望大家很好地利用学习小组活动，进行充分的讨论和交流，以期共同提高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学习 财务案例</cp:keywords>
  <dc:language>en-US</dc:language>
  <cp:lastModifiedBy/>
  <cp:revision>0</cp:revision>
  <dc:subject/>
  <dc:title/>
</cp:coreProperties>
</file>