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A677-2E81-4054-8EED-39B19204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6CD2-7F87-4B14-83A4-C6E16A7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B308A-B459-454A-84D5-E69F9F03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A54B-3D2F-4B88-9A9E-C2C7DBB7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128D-FEE8-4EFC-A85E-7CA08896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B099-E825-4AF0-BD2D-D040094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42C-C84D-44F1-9BDE-515FA9DB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E06-7468-4007-B7D5-9D69A334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EB28-894E-4932-B343-A8611446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8D5B-FFD6-41CD-A2DA-48B5860E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3F59-F3E0-4B90-B4D2-4A31AD1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49D4-509E-4899-BDCA-CCD2A631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956B-A7B1-4B18-827B-0B13622D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D941-4B84-4BEB-AFEB-388FB4F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B48-01E8-4BDB-9AA8-2A99CBD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8356-F533-4BBD-8820-579E1EC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7233-56E5-49B1-8A18-D92C860E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B76E-B0DE-48F8-9C19-CFA638F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BCF0-C41B-4F33-8195-A1E4CBB1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F24F-8F93-45DF-9100-969FAA06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1C6A-952C-445D-B99D-48C2E9A2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47171-AF6E-4DE1-9C61-877DB6A3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D5D4-417F-41FF-AFC7-FCFE800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A531-3622-4177-8BF7-BE281D8B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19E9-7E8D-4010-AC3D-8B029AE2901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290-EEFD-4757-9A10-3308CC44C14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zhkc@tom.com2004&#24180;6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认识学校教育科研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060640"/>
            <a:ext cx="676944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2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XXX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Email: XXX</a:t>
            </a:r>
            <a:r>
              <a:rPr b="0" lang="zh-CN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XXX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2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0XX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527400"/>
            <a:ext cx="86407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“服务”意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教科室的工作要贴近学校，贴近教育工作，贴近教师。一句话，就是要为学校服务，为教育教学服务，为教师服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2714400"/>
            <a:ext cx="8064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“过程”意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教育科研过程就是一个积累的过程，理论指导实践的过程，实践经验总结与升华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学校教科室要加强科研过程管理，特别是课程的过程管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996440"/>
            <a:ext cx="874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“创新”意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开拓创新能力，是教师科研能力发展到成熟阶段后达到的一种高级境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二）注重五个结合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理论与实践相结合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工作与研究相结合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　   要在工作中研究，在研究中工作，工作为研究提供实践资料，研究推动工作效率的稳定提高。最困难的教学环境最容易出研究成果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1562400"/>
            <a:ext cx="878544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研究成果与成果推广应用相结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长与短相结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一是对教师的培养要长短结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二是要注重长时效益与短时效益的结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独立研究与合作研究相结合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四、学校教育科研的一般流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黑体"/>
              </a:rPr>
              <a:t>（一）课题的形成与选题的确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选题的重要意义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科学研究始于问题；科研为了解决问题，课题来自问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选题决定研究的方向和水平；学会正确选题是科研工作者的基本功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●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课题的形成和选题的提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1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、形成课题和选择课题的原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需要性原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创造性原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科学性原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可行性原则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2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、课题的来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下达课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自选课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、选题的程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提出问题——明确问题——筛选问题——确定选题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二）课题申报与立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填写课题申请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进行课题论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三）制定研究方案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课题名称、选题意义、研究背景、研究目的、研究内容、核心概念的界定，研究对象、研究方法、具体研究步骤和研究计划、课题机构、预期研究成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四）实施研究计划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aramond"/>
              </a:rPr>
              <a:t>实施——反思——调整——再实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79840" y="98568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57680"/>
            <a:ext cx="89647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一、学校教育开展教育科研的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二、当前中小学教育科研存在的主要问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三、学校教育科研要树立“五种意识”、注重 “五 个结合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四、学校教育科研的一般流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五、学校教育科研的行动研究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六、学校科研工作的管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五）处理研究结果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对研究结果等材料作定量和定性分析、综合、抽象、提炼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（六）撰写研究报告（展示研究成果）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调查报告、实验报告、行动研究报告、经验总结、论文案例等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、学校教育科研的行动研究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一）、行动研究法的特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实际工作者即研究人员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研究环境处于完全自然的状态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在理论探索和解决实际问题两大研究目的中，偏重于实践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强调研究过程与行动过程的有机结合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在研究过程中，阶段性的评介反思和连续性评价反思相结合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二）行动研究的六个“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W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由谁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进行行动研究：教师可以是行动研究的主角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什么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值得行动研究：行动研究的内容 ——课程、教学、学生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何处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where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进行行动研究：行动研究的情境——学校、课堂、社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9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976400"/>
            <a:ext cx="8137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为何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why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进行行动研究：行动是为了改善教学工作（解决问题、提升教学质量），研究是为了增进知识（了解问题、改善策略、专业成长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如何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how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进行行动研究：行动研究的设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何时（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when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）进行行动研究：行动研究的计划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（三）行动研究法应用的基本步骤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在工作实践中发现问题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归纳整理问题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选择问题 （选定研究课题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界定问题（确定问题范围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分析问题（诊断问题原因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文献探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1553040"/>
            <a:ext cx="835164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设立假说（将要采取的行动及由此带来的结果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拟定计划（行动计划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收集资料（可借助于调查法、实验法、测验法等收集数据等资料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实施和修正计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总结并作综合解释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六、学校科研工作的管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8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建立管理制度的意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利于促进中小学教育科研工作科学化、规范化、制度化、经常化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管理制度的内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学校教育科研管理制度可包括组织与队伍管理、规划或计划管理、任务与目标管理、课题管理、科研经费管理等内容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3</a:t>
            </a: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、制定原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全面性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导向性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）可操作性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（二）学校科研课题的管理内容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与管理程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课题的申报与立项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课题方案制订、论证及开题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课题的实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根据制订的研究方案，认真地实施，并收集有关情况与数据，积累研究资料，做好研究记录，并及时调整、修改研究方案中的不足之处，完善实验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一、学校教育开展教育科研的意义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教育科学研究是衡量一个国家教育发展水平的重要标志，重视教育科研已成为当今世界教育改革与发展的潮流。随着教育改革的不断深化，“教研”与“科研”正渐渐趋于融合。“向教育科研要教学质量，向教育科研要教育水平”，已成为越来越多的教育工作者的共识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45960" y="1343880"/>
            <a:ext cx="1096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中期检查及阶段性总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成果鉴定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推荐课题成果申报评奖和组织推广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建立学校科研管理档案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87640" y="2492280"/>
            <a:ext cx="333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Garamond"/>
              </a:rPr>
              <a:t>谢   谢</a:t>
            </a:r>
            <a:r>
              <a:rPr b="1" lang="zh-CN" sz="8000" spc="-1" strike="noStrike">
                <a:solidFill>
                  <a:srgbClr val="ff0000"/>
                </a:solidFill>
                <a:latin typeface="Garamond"/>
              </a:rPr>
              <a:t>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一）学校教育科研是校本培训教师队伍最有效的途径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学校教育科研能促进教师在课题研究的过程中，自觉地、主动地学习和钻研教育科学的理论，从而有助于提高教师的教育理论水平，自觉的按教育规律办事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学校教育科研能促使教师在各自的课题研究的实践中，互相合作、取长补短，从而有助于不断提高教师的科研意识和科研能力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（二）学校教育科研是促进学校可持续发展的需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学校教育科研能为学校科学决策，确立办学理念和确定办学目标，提供科学的思路和科学的手段，有助于学校形成自己的办学特色和办学品牌，不断提升办学水平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学校教育科研有助于学校对全面推进素质教育作积极的、科学的探索，从而从学校办学的实际出发，寻找实施素质教育突破口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40960"/>
            <a:ext cx="8713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学校教育科研有助学校通过课题研究，有针对性地解决学校教育教学和管理工作中出现的各种问题，不断提到学校教育教学质量，促进学校和谐发展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二、当前中小学教育科研存在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的主要问题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思想认识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科研兴校”只是停留在口号上。在实施过程中认为远水救不了近火，甚至认为科研是专家的事，教师本职工作是教书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价值取向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为追求政绩与轰动效应，提高学校知名度而搞教育科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982800"/>
            <a:ext cx="8326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操作策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重“写”文章，轻“做”课题，重“发表”论文、获奖等结果，轻研究过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877120"/>
            <a:ext cx="820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科研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下移学院式的研究，旨在贴标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2360" y="4815000"/>
            <a:ext cx="8472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实施行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依赖专家、顾问，而轻本校教师参与，满足      于“点”上开花，忽视“面”上结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三、学校教育科研要树立五种意识、注重五个结合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一）五种意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“先导”意识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“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工欲善其事，必先利其器。”对教育教学而言，教育科研就是那块“不误砍柴功”的磨刀石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　　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“主动”意识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没有教育科研的现代意识，视教育研究为不切实际又没有多少实在意义的份外追求，也就没有自觉的科研意识与行动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学校 教育 科研</cp:keywords>
  <dc:language>en-US</dc:language>
  <cp:lastModifiedBy/>
  <cp:revision>0</cp:revision>
  <dc:subject/>
  <dc:title/>
</cp:coreProperties>
</file>