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BB7-D413-4406-9300-89054AB6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0AC-4894-424B-AC8E-345F7282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21E-39D6-4296-AF8A-B78C1190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A78-545A-4498-A56A-EE13FB41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80E3-6751-4A91-9CC3-72E9892A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7E56-825F-42C4-A5E5-0B862F24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0DEE-A302-4CDB-8B5F-14D22051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D2DF-3B47-4A8B-A32D-DE49510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1087-6A05-467D-90D3-F2FA3A35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E03C-34E5-495D-A754-403D0C7D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CF87-10EC-4499-84CB-32F92FF7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F55-B4B1-4FE1-84F3-7D2F6C9D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2A5F-5CE6-4F70-A7FD-231B9FFA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D6C4-B4FB-4081-94BC-20952CEC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2C1C-F1D8-4BF6-9858-D06911B7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29A0-513D-4D24-A6B9-4A445009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E8A6-939E-4401-8717-083F8BC5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8DC-C856-44C7-93C9-49AB41EB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89A-D3BA-4D09-9FED-BE01D02E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ACF-6EAE-4548-8F3F-5D11AB7C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61F-17C1-4156-ADC2-94D870DC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009-C88F-442E-B459-B144FFEC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DC5-B4A9-4269-A9F0-4E076AAF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DB4-FC29-4C45-998D-D79A1C3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9FDB-6BB6-44D0-84BC-BDD3F57C292F}" type="slidenum">
              <a:rPr b="0" lang="zh-TW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7D67-E03E-480E-A875-095E105D355C}" type="slidenum">
              <a:rPr b="0" lang="zh-TW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cc66"/>
                </a:solidFill>
                <a:latin typeface="標楷體"/>
                <a:ea typeface="標楷體"/>
              </a:rPr>
              <a:t>認知心理學導論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定義與內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誕生經過及重要人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本學期課程介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如果情緒和理智打架，那邊會佔上風？我們的心情和感受如何影響我們對訊息的判斷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之內涵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2672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感覺、知覺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注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記憶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理解、思維、語言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決策、問題解決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動機、意識、情緒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認知心理學的誕生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3716280"/>
            <a:ext cx="1800000" cy="1224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哲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414972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645000"/>
            <a:ext cx="1873080" cy="1368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心理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92720" y="4257360"/>
            <a:ext cx="819720" cy="216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3789360"/>
            <a:ext cx="1871640" cy="1152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認知心理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PART1:</a:t>
            </a: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哲學的淵源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02560" cy="9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哲學：人的知識從何而來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553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PART2:</a:t>
            </a: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心理學的基礎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心理學：透過科學的方法，以瞭解人類心智結構，運作歷程，以及學習的機制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 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不同心理學派典：結構論，功能論，連結論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                       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行為學 派…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PART3:</a:t>
            </a:r>
            <a:r>
              <a:rPr b="1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正式登場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1960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年代末 </a:t>
            </a:r>
            <a:r>
              <a:rPr b="0" lang="zh-TW" sz="3600" spc="-1" strike="noStrike" u="sng">
                <a:solidFill>
                  <a:srgbClr val="cc00cc"/>
                </a:solidFill>
                <a:uFillTx/>
                <a:latin typeface="Times New Roman"/>
                <a:ea typeface="標楷體"/>
              </a:rPr>
              <a:t>認知心理學勢力抬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1692360" y="2781000"/>
            <a:ext cx="380880" cy="6094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35002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967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年第一本認知心理學的教科書出版，作者：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U. Neis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的研究方法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實驗室實驗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生理測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案主自我報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個案研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自然觀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電腦模擬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/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人工智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本學期課程簡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50920" y="2492280"/>
            <a:ext cx="50101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cc66"/>
                </a:solidFill>
                <a:latin typeface="Times New Roman"/>
                <a:ea typeface="標楷體"/>
              </a:rPr>
              <a:t>定義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認知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cognition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      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--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人類思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認知心理學</a:t>
            </a: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cognitive psychology</a:t>
            </a: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    </a:t>
            </a: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--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探討人類如何處理知覺，學習，記憶，和思考的科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34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為什麼我們會對有些人，事，物的記憶特別深刻？有些又忘得很快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人家說：眼見為憑。請問：車禍目擊者的說法是否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100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％正確，足以採信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為什麼人會「看走眼」？明明是「接骨所」卻誤以為是「排骨店」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為什麼很普通的女人，可以造出高挑又美麗的模特兒造型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846920" cy="18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會下棋的高手和初學者記憶棋子和思索下棋步驟的方式有何差別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人類怎麼學會語言的？或是語言的習得是天生能力的？語言會不會影響一個人的思考方式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可不可以造出和人腦一樣聰明的機器人，讓他們具有人工智慧（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AI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）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認知心理學研究什麼樣的問題？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大腦的功能和運作對我們的思考和行為產生什麼影響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認知 心理學 導論</cp:keywords>
  <dc:language>en-US</dc:language>
  <cp:lastModifiedBy/>
  <cp:revision>0</cp:revision>
  <dc:subject/>
  <dc:title/>
</cp:coreProperties>
</file>