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ED9-D27A-4079-8602-6357667A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776-4316-49D3-86ED-90DD938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AA2-98FB-457B-AD9D-604AAA2C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F3C-1278-442A-8EFE-D633573D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B08-C59E-439B-AEDA-54A511A9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D4C-EF83-4F99-9F90-FEBA8216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EFE-5A92-4F5A-8AB2-4109E71B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0B2-9E6D-4ECC-9B03-F767C1A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508-77D6-4045-BE81-CFFC832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80E-C058-444F-85A6-154DD88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EF1-5203-4917-B25F-BBA3F05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850-C01F-443D-8121-E21817A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0670-E335-486B-B7D9-0E23A787C1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3720" y="3048120"/>
            <a:ext cx="464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市场交易的原则</a:t>
            </a:r>
            <a:endParaRPr b="0" lang="en-US" sz="60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2743200" cy="35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（一）市场交易原则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市场交易原则是市场交易活动中必须遵守的规则和秩序的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市场交易原则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335268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保证市场交易活动有秩序、按规则进行的基本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规范经营者和消费者交易活动的章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049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57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市场交易原则的内容——自愿、平等、公平、诚实信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981080"/>
            <a:ext cx="3200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d4d4d"/>
                </a:solidFill>
                <a:uFillTx/>
                <a:latin typeface="Times New Roman"/>
                <a:ea typeface="黑体"/>
              </a:rPr>
              <a:t>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d4d4d"/>
                </a:solidFill>
                <a:uFillTx/>
                <a:latin typeface="Times New Roman"/>
                <a:ea typeface="黑体"/>
              </a:rPr>
              <a:t>诚实信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514600" cy="327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（三）坚持市场交易原则的必要性及现实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2133720"/>
            <a:ext cx="7769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商品是天生的平等派</a:t>
            </a:r>
            <a:endParaRPr b="0" lang="en-US" sz="7200" spc="1" strike="noStrike">
              <a:ln w="19080">
                <a:solidFill>
                  <a:srgbClr val="00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6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525780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马克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800" y="685800"/>
            <a:ext cx="6705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县城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农民于某买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“秋光”稻种，因为误买的是伪劣种子，秋收时，每亩减产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，造成损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二十几户农民，种下了从锦州义县购进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玉米种，秋收时竟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结玉米棒，造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地歉收，经济损失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春节期间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假酒案又有上百人受害，多人失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交易 原则</cp:keywords>
  <dc:language>en-US</dc:language>
  <cp:lastModifiedBy/>
  <cp:revision>0</cp:revision>
  <dc:subject/>
  <dc:title/>
</cp:coreProperties>
</file>