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FEE-7006-48E8-BB18-35D339FD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18B-E987-4580-9D56-DA10CB0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7AA-AA00-429D-A9B8-8EF46448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EB9-3B35-45D5-A9C5-A13FF665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D5C1-F4E9-4C2E-8247-5052B80B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708-1848-4606-B057-311CF1A6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C3B-8B3F-4E3C-839F-00370139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732-F7D5-4548-AE72-FCC30913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4CA8-38A5-4404-AC0D-9841D134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1240-3FF3-4B45-A722-B79DA999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71C1-694B-42B5-85F7-B299F98D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73F-A95D-4C1A-9D70-FD4860E4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02FD-94C7-4696-8E2F-CB512FFB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08AB-F07A-4832-9530-7BBE254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B980-4381-4985-B1E0-B8517F71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F874-E02F-4DA7-8A34-5B8496A2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876A-4B7D-43E1-86D9-C5442E2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DA3-2E41-4C6A-A32F-81CEA9A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524-F60A-492A-A9E0-EC25DEA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018-889A-4B0B-AA3D-273998F2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37A-D445-4223-9CA9-E3A1949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E9C-3E7D-4C18-BE15-BFD2110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197-3F41-48B9-A196-525A3B9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EB3-1E55-4D3C-9129-2F09B9E8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BDAF-B226-4185-B201-869259677ABB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3AB-25D9-4240-BED2-DA61A4F166C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ahoma"/>
              </a:rPr>
              <a:t>XXX</a:t>
            </a:r>
            <a:r>
              <a:rPr b="0" lang="zh-CN" sz="5400" spc="-1" strike="noStrike">
                <a:solidFill>
                  <a:srgbClr val="660066"/>
                </a:solidFill>
                <a:latin typeface="Tahoma"/>
              </a:rPr>
              <a:t>市场商情数据库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ahoma"/>
                <a:ea typeface="隶书"/>
              </a:rPr>
              <a:t>图书馆情报咨询部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金融市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金融市场刊物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有关金融证券的出版物，如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DRC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国研金融聚焦、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Stock Market Statistics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、深交所月度统计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市场指数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：提供上交所、深交所的证券市场指数行情列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符号查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输入股票代码，可查看该股票行情及走势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法规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法律法规刊物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关于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国法律法规的报刊和全文数据库，如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XX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国法律法规数据库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China Law and Practice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EIU Politic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法律新闻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中外重要报刊的法律新闻，如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人民日报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Asia Times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研究报告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检索界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报告类型、语种、公司、行业及研究机构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个检索字段组配检索，词间为逻辑算符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And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关系。在下拉菜单中选择检索内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研究刊物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研究刊物列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推荐重要研究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检索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查询关于鞍钢新轧钢的中英文研究报告</a:t>
            </a:r>
            <a:br>
              <a:rPr sz="3200"/>
            </a:b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查询有关教育服务业和文化娱乐业的行业分析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信息来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刊物查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对刊物的名称进行检索，出版物包括新闻报刊、证券报告、调查报告、政府报告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按出版机构划分刊物</a:t>
            </a:r>
            <a:r>
              <a:rPr b="0" lang="zh-CN" sz="3200" spc="-1" strike="noStrike">
                <a:solidFill>
                  <a:srgbClr val="545472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出版机构下拉列表，查看该机构的出版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将出版机构分成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13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大类，选择类别查看出版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检索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全面检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为默认检索界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在检索框中可输入检索词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在三个下拉菜单中，对国家、语种、文献类型进行限定，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Shift+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为连选，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Ctrl+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为跳选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可对检索内容进行时间限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刊物查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可对一个或几个刊物的内容进行检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需独立检索的刊物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查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可在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个刊物和数据库内进行检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447920" y="1828800"/>
            <a:ext cx="6476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Lithograph"/>
              </a:rPr>
              <a:t>THANK  YOU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Lithograph"/>
              <a:ea typeface="Lithograp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简  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涉及经济、金融、市场、法律等领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市场范围为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52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个国家和地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信息来源于全球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4400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多种重要的媒体、政府部门、金融证券、咨询研究等信息机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中文信息的主要来源，如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XX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等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九大主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新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行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宏观经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金融市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法律法规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研究报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信息来源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MyISI</a:t>
            </a:r>
            <a:r>
              <a:rPr b="1" lang="zh-CN" sz="2400" spc="-1" strike="noStrike">
                <a:solidFill>
                  <a:srgbClr val="545472"/>
                </a:solidFill>
                <a:latin typeface="Tahoma"/>
              </a:rPr>
              <a:t>（我馆未购买）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934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新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新闻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中外关于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国市场的重要经济和行业报刊，可查看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当日最新内容和历史资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按刊物最近新闻：</a:t>
            </a: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可分刊物浏览今日和近三天的中英文新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Newswatch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今日要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行业分类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：可依据行业浏览新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新发布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最新市场商情出版物，如行业研究报告、统计图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ISI</a:t>
            </a: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特色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 ISI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推荐的刊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公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提供公司名称、公司名称首字母、公司所在行业三种检索途径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公司刊物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提供关于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国企业的报刊、研究报告和数据库等出版物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最近公司分析：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关于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国企业的最新分析报告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举  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ahoma"/>
              </a:rPr>
              <a:t>在企业主题中用上述三种途径检索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1" i="1" lang="zh-CN" sz="3600" spc="-1" strike="noStrike">
                <a:solidFill>
                  <a:srgbClr val="6600ff"/>
                </a:solidFill>
                <a:latin typeface="Tahoma"/>
              </a:rPr>
              <a:t>保险公司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关于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保险的新闻报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7696080" cy="472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4114800"/>
            <a:ext cx="60984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286000"/>
            <a:ext cx="1828800" cy="914400"/>
          </a:xfrm>
          <a:prstGeom prst="wedgeRoundRectCallout">
            <a:avLst>
              <a:gd name="adj1" fmla="val -152865"/>
              <a:gd name="adj2" fmla="val 194967"/>
              <a:gd name="adj3" fmla="val 166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可选择多条新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191120"/>
            <a:ext cx="3429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971800"/>
            <a:ext cx="1752480" cy="762120"/>
          </a:xfrm>
          <a:prstGeom prst="wedgeRoundRectCallout">
            <a:avLst>
              <a:gd name="adj1" fmla="val -65490"/>
              <a:gd name="adj2" fmla="val 92500"/>
              <a:gd name="adj3" fmla="val 166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也可直接点击阅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行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行业刊物：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提供各个行业的重要中英文报刊及行业研究和统计报告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行业简介：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将行业分成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11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大类，可进行分类检索，查看某行业的公司、新闻、分析报告和统计预测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宏观经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宏观经济刊物：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提供经济方面的重要刊物及机构对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国宏观经济的统计、分析和预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宏观统计：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提供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90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年代以来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国地区的宏观经济指标的实际值、共识预测以及宏观经济指标的界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大宏观经济指标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：人口就业信息、经济结构、价格与通货膨胀、财政信息、货币数据、金融体系、国际收支、债务及资本流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可将上述指标数据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excel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格式输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商情</cp:keywords>
  <dc:language>en-US</dc:language>
  <cp:lastModifiedBy/>
  <cp:revision>0</cp:revision>
  <dc:subject/>
  <dc:title/>
</cp:coreProperties>
</file>