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3A9B-75D6-4AF4-8B86-7165556D7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5601-BE3A-4CD0-B091-B10F391D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AD0B-1649-464A-A212-A9A4BF902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C8D6-E069-48C6-85DF-E27F9F71B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1144-1FB5-49CB-99DA-14568A1BF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4780-C6EF-4814-872C-3B8209F8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6F94-5E4E-44C3-AC96-E842452A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0C12-D3C5-4092-8094-FA74842A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F018-560F-4D69-9DAC-DA2D9A3E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2685-14AC-4E50-9F41-8B466486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E3F5-4BB4-4E05-8AF7-1608F3A7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CA47-0D78-417B-A77C-5A69439C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6D4F-F63C-404A-B059-888ECFF7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FABD-E0B0-4204-B32F-B9145269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14DE6-143B-4A76-B4A3-BC356F94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3828-9149-4BB2-8DF3-E75B187DB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EE19-B72A-460D-9E26-D59D3D27D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5ED8-06CE-44E0-87B7-EBD84218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1457-00F8-4042-B60D-193230D1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B641-EF17-424B-9F2E-57945D47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08B6-E503-49BD-9B40-C16EC8D06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378E-39FB-460D-909F-6C671988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591B-C8C4-4FF1-9A36-9A3B8B3A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520C-19A1-4EC0-8E79-26BE2478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EA29-74DB-4903-99A4-C8A2BEF006B0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1D2E-447A-4C04-8231-9CC0C1BFB164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76360" y="1557000"/>
            <a:ext cx="6192720" cy="14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6699"/>
                </a:solidFill>
                <a:latin typeface="Verdana"/>
                <a:ea typeface="华文行楷"/>
              </a:rPr>
              <a:t>第八章</a:t>
            </a:r>
            <a:endParaRPr b="1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68360" y="3789360"/>
            <a:ext cx="842472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0099"/>
                </a:solidFill>
                <a:latin typeface="Verdana"/>
                <a:ea typeface="黑体"/>
              </a:rPr>
              <a:t>市场营销管理过程</a:t>
            </a:r>
            <a:endParaRPr b="1" lang="en-US" sz="7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xh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792360" cy="792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19280" y="2204640"/>
            <a:ext cx="619272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Verdana"/>
                <a:ea typeface="华文琥珀"/>
              </a:rPr>
              <a:t>第一节</a:t>
            </a:r>
            <a:endParaRPr b="1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115640" y="3933720"/>
            <a:ext cx="752004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9933"/>
                </a:solidFill>
                <a:latin typeface="黑体"/>
                <a:ea typeface="黑体"/>
              </a:rPr>
              <a:t>企业战略规划与战略性营销规划</a:t>
            </a:r>
            <a:endParaRPr b="1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2" name="xh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7923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99"/>
                </a:solidFill>
                <a:latin typeface="Verdana"/>
                <a:ea typeface="黑体"/>
              </a:rPr>
              <a:t>一、战略性营销规划是企业战略规划的基础和重要组成部分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99"/>
                </a:solidFill>
                <a:latin typeface="Verdana"/>
                <a:ea typeface="黑体"/>
              </a:rPr>
              <a:t>二、战略性市场营销规划又是企业其他相关规划的基础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99"/>
                </a:solidFill>
                <a:latin typeface="Verdana"/>
                <a:ea typeface="黑体"/>
              </a:rPr>
              <a:t>三、企业战略规划中的市场营销活动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xh" descr=""/>
          <p:cNvPicPr/>
          <p:nvPr/>
        </p:nvPicPr>
        <p:blipFill>
          <a:blip r:embed="rId1"/>
          <a:stretch/>
        </p:blipFill>
        <p:spPr>
          <a:xfrm>
            <a:off x="324000" y="289080"/>
            <a:ext cx="718920" cy="68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76360" y="1844280"/>
            <a:ext cx="619272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Verdana"/>
                <a:ea typeface="华文琥珀"/>
              </a:rPr>
              <a:t>第二节</a:t>
            </a:r>
            <a:endParaRPr b="1" lang="en-US" sz="8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402920" y="436536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9933"/>
                </a:solidFill>
                <a:latin typeface="Verdana"/>
                <a:ea typeface="黑体"/>
              </a:rPr>
              <a:t>企业营销管理过程</a:t>
            </a:r>
            <a:endParaRPr b="1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7" name="xh" descr=""/>
          <p:cNvPicPr/>
          <p:nvPr/>
        </p:nvPicPr>
        <p:blipFill>
          <a:blip r:embed="rId1"/>
          <a:stretch/>
        </p:blipFill>
        <p:spPr>
          <a:xfrm>
            <a:off x="324000" y="289080"/>
            <a:ext cx="718920" cy="68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7012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Verdana"/>
              </a:rPr>
              <a:t>企业营销管理过程由五个步骤组成：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99"/>
                </a:solidFill>
                <a:latin typeface="黑体"/>
                <a:ea typeface="黑体"/>
              </a:rPr>
              <a:t>分析企业市场机会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99"/>
                </a:solidFill>
                <a:latin typeface="黑体"/>
                <a:ea typeface="黑体"/>
              </a:rPr>
              <a:t>研究与选择目标市场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99ff"/>
                </a:solidFill>
                <a:uFillTx/>
                <a:latin typeface="黑体"/>
                <a:ea typeface="黑体"/>
              </a:rPr>
              <a:t>制定战略性市场营销规划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99ff"/>
                </a:solidFill>
                <a:uFillTx/>
                <a:latin typeface="黑体"/>
                <a:ea typeface="黑体"/>
              </a:rPr>
              <a:t>规划与执行市场营销组合策略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66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99"/>
                </a:solidFill>
                <a:latin typeface="黑体"/>
                <a:ea typeface="黑体"/>
              </a:rPr>
              <a:t>实施市场营销控制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0" name="xh" descr=""/>
          <p:cNvPicPr/>
          <p:nvPr/>
        </p:nvPicPr>
        <p:blipFill>
          <a:blip r:embed="rId1"/>
          <a:stretch/>
        </p:blipFill>
        <p:spPr>
          <a:xfrm>
            <a:off x="179280" y="246240"/>
            <a:ext cx="576360" cy="5904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443640" y="6021360"/>
            <a:ext cx="201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99ff"/>
                </a:solidFill>
                <a:uFillTx/>
                <a:latin typeface="Verdana"/>
                <a:ea typeface="华文隶书"/>
              </a:rPr>
              <a:t>单击进入复习思考题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企业战略性营销分析中，流行的“</a:t>
            </a:r>
            <a:r>
              <a:rPr b="0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SWOT”</a:t>
            </a:r>
            <a:r>
              <a:rPr b="0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分析法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9116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c0099"/>
              </a:buClr>
              <a:buFont typeface="华文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99"/>
                </a:solidFill>
                <a:latin typeface="华文隶书"/>
                <a:ea typeface="华文隶书"/>
              </a:rPr>
              <a:t>“</a:t>
            </a:r>
            <a:r>
              <a:rPr b="0" lang="zh-CN" sz="4800" spc="-1" strike="noStrike">
                <a:solidFill>
                  <a:srgbClr val="cc0099"/>
                </a:solidFill>
                <a:latin typeface="华文隶书"/>
                <a:ea typeface="华文隶书"/>
              </a:rPr>
              <a:t>SWOT”</a:t>
            </a:r>
            <a:r>
              <a:rPr b="0" lang="zh-CN" sz="4800" spc="-1" strike="noStrike">
                <a:solidFill>
                  <a:srgbClr val="cc0099"/>
                </a:solidFill>
                <a:latin typeface="华文隶书"/>
                <a:ea typeface="华文隶书"/>
              </a:rPr>
              <a:t>分析法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黑体"/>
                <a:ea typeface="黑体"/>
              </a:rPr>
              <a:t>S — </a:t>
            </a:r>
            <a:r>
              <a:rPr b="0" lang="zh-CN" sz="2800" spc="-1" strike="noStrike">
                <a:solidFill>
                  <a:srgbClr val="006699"/>
                </a:solidFill>
                <a:latin typeface="黑体"/>
                <a:ea typeface="黑体"/>
              </a:rPr>
              <a:t>企业内部的能力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黑体"/>
                <a:ea typeface="黑体"/>
              </a:rPr>
              <a:t>W — </a:t>
            </a:r>
            <a:r>
              <a:rPr b="0" lang="zh-CN" sz="2800" spc="-1" strike="noStrike">
                <a:solidFill>
                  <a:srgbClr val="006699"/>
                </a:solidFill>
                <a:latin typeface="黑体"/>
                <a:ea typeface="黑体"/>
              </a:rPr>
              <a:t>企业的薄弱环节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黑体"/>
                <a:ea typeface="黑体"/>
              </a:rPr>
              <a:t>O — </a:t>
            </a:r>
            <a:r>
              <a:rPr b="0" lang="zh-CN" sz="2800" spc="-1" strike="noStrike">
                <a:solidFill>
                  <a:srgbClr val="006699"/>
                </a:solidFill>
                <a:latin typeface="黑体"/>
                <a:ea typeface="黑体"/>
              </a:rPr>
              <a:t>来自企业外部的机会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黑体"/>
                <a:ea typeface="黑体"/>
              </a:rPr>
              <a:t>T — </a:t>
            </a:r>
            <a:r>
              <a:rPr b="0" lang="zh-CN" sz="2800" spc="-1" strike="noStrike">
                <a:solidFill>
                  <a:srgbClr val="006699"/>
                </a:solidFill>
                <a:latin typeface="黑体"/>
                <a:ea typeface="黑体"/>
              </a:rPr>
              <a:t>企业面临外部的威胁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4" name="xh" descr=""/>
          <p:cNvPicPr/>
          <p:nvPr/>
        </p:nvPicPr>
        <p:blipFill>
          <a:blip r:embed="rId1"/>
          <a:stretch/>
        </p:blipFill>
        <p:spPr>
          <a:xfrm>
            <a:off x="250920" y="317520"/>
            <a:ext cx="576000" cy="5904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804000" y="5950080"/>
            <a:ext cx="194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99ff"/>
                </a:solidFill>
                <a:uFillTx/>
                <a:latin typeface="Verdana"/>
                <a:ea typeface="黑体"/>
              </a:rPr>
              <a:t>单击返回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580000" y="1773360"/>
            <a:ext cx="3024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68000" y="692280"/>
            <a:ext cx="821844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9933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9933"/>
                </a:solidFill>
                <a:latin typeface="黑体"/>
                <a:ea typeface="黑体"/>
              </a:rPr>
              <a:t>市场营销组合：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黑体"/>
                <a:ea typeface="黑体"/>
              </a:rPr>
              <a:t>企业在选定的目标市场上，综合考虑环境、能力、竞争状况等因素，对企业自身可以控制的因素加以最佳组合和运用，以完成企业的目标与任务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99"/>
              </a:buClr>
              <a:buFont typeface="华文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99"/>
                </a:solidFill>
                <a:latin typeface="华文隶书"/>
                <a:ea typeface="华文隶书"/>
              </a:rPr>
              <a:t>4P</a:t>
            </a:r>
            <a:r>
              <a:rPr b="0" lang="zh-CN" sz="4000" spc="-1" strike="noStrike">
                <a:solidFill>
                  <a:srgbClr val="cc0099"/>
                </a:solidFill>
                <a:latin typeface="华文隶书"/>
                <a:ea typeface="华文隶书"/>
              </a:rPr>
              <a:t>组合：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产品</a:t>
            </a:r>
            <a:r>
              <a:rPr b="0" lang="zh-CN" sz="28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（</a:t>
            </a:r>
            <a:r>
              <a:rPr b="0" lang="zh-CN" sz="2800" spc="-1" strike="noStrike">
                <a:solidFill>
                  <a:srgbClr val="0000ff"/>
                </a:solidFill>
                <a:latin typeface="华文行楷"/>
                <a:ea typeface="华文行楷"/>
              </a:rPr>
              <a:t>product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       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价格 </a:t>
            </a:r>
            <a:r>
              <a:rPr b="0" lang="zh-CN" sz="2800" spc="-1" strike="noStrike">
                <a:solidFill>
                  <a:srgbClr val="0000ff"/>
                </a:solidFill>
                <a:latin typeface="华文行楷"/>
                <a:ea typeface="华文行楷"/>
              </a:rPr>
              <a:t>(price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              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渠道 </a:t>
            </a:r>
            <a:r>
              <a:rPr b="0" lang="zh-CN" sz="2800" spc="-1" strike="noStrike">
                <a:solidFill>
                  <a:srgbClr val="0000ff"/>
                </a:solidFill>
                <a:latin typeface="华文行楷"/>
                <a:ea typeface="华文行楷"/>
              </a:rPr>
              <a:t>(place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                       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促销 </a:t>
            </a:r>
            <a:r>
              <a:rPr b="0" lang="zh-CN" sz="2800" spc="-1" strike="noStrike">
                <a:solidFill>
                  <a:srgbClr val="0000ff"/>
                </a:solidFill>
                <a:latin typeface="华文行楷"/>
                <a:ea typeface="华文行楷"/>
              </a:rPr>
              <a:t>(promotion)</a:t>
            </a:r>
            <a:r>
              <a:rPr b="0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8" name="xh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611280" cy="6177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7272360" y="5877000"/>
            <a:ext cx="1871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99ff"/>
                </a:solidFill>
                <a:uFillTx/>
                <a:latin typeface="Verdana"/>
                <a:ea typeface="华文隶书"/>
              </a:rPr>
              <a:t>单击返回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Verdana"/>
                <a:ea typeface="黑体"/>
              </a:rPr>
              <a:t>复习思考题</a:t>
            </a:r>
            <a:endParaRPr b="0" lang="en-US" sz="6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66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99"/>
                </a:solidFill>
                <a:latin typeface="黑体"/>
                <a:ea typeface="黑体"/>
              </a:rPr>
              <a:t>1</a:t>
            </a:r>
            <a:r>
              <a:rPr b="0" lang="zh-CN" sz="4400" spc="-1" strike="noStrike">
                <a:solidFill>
                  <a:srgbClr val="006699"/>
                </a:solidFill>
                <a:latin typeface="黑体"/>
                <a:ea typeface="黑体"/>
              </a:rPr>
              <a:t>、简述</a:t>
            </a:r>
            <a:r>
              <a:rPr b="0" lang="zh-CN" sz="4400" spc="-1" strike="noStrike">
                <a:solidFill>
                  <a:srgbClr val="006699"/>
                </a:solidFill>
                <a:latin typeface="黑体"/>
                <a:ea typeface="黑体"/>
              </a:rPr>
              <a:t>SWOT</a:t>
            </a:r>
            <a:r>
              <a:rPr b="0" lang="zh-CN" sz="4400" spc="-1" strike="noStrike">
                <a:solidFill>
                  <a:srgbClr val="006699"/>
                </a:solidFill>
                <a:latin typeface="黑体"/>
                <a:ea typeface="黑体"/>
              </a:rPr>
              <a:t>分析法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66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99"/>
                </a:solidFill>
                <a:latin typeface="黑体"/>
                <a:ea typeface="黑体"/>
              </a:rPr>
              <a:t>2</a:t>
            </a:r>
            <a:r>
              <a:rPr b="0" lang="zh-CN" sz="4400" spc="-1" strike="noStrike">
                <a:solidFill>
                  <a:srgbClr val="006699"/>
                </a:solidFill>
                <a:latin typeface="黑体"/>
                <a:ea typeface="黑体"/>
              </a:rPr>
              <a:t>、简述市场营销组合及特点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2" name="xh" descr=""/>
          <p:cNvPicPr/>
          <p:nvPr/>
        </p:nvPicPr>
        <p:blipFill>
          <a:blip r:embed="rId1"/>
          <a:stretch/>
        </p:blipFill>
        <p:spPr>
          <a:xfrm>
            <a:off x="250920" y="369720"/>
            <a:ext cx="50472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3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8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市场 营销 管理</cp:keywords>
  <dc:language>en-US</dc:language>
  <cp:lastModifiedBy/>
  <cp:revision>0</cp:revision>
  <dc:subject/>
  <dc:title/>
</cp:coreProperties>
</file>