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4EC7-B510-4DB6-B2B0-A5628A3DB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7B1C-1248-41EB-B09F-C78CBAA6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1DCD-23F4-42FE-80B3-D60FB55CF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08F2-0742-43CF-A96F-1900538CD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C500-077A-4DC9-B614-399375975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25FD-FC6B-4134-85D8-BDE61F17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4235-907B-45D2-AC52-D7CF2D76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BE7F-3ADA-4333-BBC8-8186D62E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DED3-AEDF-40F0-8046-638A41E5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515B-EFF7-43D9-91CC-102F5B20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2D82-453D-4C23-8235-5B605669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2D7B-0D3B-40A1-9B28-B56B3B69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7574-9CA2-4DC4-8713-CCE81773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B819-3018-42EB-AC7C-920BAACC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8938-06FA-4630-9B8D-F4B48B2A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D560-5788-428E-B93E-640FCF473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2D34-97A9-46B4-9A71-4FADD7D53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8303-EB30-4FD0-BEFB-E2BCD244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83EF-CE5B-4501-AA2D-743E0766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6439-B7B3-44EA-8760-0A6369E8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9D01-E25C-4DAB-A09F-0A650E69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D594-B605-4AB0-815A-2D10894F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D1B2-BC8A-4F20-A59F-60A3AD87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976E-5928-4DC6-BD06-D05E2530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FD73-2E95-403D-9160-C6B2DF16E2EE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FD8E-69EF-474C-9F79-30EC122D15BC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1828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市 场 走 在 前 面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47920" y="30477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Times New Roman"/>
              </a:rPr>
              <a:t>                                  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i="1" lang="zh-CN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i="1" lang="zh-CN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i="1" lang="zh-CN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i="1" lang="zh-CN" sz="2000" spc="-1" strike="noStrike">
                <a:solidFill>
                  <a:srgbClr val="ffffcc"/>
                </a:solidFill>
                <a:latin typeface="Times New Roman"/>
              </a:rPr>
              <a:t>XXX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    </a:t>
            </a:r>
            <a:r>
              <a:rPr b="1" i="1" lang="zh-CN" sz="2000" spc="-1" strike="noStrike">
                <a:solidFill>
                  <a:srgbClr val="ffffcc"/>
                </a:solidFill>
                <a:latin typeface="Times New Roman"/>
              </a:rPr>
              <a:t>电话</a:t>
            </a:r>
            <a:r>
              <a:rPr b="1" i="1" lang="zh-CN" sz="2000" spc="-1" strike="noStrike">
                <a:solidFill>
                  <a:srgbClr val="ffffcc"/>
                </a:solidFill>
                <a:latin typeface="Times New Roman"/>
              </a:rPr>
              <a:t>--XXXXXXX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95-03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年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10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月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ICSG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供需平衡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-611280" y="442440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0" y="2286000"/>
            <a:ext cx="8991720" cy="4038480"/>
            <a:chOff x="0" y="2286000"/>
            <a:chExt cx="8991720" cy="4038480"/>
          </a:xfrm>
        </p:grpSpPr>
        <p:grpSp>
          <p:nvGrpSpPr>
            <p:cNvPr id="120" name=""/>
            <p:cNvGrpSpPr/>
            <p:nvPr/>
          </p:nvGrpSpPr>
          <p:grpSpPr>
            <a:xfrm>
              <a:off x="3960" y="2290680"/>
              <a:ext cx="8982720" cy="4029120"/>
              <a:chOff x="3960" y="2290680"/>
              <a:chExt cx="8982720" cy="4029120"/>
            </a:xfrm>
          </p:grpSpPr>
          <p:grpSp>
            <p:nvGrpSpPr>
              <p:cNvPr id="121" name=""/>
              <p:cNvGrpSpPr/>
              <p:nvPr/>
            </p:nvGrpSpPr>
            <p:grpSpPr>
              <a:xfrm>
                <a:off x="3960" y="2290680"/>
                <a:ext cx="898200" cy="1190520"/>
                <a:chOff x="3960" y="2290680"/>
                <a:chExt cx="898200" cy="11905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63000" y="2290680"/>
                  <a:ext cx="779400" cy="11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cc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960" y="2290680"/>
                  <a:ext cx="898200" cy="119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902160" y="2290680"/>
                <a:ext cx="897840" cy="1190520"/>
                <a:chOff x="902160" y="2290680"/>
                <a:chExt cx="897840" cy="11905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960840" y="2290680"/>
                  <a:ext cx="779400" cy="11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1995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902160" y="2290680"/>
                  <a:ext cx="897840" cy="119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1800360" y="2290680"/>
                <a:ext cx="898200" cy="1190520"/>
                <a:chOff x="1800360" y="2290680"/>
                <a:chExt cx="898200" cy="119052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1859400" y="2290680"/>
                  <a:ext cx="779400" cy="11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1996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800360" y="2290680"/>
                  <a:ext cx="898200" cy="119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2698920" y="2290680"/>
                <a:ext cx="897840" cy="1190520"/>
                <a:chOff x="2698920" y="2290680"/>
                <a:chExt cx="897840" cy="119052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757600" y="2290680"/>
                  <a:ext cx="779760" cy="11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1997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698920" y="2290680"/>
                  <a:ext cx="897840" cy="119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3597120" y="2290680"/>
                <a:ext cx="898200" cy="1190520"/>
                <a:chOff x="3597120" y="2290680"/>
                <a:chExt cx="898200" cy="11905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3656160" y="2290680"/>
                  <a:ext cx="779400" cy="11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1998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597120" y="2290680"/>
                  <a:ext cx="898200" cy="119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4495680" y="2290680"/>
                <a:ext cx="897840" cy="1190520"/>
                <a:chOff x="4495680" y="2290680"/>
                <a:chExt cx="897840" cy="11905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4554360" y="2290680"/>
                  <a:ext cx="779760" cy="11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1999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4495680" y="2290680"/>
                  <a:ext cx="897840" cy="119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5393520" y="2290680"/>
                <a:ext cx="898200" cy="1190520"/>
                <a:chOff x="5393520" y="2290680"/>
                <a:chExt cx="898200" cy="11905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5452560" y="2290680"/>
                  <a:ext cx="779400" cy="11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2000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393520" y="2290680"/>
                  <a:ext cx="898200" cy="119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6292080" y="2290680"/>
                <a:ext cx="897840" cy="1190520"/>
                <a:chOff x="6292080" y="2290680"/>
                <a:chExt cx="897840" cy="11905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6350760" y="2290680"/>
                  <a:ext cx="779760" cy="11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2001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292080" y="2290680"/>
                  <a:ext cx="897840" cy="119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7190280" y="2290680"/>
                <a:ext cx="898200" cy="1190520"/>
                <a:chOff x="7190280" y="2290680"/>
                <a:chExt cx="898200" cy="11905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7249320" y="2290680"/>
                  <a:ext cx="779400" cy="11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2002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90280" y="2290680"/>
                  <a:ext cx="898200" cy="119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8088840" y="2290680"/>
                <a:ext cx="897840" cy="1190520"/>
                <a:chOff x="8088840" y="2290680"/>
                <a:chExt cx="897840" cy="11905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8147880" y="2290680"/>
                  <a:ext cx="779400" cy="11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2003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（</a:t>
                  </a: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1-10</a:t>
                  </a: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月）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88840" y="2290680"/>
                  <a:ext cx="897840" cy="119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3960" y="3481200"/>
                <a:ext cx="898200" cy="946080"/>
                <a:chOff x="3960" y="3481200"/>
                <a:chExt cx="898200" cy="9460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63000" y="3481200"/>
                  <a:ext cx="7794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精铜产量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960" y="3481200"/>
                  <a:ext cx="89820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902160" y="3481200"/>
                <a:ext cx="897840" cy="946080"/>
                <a:chOff x="902160" y="3481200"/>
                <a:chExt cx="897840" cy="9460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960840" y="3481200"/>
                  <a:ext cx="7794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11835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902160" y="3481200"/>
                  <a:ext cx="89784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1800360" y="3481200"/>
                <a:ext cx="898200" cy="946080"/>
                <a:chOff x="1800360" y="3481200"/>
                <a:chExt cx="898200" cy="94608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1859400" y="3481200"/>
                  <a:ext cx="7794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12669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800360" y="3481200"/>
                  <a:ext cx="89820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2698920" y="3481200"/>
                <a:ext cx="897840" cy="946080"/>
                <a:chOff x="2698920" y="3481200"/>
                <a:chExt cx="897840" cy="9460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2757600" y="3481200"/>
                  <a:ext cx="7797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13486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698920" y="3481200"/>
                  <a:ext cx="89784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3597120" y="3481200"/>
                <a:ext cx="898200" cy="946080"/>
                <a:chOff x="3597120" y="3481200"/>
                <a:chExt cx="898200" cy="9460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3656160" y="3481200"/>
                  <a:ext cx="7794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14076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597120" y="3481200"/>
                  <a:ext cx="89820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4495680" y="3481200"/>
                <a:ext cx="897840" cy="946080"/>
                <a:chOff x="4495680" y="3481200"/>
                <a:chExt cx="897840" cy="94608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554360" y="3481200"/>
                  <a:ext cx="7797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14548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495680" y="3481200"/>
                  <a:ext cx="89784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5393520" y="3481200"/>
                <a:ext cx="898200" cy="946080"/>
                <a:chOff x="5393520" y="3481200"/>
                <a:chExt cx="898200" cy="9460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5452560" y="3481200"/>
                  <a:ext cx="7794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14773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393520" y="3481200"/>
                  <a:ext cx="89820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292080" y="3481200"/>
                <a:ext cx="897840" cy="946080"/>
                <a:chOff x="6292080" y="3481200"/>
                <a:chExt cx="897840" cy="9460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350760" y="3481200"/>
                  <a:ext cx="7797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15632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292080" y="3481200"/>
                  <a:ext cx="89784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7190280" y="3481200"/>
                <a:ext cx="898200" cy="946080"/>
                <a:chOff x="7190280" y="3481200"/>
                <a:chExt cx="898200" cy="9460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7249320" y="3481200"/>
                  <a:ext cx="7794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15352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7190280" y="3481200"/>
                  <a:ext cx="89820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8088840" y="3481200"/>
                <a:ext cx="897840" cy="946080"/>
                <a:chOff x="8088840" y="3481200"/>
                <a:chExt cx="897840" cy="9460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8147880" y="3481200"/>
                  <a:ext cx="7794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12608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8088840" y="3481200"/>
                  <a:ext cx="89784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3960" y="4427280"/>
                <a:ext cx="898200" cy="946440"/>
                <a:chOff x="3960" y="4427280"/>
                <a:chExt cx="898200" cy="94644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63000" y="4427280"/>
                  <a:ext cx="77940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精铜消费量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960" y="4427280"/>
                  <a:ext cx="89820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902160" y="4427280"/>
                <a:ext cx="897840" cy="946440"/>
                <a:chOff x="902160" y="4427280"/>
                <a:chExt cx="897840" cy="94644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960840" y="4427280"/>
                  <a:ext cx="77940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12046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902160" y="4427280"/>
                  <a:ext cx="89784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1800360" y="4427280"/>
                <a:ext cx="898200" cy="946440"/>
                <a:chOff x="1800360" y="4427280"/>
                <a:chExt cx="898200" cy="94644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1859400" y="4427280"/>
                  <a:ext cx="77940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12582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800360" y="4427280"/>
                  <a:ext cx="89820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2698920" y="4427280"/>
                <a:ext cx="897840" cy="946440"/>
                <a:chOff x="2698920" y="4427280"/>
                <a:chExt cx="897840" cy="94644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2757600" y="4427280"/>
                  <a:ext cx="77976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13097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698920" y="4427280"/>
                  <a:ext cx="89784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3597120" y="4427280"/>
                <a:ext cx="898200" cy="946440"/>
                <a:chOff x="3597120" y="4427280"/>
                <a:chExt cx="898200" cy="94644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3656160" y="4427280"/>
                  <a:ext cx="77940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13474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3597120" y="4427280"/>
                  <a:ext cx="89820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4495680" y="4427280"/>
                <a:ext cx="897840" cy="946440"/>
                <a:chOff x="4495680" y="4427280"/>
                <a:chExt cx="897840" cy="94644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4554360" y="4427280"/>
                  <a:ext cx="77976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14286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495680" y="4427280"/>
                  <a:ext cx="89784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5393520" y="4427280"/>
                <a:ext cx="898200" cy="946440"/>
                <a:chOff x="5393520" y="4427280"/>
                <a:chExt cx="898200" cy="9464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452560" y="4427280"/>
                  <a:ext cx="77940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15131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393520" y="4427280"/>
                  <a:ext cx="89820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6292080" y="4427280"/>
                <a:ext cx="897840" cy="946440"/>
                <a:chOff x="6292080" y="4427280"/>
                <a:chExt cx="897840" cy="94644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350760" y="4427280"/>
                  <a:ext cx="77976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14898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292080" y="4427280"/>
                  <a:ext cx="89784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7190280" y="4427280"/>
                <a:ext cx="898200" cy="946440"/>
                <a:chOff x="7190280" y="4427280"/>
                <a:chExt cx="898200" cy="94644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7249320" y="4427280"/>
                  <a:ext cx="77940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15137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190280" y="4427280"/>
                  <a:ext cx="89820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8088840" y="4427280"/>
                <a:ext cx="897840" cy="946440"/>
                <a:chOff x="8088840" y="4427280"/>
                <a:chExt cx="897840" cy="94644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8147880" y="4427280"/>
                  <a:ext cx="77940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12967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088840" y="4427280"/>
                  <a:ext cx="89784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3960" y="5373720"/>
                <a:ext cx="898200" cy="946080"/>
                <a:chOff x="3960" y="5373720"/>
                <a:chExt cx="898200" cy="94608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63000" y="5373720"/>
                  <a:ext cx="7794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供求缺口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960" y="5373720"/>
                  <a:ext cx="89820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902160" y="5373720"/>
                <a:ext cx="897840" cy="946080"/>
                <a:chOff x="902160" y="5373720"/>
                <a:chExt cx="897840" cy="94608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960840" y="5373720"/>
                  <a:ext cx="7794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-211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902160" y="5373720"/>
                  <a:ext cx="89784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1800360" y="5373720"/>
                <a:ext cx="898200" cy="946080"/>
                <a:chOff x="1800360" y="5373720"/>
                <a:chExt cx="898200" cy="94608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1859400" y="5373720"/>
                  <a:ext cx="7794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86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1800360" y="5373720"/>
                  <a:ext cx="89820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2698920" y="5373720"/>
                <a:ext cx="897840" cy="946080"/>
                <a:chOff x="2698920" y="5373720"/>
                <a:chExt cx="897840" cy="94608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2757600" y="5373720"/>
                  <a:ext cx="7797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390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2698920" y="5373720"/>
                  <a:ext cx="89784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3597120" y="5373720"/>
                <a:ext cx="898200" cy="946080"/>
                <a:chOff x="3597120" y="5373720"/>
                <a:chExt cx="898200" cy="9460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3656160" y="5373720"/>
                  <a:ext cx="7794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602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597120" y="5373720"/>
                  <a:ext cx="89820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4495680" y="5373720"/>
                <a:ext cx="897840" cy="946080"/>
                <a:chOff x="4495680" y="5373720"/>
                <a:chExt cx="897840" cy="94608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4554360" y="5373720"/>
                  <a:ext cx="7797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262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495680" y="5373720"/>
                  <a:ext cx="89784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5393520" y="5373720"/>
                <a:ext cx="898200" cy="946080"/>
                <a:chOff x="5393520" y="5373720"/>
                <a:chExt cx="898200" cy="94608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5452560" y="5373720"/>
                  <a:ext cx="7794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-359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393520" y="5373720"/>
                  <a:ext cx="89820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6292080" y="5373720"/>
                <a:ext cx="897840" cy="946080"/>
                <a:chOff x="6292080" y="5373720"/>
                <a:chExt cx="897840" cy="9460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6350760" y="5373720"/>
                  <a:ext cx="7797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734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292080" y="5373720"/>
                  <a:ext cx="89784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7190280" y="5373720"/>
                <a:ext cx="898200" cy="946080"/>
                <a:chOff x="7190280" y="5373720"/>
                <a:chExt cx="898200" cy="94608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7249320" y="5373720"/>
                  <a:ext cx="7794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215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90280" y="5373720"/>
                  <a:ext cx="89820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8088840" y="5373720"/>
                <a:ext cx="897840" cy="946080"/>
                <a:chOff x="8088840" y="5373720"/>
                <a:chExt cx="897840" cy="94608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8147880" y="5373720"/>
                  <a:ext cx="7794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cc"/>
                      </a:solidFill>
                      <a:latin typeface="Times New Roman"/>
                    </a:rPr>
                    <a:t>-360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8088840" y="5373720"/>
                  <a:ext cx="89784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1" name=""/>
            <p:cNvSpPr/>
            <p:nvPr/>
          </p:nvSpPr>
          <p:spPr>
            <a:xfrm>
              <a:off x="0" y="2286000"/>
              <a:ext cx="8991720" cy="40384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-611280" y="5097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ICSG</a:t>
            </a: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的预测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今年产量为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1515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万吨，消费量为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1551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万吨，缺口为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36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万吨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明年产量为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1597.4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万吨，消费量为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1636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万吨，缺口为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38.6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万吨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铜精矿供应是供给的焦点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关注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TC/RC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的变化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ICSG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下调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04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年铜矿、冶炼和精炼的生产能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03-07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年铜矿生产能力将增加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167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万吨，其中铜精矿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106.9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万吨（不包括现有的闲置能力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市场阶段的变化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供求形势，市场人气明显变化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基金逐渐退居次要地位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但经济形势依然强劲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685800" y="762120"/>
          <a:ext cx="800100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62120"/>
                    <a:ext cx="80010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市场阶段的认定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铜价处于历史上相对的高位区，正在逐步脱离基本面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铜价正处于加速上扬阶段，此阶段还没有结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由战略做多逐步向战术做多过渡，市场走在前面的特性将进一步趋强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i="1" lang="zh-CN" sz="3200" spc="-1" strike="noStrike">
                <a:solidFill>
                  <a:srgbClr val="ffffcc"/>
                </a:solidFill>
                <a:latin typeface="Times New Roman"/>
              </a:rPr>
              <a:t>永远不要随波逐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                                       </a:t>
            </a:r>
            <a:r>
              <a:rPr b="1" i="1" lang="zh-CN" sz="2400" spc="-1" strike="noStrike">
                <a:solidFill>
                  <a:srgbClr val="ffffcc"/>
                </a:solidFill>
                <a:latin typeface="Times New Roman"/>
              </a:rPr>
              <a:t>－－伯纳德 巴鲁克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zh-CN" sz="3200" spc="-1" strike="noStrike">
                <a:solidFill>
                  <a:srgbClr val="ffffcc"/>
                </a:solidFill>
                <a:latin typeface="Times New Roman"/>
              </a:rPr>
              <a:t>……</a:t>
            </a:r>
            <a:r>
              <a:rPr b="0" i="1" lang="zh-CN" sz="3200" spc="-1" strike="noStrike">
                <a:solidFill>
                  <a:srgbClr val="ffffcc"/>
                </a:solidFill>
                <a:latin typeface="Times New Roman"/>
              </a:rPr>
              <a:t>事实是随波逐流真惬意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  </a:t>
            </a:r>
            <a:r>
              <a:rPr b="1" i="1" lang="zh-CN" sz="2400" spc="-1" strike="noStrike">
                <a:solidFill>
                  <a:srgbClr val="ffffcc"/>
                </a:solidFill>
                <a:latin typeface="Times New Roman"/>
              </a:rPr>
              <a:t>－－亚当 史密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LME</a:t>
            </a: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三月铜走势凶猛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3824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供给面的担忧助推期铜的上涨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近期的上涨除了经济面和汇率的支持外，供给面的助燃作用非常明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由于事故和故障，铜产量将下降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罢工和罢工威胁时常浮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XX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国自由港旗下的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XXGrasberg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铜金矿由于两次塌方，在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1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月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20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日再次宣布因不可抗力无限期延后运行，同时下修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04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年产量从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14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亿至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10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亿磅，其减少量为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4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亿磅，约合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18.14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万吨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XX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国家的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OK Tedi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铜矿由于机械故障，铜精矿产量在未来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8-10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周也将减少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40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％。按照稍早公布的产量数据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67.5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万吨铜精矿，含铜量为近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20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万吨计算，这相当于损失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4-5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万铜精矿，或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1.2-1.5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万吨含铜量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罢工威胁屡见不鲜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XX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国家的高地铜矿罢工威胁暂时解除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全球最大的多元化矿业巨擘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XX 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旗下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YYCerro Colorado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铜矿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在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周五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开始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罢工，该铜矿年产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13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万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市场走在前面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期铜和商品期货运动的规律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如何理解供给面的担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复产的进程继续推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复产的情况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Phelps Dodge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宣布恢复重新启动闲置产能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,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计划在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2004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年增产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2.4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亿磅，约接近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12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万吨。关于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2004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年铜供应方面的缺口问题，根据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Dodge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对于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2004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年铜市场的预测，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2004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年国际铜市场的消费缺口预计在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50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万吨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根据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CRU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的调查显示，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2000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～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2002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年铜市场由于价格低迷而被迫减产的产能约有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75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万吨，其中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2003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年已有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33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万吨恢复生产，剩下的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42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万吨产能中有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5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～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10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万吨是不可恢复的产能，其余部分中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Phelps Dodge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占据了这个份额的绝大部分，约占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22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万吨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库存持续快速下降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3824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供给依然紧张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时间上滞后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</a:t>
            </a:r>
            <a:r>
              <a:rPr b="0" lang="zh-CN" sz="1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埃斯孔迪达铜矿在准备重新恢复正常生产的计划中，第四阶段扩容工程修建的尾矿坝并未取得预期的水回收速率，因此预计埃斯孔迪达铜矿的选矿厂将会以比正常水平低</a:t>
            </a:r>
            <a:r>
              <a:rPr b="0" lang="zh-CN" sz="1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5</a:t>
            </a:r>
            <a:r>
              <a:rPr b="0" lang="zh-CN" sz="1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－</a:t>
            </a:r>
            <a:r>
              <a:rPr b="0" lang="zh-CN" sz="1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10</a:t>
            </a:r>
            <a:r>
              <a:rPr b="0" lang="zh-CN" sz="1800" spc="-1" strike="noStrike">
                <a:solidFill>
                  <a:srgbClr val="ffffcc"/>
                </a:solidFill>
                <a:latin typeface="Times New Roman"/>
                <a:ea typeface="_x000b__x000c_"/>
              </a:rPr>
              <a:t>％的产能生产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库存重建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船运紧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市场 营销</cp:keywords>
  <dc:language>en-US</dc:language>
  <cp:lastModifiedBy/>
  <cp:revision>0</cp:revision>
  <dc:subject/>
  <dc:title/>
</cp:coreProperties>
</file>