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FB8-F7F0-4122-8D40-C3F6346FF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C4A-9F9B-41E8-B32B-32681A01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7E2-2793-4EBC-8614-E6961398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5065-C81A-428A-9760-EB4BBE95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F6E-577A-405A-9FC5-1124B11F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E74-E561-4DCE-B938-C312A4A9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5EC-2265-4520-BF01-9B2C21F5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EB0-3BC7-4A13-B277-F9EFCC90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1D1-8473-4F5A-9800-D780A785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518-F1C1-4B1A-AB4C-0D50729E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9A2-BFB6-4A80-8024-D943E2FA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9B86-2C49-46AE-A892-2D612AA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BFC0-D0DD-4CCF-B115-B60F3CC878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4600440"/>
            <a:ext cx="77914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确定从</a:t>
            </a: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993 </a:t>
            </a: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年起，每年的</a:t>
            </a: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3</a:t>
            </a: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月</a:t>
            </a: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22</a:t>
            </a: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日为“世界水日”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222200"/>
            <a:ext cx="579132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水的污染及净化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1440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工业上为了处理含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酸性废水，采用以下处理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往工业废水中加入适量食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以铁作为阳极，石墨棒为阴极，进行电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鼓入空气。经过一段时间后，使废水中含铬量降到可排放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968720"/>
            <a:ext cx="8686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问题一：请用已学过的化学知识解释该方法能处理含</a:t>
            </a: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8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8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8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离子的工业废水的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308400"/>
            <a:ext cx="89154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注：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7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7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7.6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值为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9.6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并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呈絮状，不易从溶液除去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52280" y="136440"/>
            <a:ext cx="9296280" cy="26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工业上为了处理含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离子的酸性废水，采用以下处理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往工业废水中加入适量食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以铁作为阳极，石墨棒为阴极，进行电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鼓入空气经过一段时间后，废水中含铬量降到可排放标 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注：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2.7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3.7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开始沉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7.6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沉淀完全的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pH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值为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9.6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并且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Fe(OH)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呈絮状，不易从溶液除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38280"/>
            <a:ext cx="8686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问题一：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请用已学过的化学知识解释该方法能处理含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Cr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2000" spc="-1" strike="noStrike" baseline="-30000">
                <a:solidFill>
                  <a:srgbClr val="ffffff"/>
                </a:solidFill>
                <a:latin typeface="华文新魏"/>
                <a:ea typeface="华文新魏"/>
              </a:rPr>
              <a:t>7</a:t>
            </a:r>
            <a:r>
              <a:rPr b="0" lang="en-US" sz="20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华文新魏"/>
                <a:ea typeface="华文新魏"/>
              </a:rPr>
              <a:t>－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离子的工业废  水的原因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28600" y="3048120"/>
            <a:ext cx="876312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答：选择以铁做阳极，石墨棒为阴极，电极反应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阳极   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Fe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2e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Fe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阴极  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＋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2e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＝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H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095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加入少量食盐，是增加污水中离子浓度，增强导电能力。</a:t>
            </a:r>
            <a:r>
              <a:rPr b="0" lang="zh-CN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4419720"/>
            <a:ext cx="6553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en-US" sz="11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+  6F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+ 14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 </a:t>
            </a:r>
            <a:r>
              <a:rPr b="1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====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2Cr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3+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+ 6 F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3+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+ 7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84812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这样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7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－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离子被还原成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3+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。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在电解过程中，由于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在阴极不断放电，打破了水的电离平衡、促进水的电离，溶液的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pH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值上升，溶液中的阳离子以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Cr(OH)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Fe(OH)</a:t>
            </a:r>
            <a:r>
              <a:rPr b="0" lang="en-US" sz="2400" spc="-1" strike="noStrike" baseline="-30000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形式沉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3120" y="533520"/>
            <a:ext cx="59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问题二   该污水处理车间用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0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伏特电压电解处理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立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3800" y="1004760"/>
            <a:ext cx="55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米水需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时，通过电解槽的电流为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安培，电解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81000" y="161460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内阻为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千欧姆。目前，工业用电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0.9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元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度，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4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小时不间歇处理，每月按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天计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54080" y="3170160"/>
            <a:ext cx="252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、该车间仅用于支付电费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</a:rPr>
              <a:t>开支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每月为多少元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41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若该车间直接将污水进行排放，当地环保局将对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87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其处以每月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5000</a:t>
            </a:r>
            <a:r>
              <a:rPr b="1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元的罚款，问车间负责人应怎样决定？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828800" y="2286000"/>
            <a:ext cx="57913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倡导绿色化学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5600" y="10350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每月电费开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3176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╳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0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╳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24 ÷ 1000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╳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0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╳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.9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元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345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97160" y="312408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 648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45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161240" y="19051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赤潮是指在一定条件下，海洋中的某些生物在短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7920" y="27432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内大量繁殖或聚集的现象，常使海水变红色、褐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90760" y="344340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赤潮是一种严重的海洋灾害，不仅污染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040" y="4433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境，而且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80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800" y="34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80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800" y="344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粘度增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73160" y="4432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63800" y="4433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67040" y="4433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67040" y="44323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海洋养殖业构成极大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10800" y="3850"/>
                </a:moveTo>
                <a:lnTo>
                  <a:pt x="13376" y="6461"/>
                </a:ln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lnTo>
                  <a:pt x="17763" y="10813"/>
                </a:lnTo>
                <a:lnTo>
                  <a:pt x="16109" y="10813"/>
                </a:lnTo>
                <a:lnTo>
                  <a:pt x="16109" y="18002"/>
                </a:lnTo>
                <a:lnTo>
                  <a:pt x="5491" y="18002"/>
                </a:lnTo>
                <a:lnTo>
                  <a:pt x="5491" y="10813"/>
                </a:lnTo>
                <a:lnTo>
                  <a:pt x="3837" y="10813"/>
                </a:lnTo>
                <a:close/>
              </a:path>
              <a:path fill="darkenLess" w="21600" h="21626">
                <a:moveTo>
                  <a:pt x="13376" y="6461"/>
                </a:moveTo>
                <a:lnTo>
                  <a:pt x="13376" y="4720"/>
                </a:lnTo>
                <a:lnTo>
                  <a:pt x="15152" y="4720"/>
                </a:lnTo>
                <a:lnTo>
                  <a:pt x="15152" y="8236"/>
                </a:lnTo>
                <a:close/>
              </a:path>
              <a:path fill="darkenLess" w="21600" h="21626">
                <a:moveTo>
                  <a:pt x="9877" y="14312"/>
                </a:moveTo>
                <a:lnTo>
                  <a:pt x="11723" y="14312"/>
                </a:lnTo>
                <a:lnTo>
                  <a:pt x="11723" y="18002"/>
                </a:lnTo>
                <a:lnTo>
                  <a:pt x="16109" y="18002"/>
                </a:lnTo>
                <a:lnTo>
                  <a:pt x="16109" y="10813"/>
                </a:lnTo>
                <a:lnTo>
                  <a:pt x="5491" y="10813"/>
                </a:lnTo>
                <a:lnTo>
                  <a:pt x="5491" y="18002"/>
                </a:lnTo>
                <a:lnTo>
                  <a:pt x="9877" y="18002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"/>
                            </p:stCondLst>
                            <p:childTnLst>
                              <p:par>
                                <p:cTn id="28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9000"/>
                            </p:stCondLst>
                            <p:childTnLst>
                              <p:par>
                                <p:cTn id="29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85800" y="1295280"/>
          <a:ext cx="718344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718344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86104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15110" y="3837"/>
                </a:moveTo>
                <a:lnTo>
                  <a:pt x="17686" y="6448"/>
                </a:ln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lnTo>
                  <a:pt x="22073" y="10800"/>
                </a:lnTo>
                <a:lnTo>
                  <a:pt x="20419" y="10800"/>
                </a:lnTo>
                <a:lnTo>
                  <a:pt x="20419" y="17989"/>
                </a:lnTo>
                <a:lnTo>
                  <a:pt x="9801" y="17989"/>
                </a:lnTo>
                <a:lnTo>
                  <a:pt x="9801" y="10800"/>
                </a:lnTo>
                <a:lnTo>
                  <a:pt x="8147" y="10800"/>
                </a:lnTo>
                <a:close/>
              </a:path>
              <a:path fill="darkenLess" w="30220" h="21600">
                <a:moveTo>
                  <a:pt x="17686" y="6448"/>
                </a:moveTo>
                <a:lnTo>
                  <a:pt x="17686" y="4707"/>
                </a:lnTo>
                <a:lnTo>
                  <a:pt x="19462" y="4707"/>
                </a:lnTo>
                <a:lnTo>
                  <a:pt x="19462" y="8224"/>
                </a:lnTo>
                <a:close/>
              </a:path>
              <a:path fill="darkenLess" w="30220" h="21600">
                <a:moveTo>
                  <a:pt x="14187" y="14299"/>
                </a:moveTo>
                <a:lnTo>
                  <a:pt x="16032" y="14299"/>
                </a:lnTo>
                <a:lnTo>
                  <a:pt x="16032" y="17989"/>
                </a:lnTo>
                <a:lnTo>
                  <a:pt x="20419" y="17989"/>
                </a:lnTo>
                <a:lnTo>
                  <a:pt x="20419" y="10800"/>
                </a:lnTo>
                <a:lnTo>
                  <a:pt x="9801" y="10800"/>
                </a:lnTo>
                <a:lnTo>
                  <a:pt x="9801" y="17989"/>
                </a:lnTo>
                <a:lnTo>
                  <a:pt x="14187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0" y="121932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《考试说明》要求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3352680"/>
            <a:ext cx="792504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了解一些生活用水的净化及工业污水的处理方法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28800" y="1752480"/>
            <a:ext cx="49528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一、水的污染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6000">
            <a:off x="1069920" y="1680840"/>
            <a:ext cx="309600" cy="2281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59400 h 2281320"/>
              <a:gd name="textAreaBottom" fmla="*/ 222192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447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自然污染：如地下水的流动把地层中某些矿物溶解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9520" y="3733920"/>
            <a:ext cx="18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人为污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1920" y="18568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水的污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6000">
            <a:off x="2971800" y="2971440"/>
            <a:ext cx="301680" cy="1981080"/>
          </a:xfrm>
          <a:custGeom>
            <a:avLst/>
            <a:gdLst>
              <a:gd name="textAreaLeft" fmla="*/ 192960 w 301680"/>
              <a:gd name="textAreaRight" fmla="*/ 302040 w 3016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93760" y="2735280"/>
            <a:ext cx="46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重金属元素的污染：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60640" y="3521160"/>
            <a:ext cx="38804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无机有毒物：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35924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有机污染物：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有机农药、多氯联苯、多    环芳烃、合成洗涤剂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313520" y="1676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赤潮是指在一定条件下，海洋中的某些生物在短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37920" y="2666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内大量繁殖或聚集的现象，常使海水变红色、褐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8280" y="3733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粘度增大。赤潮是一种严重的海洋灾害，不仅污染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2160" y="4662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境，而且对海洋养殖业构成极大威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6320" y="763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请你根据以上资料回答下列问题：</a:t>
            </a:r>
            <a:r>
              <a:rPr b="0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480"/>
            <a:ext cx="9144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赤潮生物主要是甲藻、硅藻，也包括一些原生动物、细菌等。从生物学原理上分析，赤潮生物大量繁殖会对其他海洋生物产生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</a:rPr>
              <a:t>哪些不良影响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20574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答：赤潮对海洋生物的危害主要有以下几种方式：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2666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施放毒素，在水中鱼、虾、贝类等生物吞食这些有毒素的赤潮生物后，引起中毒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038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赤潮生物向体外分泌粘液，妨碍海洋生物的滤食和呼吸，重者会窒息死亡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045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赤潮生物大量消耗氧气，造成水体溶解氧减少，影响海洋生物的生存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④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大面积的赤潮挡住阳光，影响海洋植物的光合作用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76320" y="533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从生物、化学、环境因素等方面，分析赤潮发生                                         的原因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4479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赤潮发生的原因主要归纳为以下几点：</a:t>
            </a:r>
            <a:r>
              <a:rPr b="0" lang="zh-CN" sz="2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生物因素：在适宜条件下，赤潮生物甲藻、硅藻的大量繁殖。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0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②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化学因素：海水中的营养盐（主要是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以及一些微量元素、有机物等存在，影响着赤潮生物的生长、繁殖和代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2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③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环境因素：含有大量有机物、营养盐和磷的废水未经处理流入江河，致使水体富营养化，这是赤潮产生的根本原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905120" y="1905120"/>
            <a:ext cx="49528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二、水的净化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6000">
            <a:off x="2052720" y="1680840"/>
            <a:ext cx="309600" cy="2281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59400 h 2281320"/>
              <a:gd name="textAreaBottom" fmla="*/ 2221920 h 228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447920"/>
            <a:ext cx="304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</a:rPr>
              <a:t>生活污水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733920"/>
            <a:ext cx="28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工业污水的净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8160" y="185688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水的净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水资源 净化</cp:keywords>
  <dc:language>en-US</dc:language>
  <cp:lastModifiedBy/>
  <cp:revision>0</cp:revision>
  <dc:subject/>
  <dc:title/>
</cp:coreProperties>
</file>