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051-613A-41A2-9BAB-BDEE9C99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028-47C0-4B63-B2FC-C37C32EE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538-A661-44E1-BD9D-6FBC7161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F25-21DB-4880-AB98-F9A5EEF7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682-1A18-40D4-8EE6-C2BC21C1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835-C599-4541-84E3-E58197D5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F95-5B76-4CCA-A18A-AF0EFCD2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A4E-E736-4187-B12B-DFFE40F3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788-DFEA-4457-9AF5-6B27898F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AE3-3799-4FB0-9688-88BA7D5A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F0AB-8AD9-42C0-A81B-12C74A6B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352-07C8-4538-AD17-3214848D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51C8-72E6-45C3-8B39-8FE9675C7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28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2854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9880" y="1917720"/>
            <a:ext cx="24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生活中的百分数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0920" y="1700280"/>
            <a:ext cx="8726400" cy="3601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两家店，一家全部商品打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折，另一家全部商品打八五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果你是顾客，你会去哪家购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24000" y="495360"/>
            <a:ext cx="2447640" cy="7034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题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1274760"/>
            <a:ext cx="8726400" cy="36021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国的人口占界总人口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2%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国耕地面积占世界耕地总面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24000" y="304920"/>
            <a:ext cx="2447640" cy="7034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题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57200" y="5105520"/>
            <a:ext cx="8305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这句话，你能获得哪些信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57200" y="5911920"/>
            <a:ext cx="51055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还能想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28600" y="1274760"/>
            <a:ext cx="8726400" cy="45925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合我国人口、耕地面积等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及目前我国人发的生活状况对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我国的粮食问作出预测，写出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篇小论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24000" y="304920"/>
            <a:ext cx="2447640" cy="7034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250920" y="404640"/>
            <a:ext cx="4248000" cy="2952720"/>
            <a:chOff x="250920" y="404640"/>
            <a:chExt cx="4248000" cy="2952720"/>
          </a:xfrm>
        </p:grpSpPr>
        <p:sp>
          <p:nvSpPr>
            <p:cNvPr id="47" name="Rectangle 5"/>
            <p:cNvSpPr/>
            <p:nvPr/>
          </p:nvSpPr>
          <p:spPr>
            <a:xfrm>
              <a:off x="250920" y="404640"/>
              <a:ext cx="4248000" cy="2952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7"/>
            <p:cNvSpPr/>
            <p:nvPr/>
          </p:nvSpPr>
          <p:spPr>
            <a:xfrm>
              <a:off x="829800" y="836280"/>
              <a:ext cx="3153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333399"/>
                  </a:solidFill>
                  <a:latin typeface="Arial"/>
                </a:rPr>
                <a:t>25%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9"/>
          <p:cNvGrpSpPr/>
          <p:nvPr/>
        </p:nvGrpSpPr>
        <p:grpSpPr>
          <a:xfrm>
            <a:off x="4643280" y="404640"/>
            <a:ext cx="4248000" cy="2952720"/>
            <a:chOff x="4643280" y="404640"/>
            <a:chExt cx="4248000" cy="2952720"/>
          </a:xfrm>
        </p:grpSpPr>
        <p:sp>
          <p:nvSpPr>
            <p:cNvPr id="50" name="Rectangle 10"/>
            <p:cNvSpPr/>
            <p:nvPr/>
          </p:nvSpPr>
          <p:spPr>
            <a:xfrm>
              <a:off x="4643280" y="404640"/>
              <a:ext cx="4248000" cy="2952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1"/>
            <p:cNvSpPr/>
            <p:nvPr/>
          </p:nvSpPr>
          <p:spPr>
            <a:xfrm>
              <a:off x="5222160" y="836280"/>
              <a:ext cx="3153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333399"/>
                  </a:solidFill>
                  <a:latin typeface="Arial"/>
                </a:rPr>
                <a:t>54%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4643280" y="3573360"/>
            <a:ext cx="4248000" cy="2952720"/>
            <a:chOff x="4643280" y="3573360"/>
            <a:chExt cx="4248000" cy="2952720"/>
          </a:xfrm>
        </p:grpSpPr>
        <p:sp>
          <p:nvSpPr>
            <p:cNvPr id="53" name="Rectangle 13"/>
            <p:cNvSpPr/>
            <p:nvPr/>
          </p:nvSpPr>
          <p:spPr>
            <a:xfrm>
              <a:off x="4643280" y="3573360"/>
              <a:ext cx="4248000" cy="2952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4719240" y="4005000"/>
              <a:ext cx="39801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333399"/>
                  </a:solidFill>
                  <a:latin typeface="Arial"/>
                </a:rPr>
                <a:t>100%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5"/>
          <p:cNvGrpSpPr/>
          <p:nvPr/>
        </p:nvGrpSpPr>
        <p:grpSpPr>
          <a:xfrm>
            <a:off x="250920" y="3573360"/>
            <a:ext cx="4248000" cy="2952720"/>
            <a:chOff x="250920" y="3573360"/>
            <a:chExt cx="4248000" cy="2952720"/>
          </a:xfrm>
        </p:grpSpPr>
        <p:sp>
          <p:nvSpPr>
            <p:cNvPr id="56" name="Rectangle 16"/>
            <p:cNvSpPr/>
            <p:nvPr/>
          </p:nvSpPr>
          <p:spPr>
            <a:xfrm>
              <a:off x="250920" y="3573360"/>
              <a:ext cx="4248000" cy="2952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7"/>
            <p:cNvSpPr/>
            <p:nvPr/>
          </p:nvSpPr>
          <p:spPr>
            <a:xfrm>
              <a:off x="829800" y="4005000"/>
              <a:ext cx="3153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333399"/>
                  </a:solidFill>
                  <a:latin typeface="Arial"/>
                </a:rPr>
                <a:t>60%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828720" y="5518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611280" y="333360"/>
            <a:ext cx="1944720" cy="792000"/>
          </a:xfrm>
          <a:prstGeom prst="rect">
            <a:avLst/>
          </a:prstGeom>
          <a:gradFill rotWithShape="0">
            <a:gsLst>
              <a:gs pos="0">
                <a:srgbClr val="e82808"/>
              </a:gs>
              <a:gs pos="50000">
                <a:srgbClr val="ffff66"/>
              </a:gs>
              <a:gs pos="100000">
                <a:srgbClr val="e82808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121400" y="1389240"/>
            <a:ext cx="6907320" cy="44830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本班数学期中测试的优秀率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%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我校六年级人数约占全校人数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%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我校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8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教师拥有大专文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一件毛衣中，羊毛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化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4360" y="333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330120" y="1839960"/>
            <a:ext cx="8489880" cy="3750840"/>
          </a:xfrm>
          <a:prstGeom prst="rect">
            <a:avLst/>
          </a:prstGeom>
          <a:solidFill>
            <a:srgbClr val="99cc00"/>
          </a:solidFill>
          <a:ln w="381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空气中氧气体积约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我国领土面积约占全世界陆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南极洲除外）面积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.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目前我国城市人口占总人口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2%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5"/>
          <p:cNvGrpSpPr/>
          <p:nvPr/>
        </p:nvGrpSpPr>
        <p:grpSpPr>
          <a:xfrm>
            <a:off x="395280" y="620640"/>
            <a:ext cx="2376360" cy="792000"/>
            <a:chOff x="395280" y="620640"/>
            <a:chExt cx="2376360" cy="792000"/>
          </a:xfrm>
        </p:grpSpPr>
        <p:sp>
          <p:nvSpPr>
            <p:cNvPr id="64" name="Rectangle 2"/>
            <p:cNvSpPr/>
            <p:nvPr/>
          </p:nvSpPr>
          <p:spPr>
            <a:xfrm>
              <a:off x="395280" y="620640"/>
              <a:ext cx="1944720" cy="792000"/>
            </a:xfrm>
            <a:prstGeom prst="rect">
              <a:avLst/>
            </a:prstGeom>
            <a:gradFill rotWithShape="0">
              <a:gsLst>
                <a:gs pos="0">
                  <a:srgbClr val="e82808"/>
                </a:gs>
                <a:gs pos="50000">
                  <a:srgbClr val="ffff66"/>
                </a:gs>
                <a:gs pos="100000">
                  <a:srgbClr val="e82808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539640" y="620640"/>
              <a:ext cx="22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说一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0FD-C83F-47D9-80A5-F901DA48BD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1771560"/>
            <a:ext cx="8726400" cy="4681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本班女生约占全班人数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3%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去年我校体育达标率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8.5%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一堆煤，已经运走了      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面粉重量是大米重量的       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我省小学生       都有近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395280"/>
            <a:ext cx="84960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句子中的分数哪些是百分数？哪些不是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6097320" y="3733920"/>
            <a:ext cx="928800" cy="962280"/>
            <a:chOff x="6097320" y="3733920"/>
            <a:chExt cx="928800" cy="962280"/>
          </a:xfrm>
        </p:grpSpPr>
        <p:sp>
          <p:nvSpPr>
            <p:cNvPr id="72" name="Text Box 5"/>
            <p:cNvSpPr/>
            <p:nvPr/>
          </p:nvSpPr>
          <p:spPr>
            <a:xfrm>
              <a:off x="6097320" y="411480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6111720" y="4237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7"/>
            <p:cNvSpPr/>
            <p:nvPr/>
          </p:nvSpPr>
          <p:spPr>
            <a:xfrm>
              <a:off x="6249600" y="37339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4252680" y="5516640"/>
            <a:ext cx="928800" cy="962280"/>
            <a:chOff x="4252680" y="5516640"/>
            <a:chExt cx="928800" cy="962280"/>
          </a:xfrm>
        </p:grpSpPr>
        <p:sp>
          <p:nvSpPr>
            <p:cNvPr id="76" name="Text Box 10"/>
            <p:cNvSpPr/>
            <p:nvPr/>
          </p:nvSpPr>
          <p:spPr>
            <a:xfrm>
              <a:off x="4252680" y="589752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>
              <a:off x="4267080" y="6019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2"/>
            <p:cNvSpPr/>
            <p:nvPr/>
          </p:nvSpPr>
          <p:spPr>
            <a:xfrm>
              <a:off x="4404960" y="551664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18"/>
          <p:cNvSpPr/>
          <p:nvPr/>
        </p:nvSpPr>
        <p:spPr>
          <a:xfrm>
            <a:off x="6906960" y="498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6858000" y="5105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6906960" y="4602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0920" y="1413000"/>
            <a:ext cx="8726400" cy="403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%      15%        50%      95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0%        0.5%        7.5%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2.17%       140%         30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24000" y="395280"/>
            <a:ext cx="8496000" cy="764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读一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912680" y="5648400"/>
            <a:ext cx="511848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这些百分数的分子，你发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50920" y="2131920"/>
            <a:ext cx="8726400" cy="2737080"/>
          </a:xfrm>
          <a:prstGeom prst="rect">
            <a:avLst/>
          </a:prstGeom>
          <a:solidFill>
            <a:srgbClr val="99cc00"/>
          </a:solidFill>
          <a:ln w="57240">
            <a:solidFill>
              <a:srgbClr val="339966"/>
            </a:solidFill>
            <a:miter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用你自己喜欢的方式表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出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95280" y="706320"/>
            <a:ext cx="4321080" cy="916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画一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1700280"/>
            <a:ext cx="8726400" cy="3601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们家的家务事谁做得多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能不能用今天所学的知识告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大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24000" y="495360"/>
            <a:ext cx="2447640" cy="7034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题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2T02:35:20Z</dcterms:created>
  <dc:creator/>
  <dc:description/>
  <cp:keywords>幻灯片之家 http:/www.eeppt.com</cp:keywords>
  <dc:language>en-US</dc:language>
  <cp:lastModifiedBy/>
  <dcterms:modified xsi:type="dcterms:W3CDTF">2015-07-20T01:28:20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