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D4D-7327-4B76-B7AC-64FB5880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ED7-F232-47F1-AD1F-F7E2845A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5AC-3F4D-4468-A311-4564E40A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529-59AD-46C7-83C0-B4B68C96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33E-BB18-4852-B95C-A808BBE7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E35-1668-4C61-9843-6EE4B719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9BA-8F3F-4DF8-B07F-0410F900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DBE-9A46-4FE4-B345-37BEA07D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517-7262-44E3-BE20-83628C55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54A-B469-4ECD-92E3-5FC1FE9F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EB9-482B-407B-B44F-9BFCC56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B45-4406-4E4D-8746-0AD1BD7D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DF4A-8896-4AA0-9B86-87D2BDCF3EE1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66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66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99"/>
                </a:solidFill>
                <a:latin typeface="Arial"/>
                <a:ea typeface="宋体"/>
              </a:rPr>
              <a:t> 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69680" y="3668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世界地图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66"/>
                </a:solidFill>
                <a:latin typeface="Arial"/>
              </a:rPr>
              <a:t>Example Bullet Point Slide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  <a:ea typeface="宋体"/>
              </a:rPr>
              <a:t>Bullet point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  <a:ea typeface="宋体"/>
              </a:rPr>
              <a:t>Bullet point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宋体"/>
              </a:rPr>
              <a:t>Sub Bullet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66"/>
                </a:solidFill>
                <a:latin typeface="Arial"/>
              </a:rPr>
              <a:t>Colour scheme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16200" y="2543040"/>
            <a:ext cx="827280" cy="6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7d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92600" y="2543040"/>
            <a:ext cx="827280" cy="6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7d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63920" y="4157640"/>
            <a:ext cx="826920" cy="611280"/>
          </a:xfrm>
          <a:prstGeom prst="rect">
            <a:avLst/>
          </a:prstGeom>
          <a:solidFill>
            <a:srgbClr val="0092c7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2040" y="4157640"/>
            <a:ext cx="827280" cy="611280"/>
          </a:xfrm>
          <a:prstGeom prst="rect">
            <a:avLst/>
          </a:prstGeom>
          <a:solidFill>
            <a:srgbClr val="007dc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00520" y="4157640"/>
            <a:ext cx="827280" cy="61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70440" y="4157640"/>
            <a:ext cx="827280" cy="6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53160" y="2543040"/>
            <a:ext cx="826920" cy="611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7d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48080" y="254304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d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29920" y="19033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Background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48240" y="17812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Text &amp;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Line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98280" y="19033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Shadow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78800" y="17812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6480" y="351792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Fill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4000" y="3517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Accent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88200" y="33955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Accent &amp;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9280" y="33940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Followed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3440" y="62164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99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99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ffff66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66"/>
                </a:solidFill>
                <a:latin typeface="Arial"/>
              </a:rPr>
              <a:t>Picture slide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803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Bullet 1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Bullet 2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10400" y="2039760"/>
            <a:ext cx="2454120" cy="327348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66"/>
                </a:solidFill>
                <a:latin typeface="Arial"/>
              </a:rPr>
              <a:t>Sample Graph (3 colours)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4840" y="2019240"/>
            <a:ext cx="6732360" cy="37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66"/>
                </a:solidFill>
                <a:latin typeface="Arial"/>
              </a:rPr>
              <a:t>Example of a table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33440" y="2252520"/>
          <a:ext cx="6993000" cy="3168720"/>
        </p:xfrm>
        <a:graphic>
          <a:graphicData uri="http://schemas.openxmlformats.org/drawingml/2006/table">
            <a:tbl>
              <a:tblPr/>
              <a:tblGrid>
                <a:gridCol w="3497400"/>
                <a:gridCol w="3495600"/>
              </a:tblGrid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7dc0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7dc0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ata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ata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630520" y="539748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  <a:ea typeface="Arial"/>
              </a:rPr>
              <a:t>Note: 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  <a:ea typeface="Arial"/>
              </a:rPr>
              <a:t>PowerPoint does not allow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you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  <a:ea typeface="Arial"/>
              </a:rPr>
              <a:t>to have nice default tables - but you can cut and paste this on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66"/>
                </a:solidFill>
                <a:latin typeface="Arial"/>
              </a:rPr>
              <a:t>Two column bullet points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81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Bullets go in here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2920" y="1980720"/>
            <a:ext cx="3814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And also in here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66"/>
                </a:solidFill>
                <a:latin typeface="Arial"/>
              </a:rPr>
              <a:t>Examples of default styles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2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99"/>
                </a:solidFill>
                <a:latin typeface="Arial"/>
              </a:rPr>
              <a:t>Text and lines are like this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ffff66"/>
                </a:solidFill>
                <a:uFillTx/>
                <a:latin typeface="Arial"/>
              </a:rPr>
              <a:t>Hyperlinks like this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ffff99"/>
                </a:solidFill>
                <a:uFillTx/>
                <a:latin typeface="Arial"/>
              </a:rPr>
              <a:t>Visited hyperlinks like this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7480" y="2136600"/>
          <a:ext cx="2995560" cy="1386000"/>
        </p:xfrm>
        <a:graphic>
          <a:graphicData uri="http://schemas.openxmlformats.org/drawingml/2006/table">
            <a:tbl>
              <a:tblPr/>
              <a:tblGrid>
                <a:gridCol w="1498680"/>
                <a:gridCol w="149688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Table</a:t>
                      </a:r>
                      <a:endParaRPr b="0" lang="en-US" sz="15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792000" y="4125960"/>
            <a:ext cx="2232360" cy="1368360"/>
          </a:xfrm>
          <a:prstGeom prst="rect">
            <a:avLst/>
          </a:prstGeom>
          <a:solidFill>
            <a:srgbClr val="0092c7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72000" y="4125960"/>
            <a:ext cx="2232000" cy="1368360"/>
          </a:xfrm>
          <a:prstGeom prst="rect">
            <a:avLst/>
          </a:prstGeom>
          <a:solidFill>
            <a:srgbClr val="0092c7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9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39D-9D29-41A4-9A8E-DFA80671F9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5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47:55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