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C0E-BE75-4FF8-AC54-4C910D76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97F-301F-4E66-8886-88FEE4D7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A48-256A-4E4D-9C25-1BD4C5E5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D9C-75E5-4AB4-A084-F5A97E1D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200-A960-419D-BCBA-7B8536E5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089D-E6B0-4184-AC4E-0CE46934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3B13-890D-4525-A536-C84301F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ED5C-F6D9-4DEF-9273-FACA1B7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8E6-6CA8-4B1E-BD23-8855317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D8AD-48D4-490B-9464-9483AEA7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98D7-2656-47F9-B131-B14D816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FF1-8D0A-402F-96D0-6D0C6122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5296-95D9-46F6-91F2-ED4B664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3493-37CA-4672-88B5-4048A73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F45-3AB8-4685-AA92-DA564AD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243-A642-43A3-BAE4-69ACDA62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A44B-47C8-4B4C-9856-DC58582D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6F2-C7C8-40A7-B8B0-3E2783D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D03-DA0B-459A-AEFF-A004FF5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F0E-50A7-4F8E-BE1B-1C6D891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E8B-CA64-4AD5-ACB3-A2D67B4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E4E-E1B5-4152-87C4-B7865F3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9F2-D8D4-4FAE-A6FA-5E4FBBCC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561-26DA-4661-A128-65CC2F7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2587-4B0D-4741-8852-0BF7E21A1AD9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894-2A67-4771-8988-B8779E9CC5B8}" type="slidenum"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龙</cp:keywords>
  <dc:language>en-US</dc:language>
  <cp:lastModifiedBy/>
  <cp:revision>0</cp:revision>
  <dc:subject/>
  <dc:title/>
</cp:coreProperties>
</file>