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F06-2C1F-4F5D-8133-F817E117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ABA5-C9BA-4BAC-89EA-0CA2A4C7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9B77-E04D-4EFA-80C7-B1C86011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9CD-9EB9-471A-B6A7-E2A52F24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A214-555C-4957-90A7-9DC42529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76A3-9EA3-4534-901B-55D65CF7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004B-DD86-476E-945B-FF30D4DE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76BF-EC04-4EB5-9DAC-CD41EC20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4D85-ACAC-46C2-B428-AFA34218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A872-F402-475A-B764-FF72D012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E5CC-2408-4306-8434-54BC6E6E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C29-B99E-427D-810C-3CE547A7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B00F-9334-4C28-AD9A-7B98A604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73C8-7577-43DC-893F-F91C4661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7F95-DF07-4784-827A-1F39EBC0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771C-B9A4-4294-A1E1-AC2506E3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8A68-E539-4E78-8E1F-741DFF02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5B62-5C49-4CD5-86A3-A3F18253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B676E-E93F-4B70-A7C0-96A54176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13D80-F424-49B7-9E81-6746BE95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6FBB3-E80A-4A33-B1C1-8359FA59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7AD27-10B9-420A-85AD-B62CF588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039C-21DD-448A-9ACA-46A54D91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75C69-D12D-45CA-8023-5B2B403D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899C8-5847-46B3-AEBC-DD045D55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177E8-08B3-4027-BCDC-036A771C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E8FA6-06C4-4B9B-921A-88279205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5A8F0-D042-4B3B-BB78-E086B988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67BF9-0728-4F5F-AF14-7126112B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37C30-A3FC-48D2-99FA-8BFB5503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28063-0F1C-4CE9-BA6D-5251AEF6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51833-182C-4759-A978-CBBA2CD0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85981-6DD1-4554-8FC7-6ACEC624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65B-B7BE-48C4-AA73-A800E518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0FF18-E08E-4C9A-9753-3BC13C1B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1E584-912D-4523-9941-F8ACBFFC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B3077-2A08-4CCE-80E8-C0CD7B09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28AD9-2B2E-4053-8C89-000CEC28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3A16F-EC20-4705-9435-235C13FC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3AC55-4BAE-4C2C-815E-7FF762DF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24BFB-681C-40A3-A739-95A2D8D2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E08FB-7528-4924-996F-EDE2950D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71E32-F1CE-46FA-9524-41683814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42406-9504-4892-9883-DBC6E82D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32B-7BD3-439D-AE6A-E721A1D3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643D1-4A9D-42DB-97AD-F27582A5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58F49-83F9-4FDD-9B89-526E93A3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1DC86-4117-4977-9C09-71EB8C67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7E1F0-5CC0-4106-921D-7531064F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92042-658C-4B12-9087-5B519A69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A64A6-3F65-4289-AFC1-674D5682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B94F8-CC00-4C77-BB48-1F3E3B02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EED38-2105-4CFB-A85F-8EEBF111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23E8C-2BA7-4C1C-A1BE-E7CC7FC0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89F00-55FC-48F4-B3BA-928E9D94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04B-A916-40DB-A89B-BF2E684F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F9A91-EBB1-4147-A1BF-38E3C2B8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ADD-BE93-4FB9-AC86-66FDADC7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781-3B4D-402C-8182-8C26897F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D7C-AAB6-4F01-A4DD-13A1186C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B593-C7E8-40DF-8C72-B31D66F13F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242E-95C8-4DAF-A6C9-8900D4BA18A0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5FF1-8242-42C5-BB68-F3B6419E09CC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CF8B-219C-4F14-A1D2-AF37972CE167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506B-39B1-4832-9530-33C0C5182FAB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065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世界历史引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33200" y="2895480"/>
            <a:ext cx="749916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Verdana"/>
              </a:rPr>
              <a:t>一、历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Verdana"/>
              </a:rPr>
              <a:t>二、历史学：往事的追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Verdana"/>
              </a:rPr>
              <a:t>三、世界历史的宏观框架和演进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Verdana"/>
              </a:rPr>
              <a:t>四、余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92200" y="170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299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512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4360" y="227664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华文行楷"/>
              </a:rPr>
              <a:t>什么是历史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华文行楷"/>
              </a:rPr>
              <a:t>什么是历史学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华文行楷"/>
              </a:rPr>
              <a:t>历史学是不是科学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08360" y="3860640"/>
            <a:ext cx="52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历史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悠悠岁月之如烟往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7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33080" y="620640"/>
            <a:ext cx="48805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二、历史学：</a:t>
            </a:r>
            <a:r>
              <a:rPr b="0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往事的追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华文行楷"/>
                <a:ea typeface="华文行楷"/>
              </a:rPr>
              <a:t>◎ </a:t>
            </a:r>
            <a:r>
              <a:rPr b="0" lang="zh-CN" sz="2800" spc="-1" strike="noStrike">
                <a:solidFill>
                  <a:srgbClr val="007a77"/>
                </a:solidFill>
                <a:latin typeface="华文行楷"/>
                <a:ea typeface="华文行楷"/>
              </a:rPr>
              <a:t>认识过程的哲学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两种认识及其相互关系：感性认识与理性认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形而下层面的认识与形而上层面的认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华文行楷"/>
                <a:ea typeface="华文行楷"/>
              </a:rPr>
              <a:t>◎ </a:t>
            </a:r>
            <a:r>
              <a:rPr b="0" lang="zh-CN" sz="2800" spc="-1" strike="noStrike">
                <a:solidFill>
                  <a:srgbClr val="007a77"/>
                </a:solidFill>
                <a:latin typeface="华文行楷"/>
                <a:ea typeface="华文行楷"/>
              </a:rPr>
              <a:t>上述哲学原则的历史学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貌似零乱的历史现象即史料与史实，属形而下层面的感性认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内在的联系与客观的规律，属形而上层面的理性认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华文行楷"/>
                <a:ea typeface="华文行楷"/>
              </a:rPr>
              <a:t>◎ </a:t>
            </a:r>
            <a:r>
              <a:rPr b="0" lang="zh-CN" sz="2800" spc="-1" strike="noStrike">
                <a:solidFill>
                  <a:srgbClr val="007a77"/>
                </a:solidFill>
                <a:latin typeface="华文行楷"/>
                <a:ea typeface="华文行楷"/>
              </a:rPr>
              <a:t>换言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遵循从个别到一般和从具体到抽象的思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在对于史料和史实加以分析归纳和演绎推理的基础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实现认识的升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7a77"/>
                </a:solidFill>
                <a:latin typeface="华文行楷"/>
                <a:ea typeface="华文行楷"/>
              </a:rPr>
              <a:t>史料的考证和史实的罗列只是形而下和感性层面的初步认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39640" y="33336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◎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萨的金字塔与底比斯的神庙构成古代埃及历史的缩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古王国时期法老的统治到新王国时期僧侣势力膨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234936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◎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紫禁城构成中国封建社会历史的缩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皇帝至高无上的地位以及统治者与民众之间的隔绝   状态。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9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95280" y="2205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◎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统民居的四合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贵贱尊卑的社会现象，封闭倾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4046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◎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11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飞机与纽约世贸大厦撞击的画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矛盾的对抗与文明的冲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65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68360" y="476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三、世界历史的宏观框架和演进趋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539640" y="1125360"/>
          <a:ext cx="8064720" cy="3911760"/>
        </p:xfrm>
        <a:graphic>
          <a:graphicData uri="http://schemas.openxmlformats.org/drawingml/2006/table">
            <a:tbl>
              <a:tblPr/>
              <a:tblGrid>
                <a:gridCol w="1162080"/>
                <a:gridCol w="6902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生产工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石器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青铜器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铁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经济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攫取性经济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生产性经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传统农业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现代工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个体小生产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社会化大生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所有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原始公有制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私有制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社会主义公有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经济性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自然经济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商品经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历史格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分散的历史和相对孤立的文明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全球化的进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矛盾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游牧群体与定居社会的冲突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发达地区与现代化边缘世界的对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历史时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野蛮时代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文明时代（传统文明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现代文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社会形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原始社会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奴隶制社会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封建社会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资本主义社会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社会主义社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……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华文行楷"/>
                          <a:ea typeface="华文行楷"/>
                        </a:rPr>
                        <a:t>共产主义社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611280" y="537516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Tahoma"/>
                <a:ea typeface="华文行楷"/>
              </a:rPr>
              <a:t>一言以蔽之，所谓的世界历史，其实质是人类走向解放的漫长道路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Tahoma"/>
                <a:ea typeface="华文行楷"/>
              </a:rPr>
              <a:t>即人类告别野蛮时代走向文明，继而摆脱传统社会的依附状态走向自由的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Tahoma"/>
                <a:ea typeface="华文行楷"/>
              </a:rPr>
              <a:t>生产的进步和财富的积累抑或从贫困走向富庶，构成历史演进的深层次背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50"/>
                            </p:stCondLst>
                            <p:childTnLst>
                              <p:par>
                                <p:cTn id="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25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2700360" y="1268280"/>
            <a:ext cx="360036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四、 余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3" name=""/>
          <p:cNvSpPr/>
          <p:nvPr/>
        </p:nvSpPr>
        <p:spPr>
          <a:xfrm>
            <a:off x="2809440" y="2936880"/>
            <a:ext cx="374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  <a:ea typeface="华文行楷"/>
              </a:rPr>
              <a:t>历史学作为社会科学的分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  <a:ea typeface="华文行楷"/>
              </a:rPr>
              <a:t>旨在从特定的角度探讨和揭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  <a:ea typeface="华文行楷"/>
              </a:rPr>
              <a:t>人类社会的运动轨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  <a:ea typeface="华文行楷"/>
              </a:rPr>
              <a:t>学习历史和研究历史的目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  <a:ea typeface="华文行楷"/>
              </a:rPr>
              <a:t>在于认识社会和服务社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世界 历史 引论</cp:keywords>
  <dc:language>en-US</dc:language>
  <cp:lastModifiedBy/>
  <cp:revision>0</cp:revision>
  <dc:subject/>
  <dc:title/>
</cp:coreProperties>
</file>