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type.wav" ContentType="audio/x-wav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5E5-E96F-459D-AC63-C455E4D42E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6C2-3D0F-4DCA-9C6F-2588BA1F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7C4-836C-43B4-913C-F4955DE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787-7D39-4CB1-BC76-67FD4169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C79-6A6E-4406-B3A0-66822673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6034-CC71-47C7-A73C-0D8EA884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A429-3901-44FE-8A96-957C47E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8C01-4008-490F-BFC8-00B17F96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2DCF-445A-4EC9-98BA-C3EB768C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40D7-0B2F-4E15-B1EE-BADF3749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B513-031E-4208-B0E6-F194E8DC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1858-DC36-4389-97A2-7225BAA0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B6C-460F-4EE6-95F9-7398AEB6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6EEF-9382-46D3-98DF-0A64F71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9795-E15A-43AE-947E-7BD48DB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C416-892A-4E50-BA45-36C22CE0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5F06-427D-43C8-82ED-9114B466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539-2DED-4800-AB25-EAF4A083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108-2E4C-4521-8B52-7C8765DF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5CC-AD21-4651-840D-5F82472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7E3-1A11-411F-8B12-46AF0175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00B-D756-4662-834D-CFE15B8C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277-588E-42E7-8297-15A8B22F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9C2-F1A6-473C-B048-245EF39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1B0-1F46-465C-B625-4941C68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2A7-61B6-4899-BDBD-49821EF6258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14B0-DD63-4721-9482-369689490C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税收和纳税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196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.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税收及其基本特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77080" y="2852640"/>
            <a:ext cx="2514600" cy="381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）无偿性：不具有偿还性、返还性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固定性：是指在征税之前就通过法律形式，预先规定了征税对象和征收数额之间的数量比例，不经国家批准不能随意变更。既是对国家，也是对纳税人的约束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1988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固定性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税收三个基本特征的关系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三者紧密相连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A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无偿性要求它具有强制性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B.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税收的强制性和无偿性决定了它必须具有固定性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0" y="9140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议一议： 在经济生活中，税收、罚款、没收财产都形成财政收入，但就特征而言，税收与后两者有哪些相同点和不同点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它们都形成财政收入，都具有强制性、无偿性，但是罚款、没收财产不具有固定性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违反国家税法行为的表现和处理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8588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处理：如果纳税人偷税、欠税、骗税、抗税，税务机关就要追缴税款、处以罚款，有的还要由司法机关予以刑事处罚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333360"/>
            <a:ext cx="82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表现：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偷税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定义：是纳税人有意违反税法规定，用欺骗、隐瞒等方式逃避纳税的行为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内容：伪造、涂改、销毁帐簿和票据；少报应税项目、销售收入和经营利润等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处理：依法制裁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765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议一议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有人认为，如果是为了使工厂走出困境，工人能发工资，所偷税款没有装进个人腰包，就不构成犯罪。你是怎样看的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320040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基本含义 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(1)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定义 ：国家为了实现其职能，凭借政治权力，依法无偿取得财政收入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的基本形式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343400" y="3200400"/>
          <a:ext cx="3808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20040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765000"/>
            <a:ext cx="81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欠税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定义：是纳税人超过税务机关核定的纳税期限，没有按时缴纳而拖欠税款的行为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内容：应税项目的纳税期限，是指税法规定的从事了应税活动或取得了应税收入，需在多长时间内完成纳税行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1628640"/>
            <a:ext cx="67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处理：限期缴纳、加收千分之二的滞纳金；强制扣缴；扣押、查封、拍卖抵缴税款和滞纳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6920" y="765000"/>
            <a:ext cx="719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骗税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      定义：是纳税人用欺骗手段获得国家税收优惠的行为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      内容：在我国，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骗取国家出口退税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还有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骗取国家税收优惠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的行为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8154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处理：我国刑法规定：数额较大的，处五年以下徒刑或者拘役，数额巨大情节严重的，处五年以上十年以下徒刑并处以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至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倍罚金；数额特别巨大情节特别严重的，处十年以上或无期徒刑并处以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至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倍罚金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8227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骗税与偷税的主要区别在于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：   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前者是骗得税收优惠，后者是设法隐瞒应税项目和应税收入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105264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抗税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定义：是纳税人以暴力、威胁方法拒不缴纳税款的行为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内容：拒不执行税法规定、不纳税；拒绝接受检查；聚众闹事、威胁、殴打、围攻等行为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处理：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处三年以下徒刑或拘役，并处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-5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倍罚金；情节严重的，处三年至七年徒刑，并处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-5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倍罚金；以暴力方式抗税，致人重伤或死亡的，依法按伤害罪、杀人罪处罚，并处以罚金。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4495680"/>
            <a:ext cx="6324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62864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想一想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                                                纳税人偷税、欠税、骗税、抗税要受到法律制裁，这与税收的特征有什么联系？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71640" y="1052640"/>
            <a:ext cx="748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这说明税收具有强制性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税收的强制性是指税收是依靠国家的政治权力而强制征收的。征税必须有法律依据，纳税人必须依法纳税，否则将受到法律的制裁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含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      基本特征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  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                违法表现和处理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08400" y="2133720"/>
            <a:ext cx="685800" cy="2590560"/>
          </a:xfrm>
          <a:custGeom>
            <a:avLst/>
            <a:gdLst>
              <a:gd name="textAreaLeft" fmla="*/ 438120 w 685800"/>
              <a:gd name="textAreaRight" fmla="*/ 686160 w 6858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宋体"/>
              </a:rPr>
              <a:t>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内容：是国家征收的货币和实物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A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商品货币关系不发达时，税收主要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征收实物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876840" cy="32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1197000"/>
            <a:ext cx="77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综合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                       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比较题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税收与其他财政收入形式的主要区别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620640"/>
            <a:ext cx="748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提示：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1.(1)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财政收入是国家通过一定的形式和渠道集中起来的资金。包括税、利、债、费、各种罚没收入、国际捐款等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(2)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税收是国家凭借政治权力依法无偿取得财政收入的形式，具有强制性、无偿性、固定性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2.(1)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国有企业上缴的利润有无偿性和一定的强制性，但没有固定性；债务收入根本没有税收的三个特征；国家机关的收费有固定性，但它以国家机关提供服务为前提，不具有无偿性；罚没收入有强制性，但没有固定性；国际捐款有无偿性，但没有强制性和固定性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(2)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而税收是强制性、无偿性、固定性的统一，缺一不可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54040" y="2563920"/>
            <a:ext cx="24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再          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B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在发达的商品经济条件下，主要征收货币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381560" y="3195720"/>
          <a:ext cx="3808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319572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381560" y="3195720"/>
          <a:ext cx="3808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319572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381560" y="3195720"/>
          <a:ext cx="3808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560" y="319572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）税收的法律依据：税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964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税收的立法和政策制定机关、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征收机关                          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A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立法和政策制定机关：               各级人大及常委会、国务院及财政部、国务院关税税则委员会、国家税务总局等   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518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B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征收机关：                各级国家税务局和地方税务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77300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税收的基本特征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                      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(1)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强制性 ：是依靠国家的政治权力而强制征收的。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列宁：所谓赋税，就是国家不付任何报酬而向居民取得东西。这说明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税收 纳税人</cp:keywords>
  <dc:language>en-US</dc:language>
  <cp:lastModifiedBy/>
  <cp:revision>0</cp:revision>
  <dc:subject/>
  <dc:title/>
</cp:coreProperties>
</file>