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1E16-A92E-4381-808C-5608651E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236-0E91-41DD-BBB3-02B866C4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E10-6A4A-47BD-857C-C14DE6DE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384-9313-40A1-A139-99A7C136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BEC-C20B-487B-B5A7-880C7F79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0A9-8502-4218-86B4-848CBA31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796-86B9-4A06-9EFE-8B511BF6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EE7-209A-4FBF-ACEA-992D71A4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54B-EF7D-4D30-83E2-3D739743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27C-1DCE-4617-90E4-A3FDC3FE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174-B25C-4A5A-9517-D1261222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AFE-FBCE-4BAE-B585-C9A122D2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CB35-DB98-4107-8DD6-A681A181FC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99800" y="1209600"/>
            <a:ext cx="563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生态系统的结构和功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04960" y="2997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食物链和食物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4160" y="3933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、生态系统的能量流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8640" y="486900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、生态系统的物质循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762120" y="38088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活动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1357200" y="15890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制作生态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2240" y="261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99240" y="1206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议一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22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70480" y="1447920"/>
            <a:ext cx="51793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要使模拟的生态系统维持更长时间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生态系统中除了要有非生物物质、生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者、消费者等成分，还有什么因素必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得到保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为什么相对封闭的生态瓶中的生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能存活较长的时间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77400" y="380880"/>
            <a:ext cx="5301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阳光。阳光是生态瓶中各种生命活动的能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源，如果不能保证该生态瓶的阳光供应，其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生物将会死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该生态瓶是一个小的生态系统，其中包含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生态系统的各种成分，只要保证该生态瓶的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量供应，并且维持其中的生物之间以及生物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无机环境之间的相对稳定的关系，就可以使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中的生物存活较长的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83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3049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练习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447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这个食物网有食物（      ） 条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3640" y="20988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这个食物网中的生产者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）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760" y="2784600"/>
            <a:ext cx="340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假设由于某种原因，这个生态系统中的大鱼全部死亡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虾的数量将会（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在这个食物网中，最长的食物链是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除图中已经画出的食物关系外，该食物网中的生物之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存在哪些食物关系，请在图中画出。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38080" y="3049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练习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"/>
          <p:cNvSpPr/>
          <p:nvPr/>
        </p:nvSpPr>
        <p:spPr>
          <a:xfrm>
            <a:off x="1415880" y="1246320"/>
            <a:ext cx="707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、下图是由浮游植物、人、浮游动物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鲈鱼四种生物所构成的能量金字塔，图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分别代表的生物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51040" y="291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9640" y="284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7508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666880" y="3048120"/>
          <a:ext cx="609840" cy="53316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209680" y="3581280"/>
          <a:ext cx="1600200" cy="68544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828800" y="4267080"/>
          <a:ext cx="2362320" cy="838080"/>
        </p:xfrm>
        <a:graphic>
          <a:graphicData uri="http://schemas.openxmlformats.org/drawingml/2006/table">
            <a:tbl>
              <a:tblPr/>
              <a:tblGrid>
                <a:gridCol w="23623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523880" y="5105520"/>
          <a:ext cx="2895840" cy="91440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066680" y="4724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962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562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3200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7360" y="2860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40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7360" y="446076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85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25780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304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51200" y="404640"/>
            <a:ext cx="487476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活动手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凯巴森林中的生物之间的关系与草原生态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的生物的关系一样，生物之间通过食物联系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森林中的食物链和食物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封闭的生态瓶中的生物可以存活较长时间，这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因为在这个微型生态系统中包含了生态系统的各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必要成分，各种成分相互作用，构成了一个整体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时，这个生态系统被置于阳光下，可以向其中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入光能，保证了生态系统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25600" y="685800"/>
            <a:ext cx="50576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分析草原生态系统中部分生物的关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2120" y="38088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活动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4375080" y="2251080"/>
            <a:ext cx="54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草原上的植物在生态系统中具有什么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草原上的各种动物与草原的植被有什么关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草原上的各种动物之间具有什么关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尝试将草原生态系统中各种生物之间的关系用连线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2240" y="451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0" y="3886200"/>
            <a:ext cx="4800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97080" y="685800"/>
            <a:ext cx="4447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讨论水族箱中能量的来源和流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2120" y="38088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活动：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"/>
          <p:cNvSpPr/>
          <p:nvPr/>
        </p:nvSpPr>
        <p:spPr>
          <a:xfrm>
            <a:off x="2058840" y="2666880"/>
            <a:ext cx="4326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、水族箱中的各种动物如何获得维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生命活动的能量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、水族箱中的各种植物维持生命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的能量来自何方？这些植物是怎样获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所需的能量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、能量如何在生态系统的各种生物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流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01080" y="385920"/>
            <a:ext cx="3838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、各种生物获得的能量是不是可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全部用于它们的生命活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5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、生态系统中的能量流动具有什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特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5240" y="225360"/>
            <a:ext cx="49824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水族箱中的各种动物食用水族箱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植物，从植物的有机物中获得生命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动的能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、各种植物生命活动的能量来自太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绿色植物通过光合作用将光能储存在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的有机物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生态系统中各种生物通过吃与被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关系构成食物链，能量在食物链的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种生物之间流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、生物不能将所获得能量全部用于生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活动，因为一部分能量在流动中损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生态系统中的能量流动的特点是：单向流动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逐级递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38088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活动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3608280" y="5335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分析生态系统的碳循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57520" y="1523880"/>
            <a:ext cx="231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无机环境中的二氧化碳是怎样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入到生物体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43120" y="2666880"/>
            <a:ext cx="383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与生产者比较，消费者获得含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化合物的方式有什么特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14520" y="3962520"/>
            <a:ext cx="41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生物体哪些生命活动可以使无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环境中的二氧化碳得到补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91040" y="53341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碳在生态系统中是怎样循环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05880" y="30960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5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、根据碳循环的途径和特点，推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生态系统中的水循环途径和方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228600"/>
            <a:ext cx="90486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绿色植物光合作用将无机环境中的二氧化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水合成有机物，使二氧化碳进入植物体，动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绿色植物为食，这些含碳的有机物进入动物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生产者可以利用无机环境中的二氧化碳，而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费者只能利用生产者光合作用合成的含碳有机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因此，生产者属于自养生物，消费者属于异养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动物、植物的呼吸作用、微生物的分解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产生的二氧化碳以及工厂生产、居民生活排放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氧化碳都可以使无机环境中的二氧化碳得到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17680" y="36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4800" y="457200"/>
            <a:ext cx="5087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、绿色植物光合作用使大气中二氧化碳以有机物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形式进入生态系统，这些有机物可以构成植物体；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物通过直接或间接以绿色植物为食，含碳的有机物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入动物体，构成动物体或为动物体生命活动利用；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植物死亡后，其尸体为细菌、真菌等分解者分解，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又以二氧化碳的形式进入无机环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碳循环是在生物与无机环境之间进行的，具有往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循环的特点。水循环同样具有碳循环的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生态系统 结构 功能</cp:keywords>
  <dc:language>en-US</dc:language>
  <cp:lastModifiedBy/>
  <cp:revision>0</cp:revision>
  <dc:subject/>
  <dc:title/>
</cp:coreProperties>
</file>