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7941-5E32-4262-A8A1-B1B99B18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44B3-770D-4134-9A03-4AB61394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571-355A-41B5-A9F0-A8FD7342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5CAD-C8AE-4230-BA91-C30965A6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A49D-BF2B-4E2F-868B-5F63C691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028B-A3DA-44F2-AC36-132B27D7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4E7E-2AFF-4B82-AFB1-E93F322C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1841-794E-4C99-8E32-E26B4671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9C69-D11B-427D-B84E-07544A8D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AA1A-FEC8-4307-8689-1E0D3D5E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7B0B-9C57-4C3B-B34B-42FBA438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013-8B5B-4E52-9D23-1DC6D881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48E2-C1F9-459B-B90A-55E6C630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CF34-D34D-40AE-B07C-F8F04B27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94D5-D918-4FBD-9956-C29C436E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4BFE-AE4C-4B63-88AF-B137A592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61FA-6343-4B37-9EA1-1839642D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F2E-D3F6-4EEB-B1B6-72ABD06E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744-98F2-4B84-86CD-A9BF4444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79D-D2C3-44C1-ABF4-222C6FC4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260E-759B-4820-90F2-448A3993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8D7-EC80-44C5-81AB-6B274047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4FF-EE4F-4288-98B6-2A89F62B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C1E-3DE5-4CEE-BCBE-E096245A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277D-B064-4EEB-A959-AC732D0BF973}" type="slidenum"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99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66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c9ddf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Arial"/>
              </a:rPr>
              <a:t>Click to edit the title text format</a:t>
            </a: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DBDE-FA7E-4945-B673-202EFA43D51E}" type="slidenum"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227160" algn="ctr">
              <a:spcBef>
                <a:spcPts val="601"/>
              </a:spcBef>
              <a:buClr>
                <a:srgbClr val="c9ddf1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ccff"/>
              </a:solidFill>
              <a:uFillTx/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通用 大厦</cp:keywords>
  <dc:language>en-US</dc:language>
  <cp:lastModifiedBy/>
  <cp:revision>0</cp:revision>
  <dc:subject/>
  <dc:title/>
</cp:coreProperties>
</file>