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689-58AE-415B-923A-984FE7E0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9F4-5EA3-4DB3-90DF-5B7F562D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546-122B-446F-AB71-336D9F50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D64-A6C7-4B95-A631-C22DC609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5A8D-6BDD-4910-80C9-30C5EF95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D2D9-00B9-4529-A423-B0AFDF31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6CCD-C0A1-492A-AB9F-93ED4600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A71C-37B2-4462-A6CE-E372F698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66A0-374F-45B9-AC5C-B6BE5D74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E9F0-76DD-4E39-8ABF-BB927423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DE57-FD7D-4696-A325-22A90CC0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A9A-482C-4258-B23D-11831E23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9043-EFCF-4C2F-AE28-038DC746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3A2F-9076-458F-87B2-CA3487EC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BDCB-4494-4FDC-9198-D3AB551A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D414-FFFA-4DD2-AC68-1CEC29E5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83B6-F716-4C59-AD10-3836C420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829-D59D-45FC-ABBC-0F68322F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70E-64DC-498E-8892-AC2F4998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931-9C1D-4AF5-81DD-7881D218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2C8-BAE8-44AD-A07D-9F355126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26E-9EA6-4714-956E-6E19E289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29F-C166-4D44-A021-2D1BC45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013-D29D-4AE9-9DD8-DFF8ED4A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DDB5-C565-4E5A-875E-A38752ACD92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BF88-5C8E-40F0-B5B7-871FE6ACF113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经济学引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楷体_GB2312"/>
              <a:ea typeface="楷体_GB2312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609120"/>
            <a:ext cx="81406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中国文化产业的问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文化产业的发展落后于经济与教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大中小学的艺术教育远远落后与科学与人文教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缺乏政府与社会的投资与赞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累退所得税的价格机制：北京上海的演出价格远高于纽约，中小城市和农村缺乏文化生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商业动机和媚俗现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缺乏文化，经济，与政治的联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中国文化产业的改革建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大力加强大中小学的艺术教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设立文化基金会，给私人和企业的捐款免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价格管理推行非线性价格，鼓励学生与教师增加文化消费的机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改革文化产业的营销体制，发展联营和中长期计划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经济学的诞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Ford Foundation’s Arts Program (1957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William Baumol and William Bowen, </a:t>
            </a:r>
            <a:r>
              <a:rPr b="0" i="1" lang="zh-CN" sz="3200" spc="-1" strike="noStrike">
                <a:solidFill>
                  <a:srgbClr val="007a77"/>
                </a:solidFill>
                <a:latin typeface="Arial"/>
              </a:rPr>
              <a:t>Performing Arts: The Economic Dilemma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Twenties Century Fund, New York (1966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Association for Cultural Economics and Journal of Cultural Economics (1970s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艺术产业的特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文化艺术产业的范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娱乐性体育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表演艺术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戏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音乐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舞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)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电影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博物馆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画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出版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文化产业的规模与增长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欧美文化娱乐支出占人均可支配收入的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5-9%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随经济增长而增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520" y="686880"/>
            <a:ext cx="81406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商品的特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文化支出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消费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还是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投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文化教育与科学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创造性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文化商品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私用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兼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公用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显著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外部性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；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上瘾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文化投资的规模：歌剧，交响乐，芭蕾，博物馆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成本高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难以靠门票收入支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文化投资的风险：艺术品的拍卖纪录表明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风险（价格波动）高于国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政策含义：混合经济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政府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非盈利机构的支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发展文化产业的关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商品的供求关系与定价方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垄断竞争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而非完全竞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需求曲线斜率向下：降价会刺激需求的增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供给曲线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：短期斜率向上（涨价会增加供给）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长期平坦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供给变化时价格不变）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剧院供给曲线垂直向上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座位数固定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生产的边际成本不变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》多演出效率不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文化产品的价格为何缺乏弹性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产周期长，价格的信号作用（社会地位），改变定价的成本高（广告，印票，形象），信息复杂与缺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市场的特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教育程度与文化支出正相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收入水平与文化支出正相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欧美妇女的文化支出高于男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欧美文化消费的主力日益年轻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培育年轻一代的文化市场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：维也纳剧院给穷学生的保留座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非线性定价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：剧场的学生和中小学教员的折扣，美国专业图书的地域区隔定价，博物馆的免费日，体育大赛的供不应求制造人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产业的赞助模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市场失败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典型：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多数艺术家陷于贫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成本高于收入，公共效益大于票房收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提高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国民的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创造性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竞争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普及艺术教育减少社会差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拉动地区经济发展：文化旅游的增长（意大利，法国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赞助模式：美国以联邦政府与私人基金会为主，法国以中央政府为主，德国以地方政府为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文化多元化与社会公德的选择规则（性，暴力，价值观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文化传统与税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1520" y="686880"/>
            <a:ext cx="81406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营销的新发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4588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提高鉴赏标准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制造公众气氛：艺术节，文化节，国际与国内竞赛（电影，音乐，舞蹈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演出长程（年度）计划与多元艺术的协调配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演出公司与代理人网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地区巡回演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演出售票的系统折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1520" y="609120"/>
            <a:ext cx="81406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中国文化产业的发展前景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国艺术地位的迅速提高：音乐（钢琴，提琴，指挥，声乐的国际大奖），舞蹈，花样滑冰，电影（张艺谋，卧虎藏龙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表演艺术和电影的国际化与多元化：美国，西欧，俄国，南非，土耳其，拉丁国家的演出》比美国更多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TV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VC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DV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家庭普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音乐教育的迅速发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艺术院校的供不应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文化经济学 引论</cp:keywords>
  <dc:language>en-US</dc:language>
  <cp:lastModifiedBy/>
  <cp:revision>0</cp:revision>
  <dc:subject/>
  <dc:title/>
</cp:coreProperties>
</file>