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6BE-E4F5-475B-8EFF-5DA317FA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1CD-9D73-48A2-876A-C55BBD8A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CD2-B86C-4883-8B1F-51D73C6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40F-CF6E-49A7-86D6-5D9D8E7F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813-8889-4CDB-967B-416BDA1C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41DC-CD83-462A-A87F-37162EB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39E-4390-4EBC-93EE-A154D0C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B7F4-C442-4FF5-92C2-B2B27793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61E-BFCE-496A-9C38-E499E385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95F6-6B86-40CF-BA66-C2B9558A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72C5-657A-45FE-AE7F-3636DE1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724-633D-48F5-8D8F-C2C86153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4804-C363-4E50-B907-688F3F6A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95B-0AC3-495A-A5AF-2059874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0EE3-20DA-4856-BD50-8CA4CB3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ADC-66F4-41B6-8887-3171A025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76F-827E-46A9-9706-C6382311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C4D-35ED-457E-8445-68BA768D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89B-691D-4A71-A51B-7EA3C6A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69A-8943-456E-B6D7-88F6635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4D8-355A-452D-97E7-1D9633B6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3E5-A0FB-4500-8489-2FD615F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6BF-3CBA-4916-8339-C0D1698A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489-DCBB-41E7-BD93-52845A2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1" name=""/>
            <p:cNvSpPr/>
            <p:nvPr/>
          </p:nvSpPr>
          <p:spPr>
            <a:xfrm>
              <a:off x="0" y="6476760"/>
              <a:ext cx="9131400" cy="368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b1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807696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054560" y="6449760"/>
                  <a:ext cx="1335240" cy="24300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18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5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" name=""/>
                <p:cNvGrpSpPr/>
                <p:nvPr/>
              </p:nvGrpSpPr>
              <p:grpSpPr>
                <a:xfrm>
                  <a:off x="6400800" y="4073400"/>
                  <a:ext cx="2209680" cy="1760400"/>
                  <a:chOff x="6400800" y="4073400"/>
                  <a:chExt cx="2209680" cy="176040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6713640" y="4717800"/>
                    <a:ext cx="1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878520" y="4701960"/>
                    <a:ext cx="81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8">
                        <a:moveTo>
                          <a:pt x="50" y="0"/>
                        </a:moveTo>
                        <a:lnTo>
                          <a:pt x="31" y="0"/>
                        </a:lnTo>
                        <a:lnTo>
                          <a:pt x="20" y="13"/>
                        </a:lnTo>
                        <a:lnTo>
                          <a:pt x="13" y="13"/>
                        </a:lnTo>
                        <a:lnTo>
                          <a:pt x="7" y="19"/>
                        </a:lnTo>
                        <a:lnTo>
                          <a:pt x="0" y="19"/>
                        </a:lnTo>
                        <a:lnTo>
                          <a:pt x="0" y="35"/>
                        </a:lnTo>
                        <a:lnTo>
                          <a:pt x="12" y="47"/>
                        </a:lnTo>
                        <a:lnTo>
                          <a:pt x="41" y="47"/>
                        </a:lnTo>
                        <a:lnTo>
                          <a:pt x="50" y="3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6400800" y="4762440"/>
                    <a:ext cx="71604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87">
                        <a:moveTo>
                          <a:pt x="107" y="0"/>
                        </a:moveTo>
                        <a:lnTo>
                          <a:pt x="99" y="16"/>
                        </a:lnTo>
                        <a:lnTo>
                          <a:pt x="64" y="47"/>
                        </a:lnTo>
                        <a:lnTo>
                          <a:pt x="56" y="75"/>
                        </a:lnTo>
                        <a:lnTo>
                          <a:pt x="30" y="95"/>
                        </a:lnTo>
                        <a:lnTo>
                          <a:pt x="12" y="135"/>
                        </a:lnTo>
                        <a:lnTo>
                          <a:pt x="12" y="159"/>
                        </a:lnTo>
                        <a:lnTo>
                          <a:pt x="0" y="201"/>
                        </a:lnTo>
                        <a:lnTo>
                          <a:pt x="16" y="219"/>
                        </a:lnTo>
                        <a:lnTo>
                          <a:pt x="56" y="272"/>
                        </a:lnTo>
                        <a:lnTo>
                          <a:pt x="68" y="265"/>
                        </a:lnTo>
                        <a:lnTo>
                          <a:pt x="139" y="265"/>
                        </a:lnTo>
                        <a:lnTo>
                          <a:pt x="172" y="278"/>
                        </a:lnTo>
                        <a:lnTo>
                          <a:pt x="169" y="319"/>
                        </a:lnTo>
                        <a:lnTo>
                          <a:pt x="193" y="374"/>
                        </a:lnTo>
                        <a:lnTo>
                          <a:pt x="191" y="389"/>
                        </a:lnTo>
                        <a:lnTo>
                          <a:pt x="201" y="406"/>
                        </a:lnTo>
                        <a:lnTo>
                          <a:pt x="186" y="445"/>
                        </a:lnTo>
                        <a:lnTo>
                          <a:pt x="204" y="494"/>
                        </a:lnTo>
                        <a:lnTo>
                          <a:pt x="214" y="532"/>
                        </a:lnTo>
                        <a:lnTo>
                          <a:pt x="226" y="556"/>
                        </a:lnTo>
                        <a:lnTo>
                          <a:pt x="239" y="586"/>
                        </a:lnTo>
                        <a:lnTo>
                          <a:pt x="263" y="582"/>
                        </a:lnTo>
                        <a:lnTo>
                          <a:pt x="302" y="560"/>
                        </a:lnTo>
                        <a:lnTo>
                          <a:pt x="320" y="533"/>
                        </a:lnTo>
                        <a:lnTo>
                          <a:pt x="319" y="515"/>
                        </a:lnTo>
                        <a:lnTo>
                          <a:pt x="342" y="500"/>
                        </a:lnTo>
                        <a:lnTo>
                          <a:pt x="338" y="474"/>
                        </a:lnTo>
                        <a:lnTo>
                          <a:pt x="373" y="432"/>
                        </a:lnTo>
                        <a:lnTo>
                          <a:pt x="378" y="398"/>
                        </a:lnTo>
                        <a:lnTo>
                          <a:pt x="369" y="386"/>
                        </a:lnTo>
                        <a:lnTo>
                          <a:pt x="373" y="372"/>
                        </a:lnTo>
                        <a:lnTo>
                          <a:pt x="365" y="360"/>
                        </a:lnTo>
                        <a:lnTo>
                          <a:pt x="391" y="327"/>
                        </a:lnTo>
                        <a:lnTo>
                          <a:pt x="391" y="310"/>
                        </a:lnTo>
                        <a:lnTo>
                          <a:pt x="427" y="282"/>
                        </a:lnTo>
                        <a:lnTo>
                          <a:pt x="450" y="207"/>
                        </a:lnTo>
                        <a:lnTo>
                          <a:pt x="417" y="226"/>
                        </a:lnTo>
                        <a:lnTo>
                          <a:pt x="388" y="218"/>
                        </a:lnTo>
                        <a:lnTo>
                          <a:pt x="392" y="200"/>
                        </a:lnTo>
                        <a:lnTo>
                          <a:pt x="363" y="180"/>
                        </a:lnTo>
                        <a:lnTo>
                          <a:pt x="349" y="132"/>
                        </a:lnTo>
                        <a:lnTo>
                          <a:pt x="321" y="93"/>
                        </a:lnTo>
                        <a:lnTo>
                          <a:pt x="321" y="66"/>
                        </a:lnTo>
                        <a:lnTo>
                          <a:pt x="306" y="65"/>
                        </a:lnTo>
                        <a:lnTo>
                          <a:pt x="296" y="69"/>
                        </a:lnTo>
                        <a:lnTo>
                          <a:pt x="254" y="54"/>
                        </a:lnTo>
                        <a:lnTo>
                          <a:pt x="243" y="65"/>
                        </a:lnTo>
                        <a:lnTo>
                          <a:pt x="234" y="78"/>
                        </a:lnTo>
                        <a:lnTo>
                          <a:pt x="211" y="53"/>
                        </a:lnTo>
                        <a:lnTo>
                          <a:pt x="189" y="47"/>
                        </a:lnTo>
                        <a:lnTo>
                          <a:pt x="187" y="15"/>
                        </a:lnTo>
                        <a:lnTo>
                          <a:pt x="155" y="20"/>
                        </a:lnTo>
                        <a:lnTo>
                          <a:pt x="135" y="13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7" y="0"/>
                        </a:moveTo>
                        <a:lnTo>
                          <a:pt x="9" y="8"/>
                        </a:lnTo>
                        <a:lnTo>
                          <a:pt x="7" y="14"/>
                        </a:lnTo>
                        <a:lnTo>
                          <a:pt x="7" y="19"/>
                        </a:lnTo>
                        <a:lnTo>
                          <a:pt x="16" y="23"/>
                        </a:lnTo>
                        <a:lnTo>
                          <a:pt x="16" y="27"/>
                        </a:lnTo>
                        <a:lnTo>
                          <a:pt x="9" y="23"/>
                        </a:lnTo>
                        <a:lnTo>
                          <a:pt x="3" y="27"/>
                        </a:lnTo>
                        <a:lnTo>
                          <a:pt x="0" y="23"/>
                        </a:lnTo>
                        <a:lnTo>
                          <a:pt x="3" y="19"/>
                        </a:lnTo>
                        <a:lnTo>
                          <a:pt x="0" y="14"/>
                        </a:ln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0" y="48"/>
                        </a:moveTo>
                        <a:lnTo>
                          <a:pt x="24" y="48"/>
                        </a:lnTo>
                        <a:lnTo>
                          <a:pt x="52" y="0"/>
                        </a:lnTo>
                        <a:lnTo>
                          <a:pt x="67" y="28"/>
                        </a:lnTo>
                        <a:lnTo>
                          <a:pt x="55" y="96"/>
                        </a:lnTo>
                        <a:lnTo>
                          <a:pt x="5" y="80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132760" y="5248080"/>
                    <a:ext cx="1857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94">
                        <a:moveTo>
                          <a:pt x="7" y="22"/>
                        </a:moveTo>
                        <a:lnTo>
                          <a:pt x="0" y="0"/>
                        </a:lnTo>
                        <a:lnTo>
                          <a:pt x="39" y="9"/>
                        </a:lnTo>
                        <a:lnTo>
                          <a:pt x="95" y="32"/>
                        </a:lnTo>
                        <a:lnTo>
                          <a:pt x="95" y="49"/>
                        </a:lnTo>
                        <a:lnTo>
                          <a:pt x="116" y="93"/>
                        </a:lnTo>
                        <a:lnTo>
                          <a:pt x="73" y="51"/>
                        </a:lnTo>
                        <a:lnTo>
                          <a:pt x="44" y="54"/>
                        </a:lnTo>
                        <a:lnTo>
                          <a:pt x="7" y="22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8485200" y="5551200"/>
                    <a:ext cx="1252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01">
                        <a:moveTo>
                          <a:pt x="48" y="0"/>
                        </a:moveTo>
                        <a:lnTo>
                          <a:pt x="78" y="30"/>
                        </a:lnTo>
                        <a:lnTo>
                          <a:pt x="16" y="100"/>
                        </a:lnTo>
                        <a:lnTo>
                          <a:pt x="0" y="84"/>
                        </a:lnTo>
                        <a:lnTo>
                          <a:pt x="45" y="39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622920" y="4462200"/>
                    <a:ext cx="619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6">
                        <a:moveTo>
                          <a:pt x="38" y="51"/>
                        </a:moveTo>
                        <a:lnTo>
                          <a:pt x="28" y="43"/>
                        </a:lnTo>
                        <a:lnTo>
                          <a:pt x="28" y="14"/>
                        </a:lnTo>
                        <a:lnTo>
                          <a:pt x="33" y="8"/>
                        </a:lnTo>
                        <a:lnTo>
                          <a:pt x="24" y="8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4" y="9"/>
                        </a:lnTo>
                        <a:lnTo>
                          <a:pt x="14" y="27"/>
                        </a:lnTo>
                        <a:lnTo>
                          <a:pt x="18" y="31"/>
                        </a:lnTo>
                        <a:lnTo>
                          <a:pt x="18" y="39"/>
                        </a:lnTo>
                        <a:lnTo>
                          <a:pt x="16" y="39"/>
                        </a:lnTo>
                        <a:lnTo>
                          <a:pt x="9" y="46"/>
                        </a:lnTo>
                        <a:lnTo>
                          <a:pt x="9" y="53"/>
                        </a:lnTo>
                        <a:lnTo>
                          <a:pt x="0" y="65"/>
                        </a:lnTo>
                        <a:lnTo>
                          <a:pt x="29" y="65"/>
                        </a:lnTo>
                        <a:lnTo>
                          <a:pt x="38" y="51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602400" y="449712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17" y="8"/>
                        </a:moveTo>
                        <a:lnTo>
                          <a:pt x="20" y="8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12" y="23"/>
                        </a:lnTo>
                        <a:lnTo>
                          <a:pt x="17" y="17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553080" y="4435200"/>
                    <a:ext cx="4064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16">
                        <a:moveTo>
                          <a:pt x="168" y="0"/>
                        </a:moveTo>
                        <a:lnTo>
                          <a:pt x="168" y="15"/>
                        </a:lnTo>
                        <a:lnTo>
                          <a:pt x="173" y="20"/>
                        </a:lnTo>
                        <a:lnTo>
                          <a:pt x="201" y="20"/>
                        </a:lnTo>
                        <a:lnTo>
                          <a:pt x="201" y="28"/>
                        </a:lnTo>
                        <a:lnTo>
                          <a:pt x="181" y="28"/>
                        </a:lnTo>
                        <a:lnTo>
                          <a:pt x="181" y="52"/>
                        </a:lnTo>
                        <a:lnTo>
                          <a:pt x="172" y="41"/>
                        </a:lnTo>
                        <a:lnTo>
                          <a:pt x="172" y="56"/>
                        </a:lnTo>
                        <a:lnTo>
                          <a:pt x="160" y="70"/>
                        </a:lnTo>
                        <a:lnTo>
                          <a:pt x="152" y="62"/>
                        </a:lnTo>
                        <a:lnTo>
                          <a:pt x="140" y="72"/>
                        </a:lnTo>
                        <a:lnTo>
                          <a:pt x="138" y="69"/>
                        </a:lnTo>
                        <a:lnTo>
                          <a:pt x="123" y="69"/>
                        </a:lnTo>
                        <a:lnTo>
                          <a:pt x="131" y="59"/>
                        </a:lnTo>
                        <a:lnTo>
                          <a:pt x="131" y="55"/>
                        </a:lnTo>
                        <a:lnTo>
                          <a:pt x="124" y="48"/>
                        </a:lnTo>
                        <a:lnTo>
                          <a:pt x="124" y="37"/>
                        </a:lnTo>
                        <a:lnTo>
                          <a:pt x="114" y="48"/>
                        </a:lnTo>
                        <a:lnTo>
                          <a:pt x="114" y="69"/>
                        </a:lnTo>
                        <a:lnTo>
                          <a:pt x="102" y="69"/>
                        </a:lnTo>
                        <a:lnTo>
                          <a:pt x="87" y="84"/>
                        </a:lnTo>
                        <a:lnTo>
                          <a:pt x="81" y="84"/>
                        </a:lnTo>
                        <a:lnTo>
                          <a:pt x="73" y="94"/>
                        </a:lnTo>
                        <a:lnTo>
                          <a:pt x="43" y="94"/>
                        </a:lnTo>
                        <a:lnTo>
                          <a:pt x="53" y="108"/>
                        </a:lnTo>
                        <a:lnTo>
                          <a:pt x="53" y="130"/>
                        </a:lnTo>
                        <a:lnTo>
                          <a:pt x="43" y="143"/>
                        </a:lnTo>
                        <a:lnTo>
                          <a:pt x="31" y="130"/>
                        </a:lnTo>
                        <a:lnTo>
                          <a:pt x="8" y="130"/>
                        </a:lnTo>
                        <a:lnTo>
                          <a:pt x="8" y="146"/>
                        </a:lnTo>
                        <a:lnTo>
                          <a:pt x="0" y="156"/>
                        </a:lnTo>
                        <a:lnTo>
                          <a:pt x="0" y="177"/>
                        </a:lnTo>
                        <a:lnTo>
                          <a:pt x="15" y="194"/>
                        </a:lnTo>
                        <a:lnTo>
                          <a:pt x="37" y="194"/>
                        </a:lnTo>
                        <a:lnTo>
                          <a:pt x="71" y="153"/>
                        </a:lnTo>
                        <a:lnTo>
                          <a:pt x="101" y="153"/>
                        </a:lnTo>
                        <a:lnTo>
                          <a:pt x="105" y="145"/>
                        </a:lnTo>
                        <a:lnTo>
                          <a:pt x="112" y="153"/>
                        </a:lnTo>
                        <a:lnTo>
                          <a:pt x="111" y="161"/>
                        </a:lnTo>
                        <a:lnTo>
                          <a:pt x="139" y="189"/>
                        </a:lnTo>
                        <a:lnTo>
                          <a:pt x="139" y="201"/>
                        </a:lnTo>
                        <a:lnTo>
                          <a:pt x="145" y="196"/>
                        </a:lnTo>
                        <a:lnTo>
                          <a:pt x="142" y="189"/>
                        </a:lnTo>
                        <a:lnTo>
                          <a:pt x="145" y="185"/>
                        </a:lnTo>
                        <a:lnTo>
                          <a:pt x="150" y="189"/>
                        </a:lnTo>
                        <a:lnTo>
                          <a:pt x="152" y="188"/>
                        </a:lnTo>
                        <a:lnTo>
                          <a:pt x="123" y="152"/>
                        </a:lnTo>
                        <a:lnTo>
                          <a:pt x="123" y="139"/>
                        </a:lnTo>
                        <a:lnTo>
                          <a:pt x="131" y="139"/>
                        </a:lnTo>
                        <a:lnTo>
                          <a:pt x="131" y="146"/>
                        </a:lnTo>
                        <a:lnTo>
                          <a:pt x="160" y="178"/>
                        </a:lnTo>
                        <a:lnTo>
                          <a:pt x="160" y="188"/>
                        </a:lnTo>
                        <a:lnTo>
                          <a:pt x="172" y="202"/>
                        </a:lnTo>
                        <a:lnTo>
                          <a:pt x="169" y="205"/>
                        </a:lnTo>
                        <a:lnTo>
                          <a:pt x="178" y="215"/>
                        </a:lnTo>
                        <a:lnTo>
                          <a:pt x="191" y="200"/>
                        </a:lnTo>
                        <a:lnTo>
                          <a:pt x="183" y="191"/>
                        </a:lnTo>
                        <a:lnTo>
                          <a:pt x="191" y="182"/>
                        </a:lnTo>
                        <a:lnTo>
                          <a:pt x="202" y="182"/>
                        </a:lnTo>
                        <a:lnTo>
                          <a:pt x="207" y="177"/>
                        </a:lnTo>
                        <a:lnTo>
                          <a:pt x="214" y="177"/>
                        </a:lnTo>
                        <a:lnTo>
                          <a:pt x="205" y="164"/>
                        </a:lnTo>
                        <a:lnTo>
                          <a:pt x="210" y="158"/>
                        </a:lnTo>
                        <a:lnTo>
                          <a:pt x="210" y="137"/>
                        </a:lnTo>
                        <a:lnTo>
                          <a:pt x="219" y="126"/>
                        </a:lnTo>
                        <a:lnTo>
                          <a:pt x="223" y="130"/>
                        </a:lnTo>
                        <a:lnTo>
                          <a:pt x="232" y="130"/>
                        </a:lnTo>
                        <a:lnTo>
                          <a:pt x="228" y="136"/>
                        </a:lnTo>
                        <a:lnTo>
                          <a:pt x="236" y="145"/>
                        </a:lnTo>
                        <a:lnTo>
                          <a:pt x="241" y="137"/>
                        </a:lnTo>
                        <a:lnTo>
                          <a:pt x="247" y="137"/>
                        </a:lnTo>
                        <a:lnTo>
                          <a:pt x="247" y="134"/>
                        </a:lnTo>
                        <a:lnTo>
                          <a:pt x="244" y="134"/>
                        </a:lnTo>
                        <a:lnTo>
                          <a:pt x="239" y="130"/>
                        </a:lnTo>
                        <a:lnTo>
                          <a:pt x="252" y="114"/>
                        </a:lnTo>
                        <a:lnTo>
                          <a:pt x="252" y="137"/>
                        </a:lnTo>
                        <a:lnTo>
                          <a:pt x="255" y="137"/>
                        </a:lnTo>
                        <a:lnTo>
                          <a:pt x="255" y="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769">
                        <a:moveTo>
                          <a:pt x="0" y="226"/>
                        </a:moveTo>
                        <a:lnTo>
                          <a:pt x="32" y="202"/>
                        </a:lnTo>
                        <a:lnTo>
                          <a:pt x="62" y="156"/>
                        </a:lnTo>
                        <a:lnTo>
                          <a:pt x="99" y="134"/>
                        </a:lnTo>
                        <a:lnTo>
                          <a:pt x="137" y="160"/>
                        </a:lnTo>
                        <a:lnTo>
                          <a:pt x="142" y="181"/>
                        </a:lnTo>
                        <a:lnTo>
                          <a:pt x="133" y="181"/>
                        </a:lnTo>
                        <a:lnTo>
                          <a:pt x="118" y="179"/>
                        </a:lnTo>
                        <a:lnTo>
                          <a:pt x="137" y="202"/>
                        </a:lnTo>
                        <a:lnTo>
                          <a:pt x="216" y="172"/>
                        </a:lnTo>
                        <a:lnTo>
                          <a:pt x="206" y="149"/>
                        </a:lnTo>
                        <a:lnTo>
                          <a:pt x="240" y="110"/>
                        </a:lnTo>
                        <a:lnTo>
                          <a:pt x="262" y="111"/>
                        </a:lnTo>
                        <a:lnTo>
                          <a:pt x="241" y="124"/>
                        </a:lnTo>
                        <a:lnTo>
                          <a:pt x="223" y="153"/>
                        </a:lnTo>
                        <a:lnTo>
                          <a:pt x="223" y="172"/>
                        </a:lnTo>
                        <a:lnTo>
                          <a:pt x="255" y="193"/>
                        </a:lnTo>
                        <a:lnTo>
                          <a:pt x="301" y="133"/>
                        </a:lnTo>
                        <a:lnTo>
                          <a:pt x="461" y="63"/>
                        </a:lnTo>
                        <a:lnTo>
                          <a:pt x="460" y="23"/>
                        </a:lnTo>
                        <a:lnTo>
                          <a:pt x="533" y="8"/>
                        </a:lnTo>
                        <a:lnTo>
                          <a:pt x="574" y="29"/>
                        </a:lnTo>
                        <a:lnTo>
                          <a:pt x="671" y="0"/>
                        </a:lnTo>
                        <a:lnTo>
                          <a:pt x="701" y="15"/>
                        </a:lnTo>
                        <a:lnTo>
                          <a:pt x="766" y="85"/>
                        </a:lnTo>
                        <a:lnTo>
                          <a:pt x="840" y="71"/>
                        </a:lnTo>
                        <a:lnTo>
                          <a:pt x="886" y="96"/>
                        </a:lnTo>
                        <a:lnTo>
                          <a:pt x="1001" y="91"/>
                        </a:lnTo>
                        <a:lnTo>
                          <a:pt x="1088" y="118"/>
                        </a:lnTo>
                        <a:lnTo>
                          <a:pt x="1080" y="156"/>
                        </a:lnTo>
                        <a:lnTo>
                          <a:pt x="1006" y="181"/>
                        </a:lnTo>
                        <a:lnTo>
                          <a:pt x="1019" y="206"/>
                        </a:lnTo>
                        <a:lnTo>
                          <a:pt x="987" y="220"/>
                        </a:lnTo>
                        <a:lnTo>
                          <a:pt x="985" y="270"/>
                        </a:lnTo>
                        <a:lnTo>
                          <a:pt x="957" y="304"/>
                        </a:lnTo>
                        <a:lnTo>
                          <a:pt x="945" y="273"/>
                        </a:lnTo>
                        <a:lnTo>
                          <a:pt x="961" y="244"/>
                        </a:lnTo>
                        <a:lnTo>
                          <a:pt x="958" y="184"/>
                        </a:lnTo>
                        <a:lnTo>
                          <a:pt x="929" y="215"/>
                        </a:lnTo>
                        <a:lnTo>
                          <a:pt x="906" y="232"/>
                        </a:lnTo>
                        <a:lnTo>
                          <a:pt x="884" y="205"/>
                        </a:lnTo>
                        <a:lnTo>
                          <a:pt x="868" y="273"/>
                        </a:lnTo>
                        <a:lnTo>
                          <a:pt x="885" y="273"/>
                        </a:lnTo>
                        <a:lnTo>
                          <a:pt x="881" y="318"/>
                        </a:lnTo>
                        <a:lnTo>
                          <a:pt x="861" y="366"/>
                        </a:lnTo>
                        <a:lnTo>
                          <a:pt x="837" y="385"/>
                        </a:lnTo>
                        <a:lnTo>
                          <a:pt x="857" y="417"/>
                        </a:lnTo>
                        <a:lnTo>
                          <a:pt x="844" y="439"/>
                        </a:lnTo>
                        <a:lnTo>
                          <a:pt x="839" y="420"/>
                        </a:lnTo>
                        <a:lnTo>
                          <a:pt x="839" y="413"/>
                        </a:lnTo>
                        <a:lnTo>
                          <a:pt x="823" y="402"/>
                        </a:lnTo>
                        <a:lnTo>
                          <a:pt x="797" y="416"/>
                        </a:lnTo>
                        <a:lnTo>
                          <a:pt x="820" y="469"/>
                        </a:lnTo>
                        <a:lnTo>
                          <a:pt x="828" y="496"/>
                        </a:lnTo>
                        <a:lnTo>
                          <a:pt x="801" y="569"/>
                        </a:lnTo>
                        <a:lnTo>
                          <a:pt x="751" y="589"/>
                        </a:lnTo>
                        <a:lnTo>
                          <a:pt x="710" y="585"/>
                        </a:lnTo>
                        <a:lnTo>
                          <a:pt x="730" y="615"/>
                        </a:lnTo>
                        <a:lnTo>
                          <a:pt x="732" y="657"/>
                        </a:lnTo>
                        <a:lnTo>
                          <a:pt x="703" y="706"/>
                        </a:lnTo>
                        <a:lnTo>
                          <a:pt x="670" y="679"/>
                        </a:lnTo>
                        <a:lnTo>
                          <a:pt x="665" y="708"/>
                        </a:lnTo>
                        <a:lnTo>
                          <a:pt x="690" y="732"/>
                        </a:lnTo>
                        <a:lnTo>
                          <a:pt x="711" y="768"/>
                        </a:lnTo>
                        <a:lnTo>
                          <a:pt x="676" y="747"/>
                        </a:lnTo>
                        <a:lnTo>
                          <a:pt x="634" y="626"/>
                        </a:lnTo>
                        <a:lnTo>
                          <a:pt x="583" y="593"/>
                        </a:lnTo>
                        <a:lnTo>
                          <a:pt x="545" y="596"/>
                        </a:lnTo>
                        <a:lnTo>
                          <a:pt x="497" y="665"/>
                        </a:lnTo>
                        <a:lnTo>
                          <a:pt x="503" y="689"/>
                        </a:lnTo>
                        <a:lnTo>
                          <a:pt x="487" y="738"/>
                        </a:lnTo>
                        <a:lnTo>
                          <a:pt x="471" y="738"/>
                        </a:lnTo>
                        <a:lnTo>
                          <a:pt x="416" y="636"/>
                        </a:lnTo>
                        <a:lnTo>
                          <a:pt x="416" y="592"/>
                        </a:lnTo>
                        <a:lnTo>
                          <a:pt x="404" y="608"/>
                        </a:lnTo>
                        <a:lnTo>
                          <a:pt x="373" y="607"/>
                        </a:lnTo>
                        <a:lnTo>
                          <a:pt x="385" y="580"/>
                        </a:lnTo>
                        <a:lnTo>
                          <a:pt x="336" y="545"/>
                        </a:lnTo>
                        <a:lnTo>
                          <a:pt x="275" y="545"/>
                        </a:lnTo>
                        <a:lnTo>
                          <a:pt x="223" y="510"/>
                        </a:lnTo>
                        <a:lnTo>
                          <a:pt x="220" y="545"/>
                        </a:lnTo>
                        <a:lnTo>
                          <a:pt x="263" y="577"/>
                        </a:lnTo>
                        <a:lnTo>
                          <a:pt x="278" y="576"/>
                        </a:lnTo>
                        <a:lnTo>
                          <a:pt x="234" y="620"/>
                        </a:lnTo>
                        <a:lnTo>
                          <a:pt x="190" y="630"/>
                        </a:lnTo>
                        <a:lnTo>
                          <a:pt x="190" y="605"/>
                        </a:lnTo>
                        <a:lnTo>
                          <a:pt x="127" y="518"/>
                        </a:lnTo>
                        <a:lnTo>
                          <a:pt x="119" y="495"/>
                        </a:lnTo>
                        <a:lnTo>
                          <a:pt x="153" y="467"/>
                        </a:lnTo>
                        <a:lnTo>
                          <a:pt x="149" y="432"/>
                        </a:lnTo>
                        <a:lnTo>
                          <a:pt x="149" y="393"/>
                        </a:lnTo>
                        <a:lnTo>
                          <a:pt x="166" y="385"/>
                        </a:lnTo>
                        <a:lnTo>
                          <a:pt x="149" y="366"/>
                        </a:lnTo>
                        <a:lnTo>
                          <a:pt x="149" y="226"/>
                        </a:lnTo>
                        <a:lnTo>
                          <a:pt x="61" y="226"/>
                        </a:lnTo>
                        <a:lnTo>
                          <a:pt x="86" y="193"/>
                        </a:lnTo>
                        <a:lnTo>
                          <a:pt x="84" y="181"/>
                        </a:lnTo>
                        <a:lnTo>
                          <a:pt x="55" y="210"/>
                        </a:lnTo>
                        <a:lnTo>
                          <a:pt x="45" y="226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7">
                        <a:moveTo>
                          <a:pt x="63" y="0"/>
                        </a:moveTo>
                        <a:lnTo>
                          <a:pt x="63" y="20"/>
                        </a:lnTo>
                        <a:lnTo>
                          <a:pt x="55" y="33"/>
                        </a:lnTo>
                        <a:lnTo>
                          <a:pt x="57" y="54"/>
                        </a:lnTo>
                        <a:lnTo>
                          <a:pt x="47" y="82"/>
                        </a:lnTo>
                        <a:lnTo>
                          <a:pt x="31" y="108"/>
                        </a:lnTo>
                        <a:lnTo>
                          <a:pt x="7" y="125"/>
                        </a:lnTo>
                        <a:lnTo>
                          <a:pt x="0" y="154"/>
                        </a:lnTo>
                        <a:lnTo>
                          <a:pt x="10" y="156"/>
                        </a:lnTo>
                        <a:lnTo>
                          <a:pt x="10" y="129"/>
                        </a:lnTo>
                        <a:lnTo>
                          <a:pt x="44" y="127"/>
                        </a:lnTo>
                        <a:lnTo>
                          <a:pt x="69" y="109"/>
                        </a:lnTo>
                        <a:lnTo>
                          <a:pt x="69" y="72"/>
                        </a:lnTo>
                        <a:lnTo>
                          <a:pt x="77" y="58"/>
                        </a:lnTo>
                        <a:lnTo>
                          <a:pt x="64" y="34"/>
                        </a:lnTo>
                        <a:lnTo>
                          <a:pt x="82" y="27"/>
                        </a:lnTo>
                        <a:lnTo>
                          <a:pt x="93" y="8"/>
                        </a:lnTo>
                        <a:lnTo>
                          <a:pt x="69" y="11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526160" y="523692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6">
                        <a:moveTo>
                          <a:pt x="9" y="0"/>
                        </a:moveTo>
                        <a:lnTo>
                          <a:pt x="0" y="16"/>
                        </a:lnTo>
                        <a:lnTo>
                          <a:pt x="6" y="35"/>
                        </a:lnTo>
                        <a:lnTo>
                          <a:pt x="18" y="2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753320" y="5297400"/>
                    <a:ext cx="3492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94">
                        <a:moveTo>
                          <a:pt x="0" y="0"/>
                        </a:moveTo>
                        <a:lnTo>
                          <a:pt x="33" y="7"/>
                        </a:lnTo>
                        <a:lnTo>
                          <a:pt x="82" y="41"/>
                        </a:lnTo>
                        <a:lnTo>
                          <a:pt x="75" y="60"/>
                        </a:lnTo>
                        <a:lnTo>
                          <a:pt x="115" y="77"/>
                        </a:lnTo>
                        <a:lnTo>
                          <a:pt x="219" y="77"/>
                        </a:lnTo>
                        <a:lnTo>
                          <a:pt x="106" y="93"/>
                        </a:lnTo>
                        <a:lnTo>
                          <a:pt x="75" y="60"/>
                        </a:lnTo>
                        <a:lnTo>
                          <a:pt x="46" y="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8031240" y="5421240"/>
                    <a:ext cx="3744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221">
                        <a:moveTo>
                          <a:pt x="196" y="215"/>
                        </a:moveTo>
                        <a:lnTo>
                          <a:pt x="190" y="216"/>
                        </a:lnTo>
                        <a:lnTo>
                          <a:pt x="185" y="220"/>
                        </a:lnTo>
                        <a:lnTo>
                          <a:pt x="179" y="212"/>
                        </a:lnTo>
                        <a:lnTo>
                          <a:pt x="158" y="202"/>
                        </a:lnTo>
                        <a:lnTo>
                          <a:pt x="154" y="187"/>
                        </a:lnTo>
                        <a:lnTo>
                          <a:pt x="147" y="182"/>
                        </a:lnTo>
                        <a:lnTo>
                          <a:pt x="130" y="182"/>
                        </a:lnTo>
                        <a:lnTo>
                          <a:pt x="130" y="170"/>
                        </a:lnTo>
                        <a:lnTo>
                          <a:pt x="124" y="167"/>
                        </a:lnTo>
                        <a:lnTo>
                          <a:pt x="123" y="157"/>
                        </a:lnTo>
                        <a:lnTo>
                          <a:pt x="110" y="155"/>
                        </a:lnTo>
                        <a:lnTo>
                          <a:pt x="98" y="152"/>
                        </a:lnTo>
                        <a:lnTo>
                          <a:pt x="87" y="155"/>
                        </a:lnTo>
                        <a:lnTo>
                          <a:pt x="87" y="157"/>
                        </a:lnTo>
                        <a:lnTo>
                          <a:pt x="62" y="165"/>
                        </a:lnTo>
                        <a:lnTo>
                          <a:pt x="62" y="169"/>
                        </a:lnTo>
                        <a:lnTo>
                          <a:pt x="40" y="169"/>
                        </a:lnTo>
                        <a:lnTo>
                          <a:pt x="28" y="176"/>
                        </a:lnTo>
                        <a:lnTo>
                          <a:pt x="15" y="169"/>
                        </a:lnTo>
                        <a:lnTo>
                          <a:pt x="14" y="167"/>
                        </a:lnTo>
                        <a:lnTo>
                          <a:pt x="14" y="152"/>
                        </a:lnTo>
                        <a:lnTo>
                          <a:pt x="10" y="139"/>
                        </a:lnTo>
                        <a:lnTo>
                          <a:pt x="5" y="127"/>
                        </a:lnTo>
                        <a:lnTo>
                          <a:pt x="8" y="118"/>
                        </a:lnTo>
                        <a:lnTo>
                          <a:pt x="3" y="114"/>
                        </a:lnTo>
                        <a:lnTo>
                          <a:pt x="0" y="93"/>
                        </a:lnTo>
                        <a:lnTo>
                          <a:pt x="3" y="79"/>
                        </a:lnTo>
                        <a:lnTo>
                          <a:pt x="16" y="68"/>
                        </a:lnTo>
                        <a:lnTo>
                          <a:pt x="44" y="60"/>
                        </a:lnTo>
                        <a:lnTo>
                          <a:pt x="51" y="51"/>
                        </a:lnTo>
                        <a:lnTo>
                          <a:pt x="48" y="41"/>
                        </a:lnTo>
                        <a:lnTo>
                          <a:pt x="55" y="38"/>
                        </a:lnTo>
                        <a:lnTo>
                          <a:pt x="57" y="43"/>
                        </a:lnTo>
                        <a:lnTo>
                          <a:pt x="60" y="35"/>
                        </a:lnTo>
                        <a:lnTo>
                          <a:pt x="77" y="22"/>
                        </a:lnTo>
                        <a:lnTo>
                          <a:pt x="87" y="28"/>
                        </a:lnTo>
                        <a:lnTo>
                          <a:pt x="98" y="25"/>
                        </a:lnTo>
                        <a:lnTo>
                          <a:pt x="102" y="13"/>
                        </a:lnTo>
                        <a:lnTo>
                          <a:pt x="113" y="10"/>
                        </a:lnTo>
                        <a:lnTo>
                          <a:pt x="110" y="2"/>
                        </a:lnTo>
                        <a:lnTo>
                          <a:pt x="125" y="8"/>
                        </a:lnTo>
                        <a:lnTo>
                          <a:pt x="138" y="5"/>
                        </a:lnTo>
                        <a:lnTo>
                          <a:pt x="145" y="34"/>
                        </a:lnTo>
                        <a:lnTo>
                          <a:pt x="154" y="43"/>
                        </a:lnTo>
                        <a:lnTo>
                          <a:pt x="163" y="43"/>
                        </a:lnTo>
                        <a:lnTo>
                          <a:pt x="167" y="25"/>
                        </a:lnTo>
                        <a:lnTo>
                          <a:pt x="165" y="16"/>
                        </a:lnTo>
                        <a:lnTo>
                          <a:pt x="167" y="2"/>
                        </a:lnTo>
                        <a:lnTo>
                          <a:pt x="172" y="0"/>
                        </a:lnTo>
                        <a:lnTo>
                          <a:pt x="179" y="18"/>
                        </a:lnTo>
                        <a:lnTo>
                          <a:pt x="185" y="22"/>
                        </a:lnTo>
                        <a:lnTo>
                          <a:pt x="189" y="38"/>
                        </a:lnTo>
                        <a:lnTo>
                          <a:pt x="196" y="60"/>
                        </a:lnTo>
                        <a:lnTo>
                          <a:pt x="206" y="66"/>
                        </a:lnTo>
                        <a:lnTo>
                          <a:pt x="219" y="83"/>
                        </a:lnTo>
                        <a:lnTo>
                          <a:pt x="221" y="91"/>
                        </a:lnTo>
                        <a:lnTo>
                          <a:pt x="232" y="101"/>
                        </a:lnTo>
                        <a:lnTo>
                          <a:pt x="235" y="119"/>
                        </a:lnTo>
                        <a:lnTo>
                          <a:pt x="235" y="133"/>
                        </a:lnTo>
                        <a:lnTo>
                          <a:pt x="232" y="155"/>
                        </a:lnTo>
                        <a:lnTo>
                          <a:pt x="221" y="169"/>
                        </a:lnTo>
                        <a:lnTo>
                          <a:pt x="217" y="187"/>
                        </a:lnTo>
                        <a:lnTo>
                          <a:pt x="217" y="202"/>
                        </a:lnTo>
                        <a:lnTo>
                          <a:pt x="206" y="205"/>
                        </a:lnTo>
                        <a:lnTo>
                          <a:pt x="196" y="215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329680" y="5790960"/>
                    <a:ext cx="28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7">
                        <a:moveTo>
                          <a:pt x="9" y="23"/>
                        </a:move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9" y="4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7" y="0"/>
                        </a:lnTo>
                        <a:lnTo>
                          <a:pt x="17" y="11"/>
                        </a:lnTo>
                        <a:lnTo>
                          <a:pt x="15" y="15"/>
                        </a:lnTo>
                        <a:lnTo>
                          <a:pt x="13" y="19"/>
                        </a:lnTo>
                        <a:lnTo>
                          <a:pt x="13" y="22"/>
                        </a:lnTo>
                        <a:lnTo>
                          <a:pt x="12" y="23"/>
                        </a:lnTo>
                        <a:lnTo>
                          <a:pt x="12" y="26"/>
                        </a:lnTo>
                        <a:lnTo>
                          <a:pt x="9" y="23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6">
                        <a:moveTo>
                          <a:pt x="3" y="37"/>
                        </a:moveTo>
                        <a:lnTo>
                          <a:pt x="13" y="28"/>
                        </a:lnTo>
                        <a:lnTo>
                          <a:pt x="20" y="0"/>
                        </a:lnTo>
                        <a:lnTo>
                          <a:pt x="25" y="42"/>
                        </a:lnTo>
                        <a:lnTo>
                          <a:pt x="17" y="94"/>
                        </a:lnTo>
                        <a:lnTo>
                          <a:pt x="0" y="105"/>
                        </a:lnTo>
                        <a:lnTo>
                          <a:pt x="0" y="80"/>
                        </a:lnTo>
                        <a:lnTo>
                          <a:pt x="5" y="64"/>
                        </a:lnTo>
                        <a:lnTo>
                          <a:pt x="3" y="37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01028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FCBB-38AD-4F8E-9FDC-6394B199B8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" name="_ok" descr=""/>
          <p:cNvPicPr/>
          <p:nvPr/>
        </p:nvPicPr>
        <p:blipFill>
          <a:blip r:embed="rId3"/>
          <a:stretch/>
        </p:blipFill>
        <p:spPr>
          <a:xfrm>
            <a:off x="7924680" y="2286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A7AD-320B-4BE5-83AD-62579D6EF4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77" name=""/>
            <p:cNvSpPr/>
            <p:nvPr/>
          </p:nvSpPr>
          <p:spPr>
            <a:xfrm>
              <a:off x="0" y="6476760"/>
              <a:ext cx="9131400" cy="368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b1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807696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54560" y="6449760"/>
                  <a:ext cx="1335240" cy="24300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18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65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6400800" y="4073400"/>
                  <a:ext cx="2209680" cy="1760400"/>
                  <a:chOff x="6400800" y="4073400"/>
                  <a:chExt cx="2209680" cy="176040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6713640" y="4717800"/>
                    <a:ext cx="1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878520" y="4701960"/>
                    <a:ext cx="810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48">
                        <a:moveTo>
                          <a:pt x="50" y="0"/>
                        </a:moveTo>
                        <a:lnTo>
                          <a:pt x="31" y="0"/>
                        </a:lnTo>
                        <a:lnTo>
                          <a:pt x="20" y="13"/>
                        </a:lnTo>
                        <a:lnTo>
                          <a:pt x="13" y="13"/>
                        </a:lnTo>
                        <a:lnTo>
                          <a:pt x="7" y="19"/>
                        </a:lnTo>
                        <a:lnTo>
                          <a:pt x="0" y="19"/>
                        </a:lnTo>
                        <a:lnTo>
                          <a:pt x="0" y="35"/>
                        </a:lnTo>
                        <a:lnTo>
                          <a:pt x="12" y="47"/>
                        </a:lnTo>
                        <a:lnTo>
                          <a:pt x="41" y="47"/>
                        </a:lnTo>
                        <a:lnTo>
                          <a:pt x="50" y="35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6400800" y="4762440"/>
                    <a:ext cx="71604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587">
                        <a:moveTo>
                          <a:pt x="107" y="0"/>
                        </a:moveTo>
                        <a:lnTo>
                          <a:pt x="99" y="16"/>
                        </a:lnTo>
                        <a:lnTo>
                          <a:pt x="64" y="47"/>
                        </a:lnTo>
                        <a:lnTo>
                          <a:pt x="56" y="75"/>
                        </a:lnTo>
                        <a:lnTo>
                          <a:pt x="30" y="95"/>
                        </a:lnTo>
                        <a:lnTo>
                          <a:pt x="12" y="135"/>
                        </a:lnTo>
                        <a:lnTo>
                          <a:pt x="12" y="159"/>
                        </a:lnTo>
                        <a:lnTo>
                          <a:pt x="0" y="201"/>
                        </a:lnTo>
                        <a:lnTo>
                          <a:pt x="16" y="219"/>
                        </a:lnTo>
                        <a:lnTo>
                          <a:pt x="56" y="272"/>
                        </a:lnTo>
                        <a:lnTo>
                          <a:pt x="68" y="265"/>
                        </a:lnTo>
                        <a:lnTo>
                          <a:pt x="139" y="265"/>
                        </a:lnTo>
                        <a:lnTo>
                          <a:pt x="172" y="278"/>
                        </a:lnTo>
                        <a:lnTo>
                          <a:pt x="169" y="319"/>
                        </a:lnTo>
                        <a:lnTo>
                          <a:pt x="193" y="374"/>
                        </a:lnTo>
                        <a:lnTo>
                          <a:pt x="191" y="389"/>
                        </a:lnTo>
                        <a:lnTo>
                          <a:pt x="201" y="406"/>
                        </a:lnTo>
                        <a:lnTo>
                          <a:pt x="186" y="445"/>
                        </a:lnTo>
                        <a:lnTo>
                          <a:pt x="204" y="494"/>
                        </a:lnTo>
                        <a:lnTo>
                          <a:pt x="214" y="532"/>
                        </a:lnTo>
                        <a:lnTo>
                          <a:pt x="226" y="556"/>
                        </a:lnTo>
                        <a:lnTo>
                          <a:pt x="239" y="586"/>
                        </a:lnTo>
                        <a:lnTo>
                          <a:pt x="263" y="582"/>
                        </a:lnTo>
                        <a:lnTo>
                          <a:pt x="302" y="560"/>
                        </a:lnTo>
                        <a:lnTo>
                          <a:pt x="320" y="533"/>
                        </a:lnTo>
                        <a:lnTo>
                          <a:pt x="319" y="515"/>
                        </a:lnTo>
                        <a:lnTo>
                          <a:pt x="342" y="500"/>
                        </a:lnTo>
                        <a:lnTo>
                          <a:pt x="338" y="474"/>
                        </a:lnTo>
                        <a:lnTo>
                          <a:pt x="373" y="432"/>
                        </a:lnTo>
                        <a:lnTo>
                          <a:pt x="378" y="398"/>
                        </a:lnTo>
                        <a:lnTo>
                          <a:pt x="369" y="386"/>
                        </a:lnTo>
                        <a:lnTo>
                          <a:pt x="373" y="372"/>
                        </a:lnTo>
                        <a:lnTo>
                          <a:pt x="365" y="360"/>
                        </a:lnTo>
                        <a:lnTo>
                          <a:pt x="391" y="327"/>
                        </a:lnTo>
                        <a:lnTo>
                          <a:pt x="391" y="310"/>
                        </a:lnTo>
                        <a:lnTo>
                          <a:pt x="427" y="282"/>
                        </a:lnTo>
                        <a:lnTo>
                          <a:pt x="450" y="207"/>
                        </a:lnTo>
                        <a:lnTo>
                          <a:pt x="417" y="226"/>
                        </a:lnTo>
                        <a:lnTo>
                          <a:pt x="388" y="218"/>
                        </a:lnTo>
                        <a:lnTo>
                          <a:pt x="392" y="200"/>
                        </a:lnTo>
                        <a:lnTo>
                          <a:pt x="363" y="180"/>
                        </a:lnTo>
                        <a:lnTo>
                          <a:pt x="349" y="132"/>
                        </a:lnTo>
                        <a:lnTo>
                          <a:pt x="321" y="93"/>
                        </a:lnTo>
                        <a:lnTo>
                          <a:pt x="321" y="66"/>
                        </a:lnTo>
                        <a:lnTo>
                          <a:pt x="306" y="65"/>
                        </a:lnTo>
                        <a:lnTo>
                          <a:pt x="296" y="69"/>
                        </a:lnTo>
                        <a:lnTo>
                          <a:pt x="254" y="54"/>
                        </a:lnTo>
                        <a:lnTo>
                          <a:pt x="243" y="65"/>
                        </a:lnTo>
                        <a:lnTo>
                          <a:pt x="234" y="78"/>
                        </a:lnTo>
                        <a:lnTo>
                          <a:pt x="211" y="53"/>
                        </a:lnTo>
                        <a:lnTo>
                          <a:pt x="189" y="47"/>
                        </a:lnTo>
                        <a:lnTo>
                          <a:pt x="187" y="15"/>
                        </a:lnTo>
                        <a:lnTo>
                          <a:pt x="155" y="20"/>
                        </a:lnTo>
                        <a:lnTo>
                          <a:pt x="135" y="13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">
                        <a:moveTo>
                          <a:pt x="7" y="0"/>
                        </a:moveTo>
                        <a:lnTo>
                          <a:pt x="9" y="8"/>
                        </a:lnTo>
                        <a:lnTo>
                          <a:pt x="7" y="14"/>
                        </a:lnTo>
                        <a:lnTo>
                          <a:pt x="7" y="19"/>
                        </a:lnTo>
                        <a:lnTo>
                          <a:pt x="16" y="23"/>
                        </a:lnTo>
                        <a:lnTo>
                          <a:pt x="16" y="27"/>
                        </a:lnTo>
                        <a:lnTo>
                          <a:pt x="9" y="23"/>
                        </a:lnTo>
                        <a:lnTo>
                          <a:pt x="3" y="27"/>
                        </a:lnTo>
                        <a:lnTo>
                          <a:pt x="0" y="23"/>
                        </a:lnTo>
                        <a:lnTo>
                          <a:pt x="3" y="19"/>
                        </a:lnTo>
                        <a:lnTo>
                          <a:pt x="0" y="14"/>
                        </a:ln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0" y="48"/>
                        </a:moveTo>
                        <a:lnTo>
                          <a:pt x="24" y="48"/>
                        </a:lnTo>
                        <a:lnTo>
                          <a:pt x="52" y="0"/>
                        </a:lnTo>
                        <a:lnTo>
                          <a:pt x="67" y="28"/>
                        </a:lnTo>
                        <a:lnTo>
                          <a:pt x="55" y="96"/>
                        </a:lnTo>
                        <a:lnTo>
                          <a:pt x="5" y="80"/>
                        </a:lnTo>
                        <a:lnTo>
                          <a:pt x="0" y="4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132760" y="5248080"/>
                    <a:ext cx="1857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94">
                        <a:moveTo>
                          <a:pt x="7" y="22"/>
                        </a:moveTo>
                        <a:lnTo>
                          <a:pt x="0" y="0"/>
                        </a:lnTo>
                        <a:lnTo>
                          <a:pt x="39" y="9"/>
                        </a:lnTo>
                        <a:lnTo>
                          <a:pt x="95" y="32"/>
                        </a:lnTo>
                        <a:lnTo>
                          <a:pt x="95" y="49"/>
                        </a:lnTo>
                        <a:lnTo>
                          <a:pt x="116" y="93"/>
                        </a:lnTo>
                        <a:lnTo>
                          <a:pt x="73" y="51"/>
                        </a:lnTo>
                        <a:lnTo>
                          <a:pt x="44" y="54"/>
                        </a:lnTo>
                        <a:lnTo>
                          <a:pt x="7" y="22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8485200" y="5551200"/>
                    <a:ext cx="1252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01">
                        <a:moveTo>
                          <a:pt x="48" y="0"/>
                        </a:moveTo>
                        <a:lnTo>
                          <a:pt x="78" y="30"/>
                        </a:lnTo>
                        <a:lnTo>
                          <a:pt x="16" y="100"/>
                        </a:lnTo>
                        <a:lnTo>
                          <a:pt x="0" y="84"/>
                        </a:lnTo>
                        <a:lnTo>
                          <a:pt x="45" y="39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622920" y="4462200"/>
                    <a:ext cx="619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6">
                        <a:moveTo>
                          <a:pt x="38" y="51"/>
                        </a:moveTo>
                        <a:lnTo>
                          <a:pt x="28" y="43"/>
                        </a:lnTo>
                        <a:lnTo>
                          <a:pt x="28" y="14"/>
                        </a:lnTo>
                        <a:lnTo>
                          <a:pt x="33" y="8"/>
                        </a:lnTo>
                        <a:lnTo>
                          <a:pt x="24" y="8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4" y="9"/>
                        </a:lnTo>
                        <a:lnTo>
                          <a:pt x="14" y="27"/>
                        </a:lnTo>
                        <a:lnTo>
                          <a:pt x="18" y="31"/>
                        </a:lnTo>
                        <a:lnTo>
                          <a:pt x="18" y="39"/>
                        </a:lnTo>
                        <a:lnTo>
                          <a:pt x="16" y="39"/>
                        </a:lnTo>
                        <a:lnTo>
                          <a:pt x="9" y="46"/>
                        </a:lnTo>
                        <a:lnTo>
                          <a:pt x="9" y="53"/>
                        </a:lnTo>
                        <a:lnTo>
                          <a:pt x="0" y="65"/>
                        </a:lnTo>
                        <a:lnTo>
                          <a:pt x="29" y="65"/>
                        </a:lnTo>
                        <a:lnTo>
                          <a:pt x="38" y="51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602400" y="449712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17" y="8"/>
                        </a:moveTo>
                        <a:lnTo>
                          <a:pt x="20" y="8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0" y="23"/>
                        </a:lnTo>
                        <a:lnTo>
                          <a:pt x="12" y="23"/>
                        </a:lnTo>
                        <a:lnTo>
                          <a:pt x="17" y="17"/>
                        </a:lnTo>
                        <a:lnTo>
                          <a:pt x="17" y="8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553080" y="4435200"/>
                    <a:ext cx="4064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216">
                        <a:moveTo>
                          <a:pt x="168" y="0"/>
                        </a:moveTo>
                        <a:lnTo>
                          <a:pt x="168" y="15"/>
                        </a:lnTo>
                        <a:lnTo>
                          <a:pt x="173" y="20"/>
                        </a:lnTo>
                        <a:lnTo>
                          <a:pt x="201" y="20"/>
                        </a:lnTo>
                        <a:lnTo>
                          <a:pt x="201" y="28"/>
                        </a:lnTo>
                        <a:lnTo>
                          <a:pt x="181" y="28"/>
                        </a:lnTo>
                        <a:lnTo>
                          <a:pt x="181" y="52"/>
                        </a:lnTo>
                        <a:lnTo>
                          <a:pt x="172" y="41"/>
                        </a:lnTo>
                        <a:lnTo>
                          <a:pt x="172" y="56"/>
                        </a:lnTo>
                        <a:lnTo>
                          <a:pt x="160" y="70"/>
                        </a:lnTo>
                        <a:lnTo>
                          <a:pt x="152" y="62"/>
                        </a:lnTo>
                        <a:lnTo>
                          <a:pt x="140" y="72"/>
                        </a:lnTo>
                        <a:lnTo>
                          <a:pt x="138" y="69"/>
                        </a:lnTo>
                        <a:lnTo>
                          <a:pt x="123" y="69"/>
                        </a:lnTo>
                        <a:lnTo>
                          <a:pt x="131" y="59"/>
                        </a:lnTo>
                        <a:lnTo>
                          <a:pt x="131" y="55"/>
                        </a:lnTo>
                        <a:lnTo>
                          <a:pt x="124" y="48"/>
                        </a:lnTo>
                        <a:lnTo>
                          <a:pt x="124" y="37"/>
                        </a:lnTo>
                        <a:lnTo>
                          <a:pt x="114" y="48"/>
                        </a:lnTo>
                        <a:lnTo>
                          <a:pt x="114" y="69"/>
                        </a:lnTo>
                        <a:lnTo>
                          <a:pt x="102" y="69"/>
                        </a:lnTo>
                        <a:lnTo>
                          <a:pt x="87" y="84"/>
                        </a:lnTo>
                        <a:lnTo>
                          <a:pt x="81" y="84"/>
                        </a:lnTo>
                        <a:lnTo>
                          <a:pt x="73" y="94"/>
                        </a:lnTo>
                        <a:lnTo>
                          <a:pt x="43" y="94"/>
                        </a:lnTo>
                        <a:lnTo>
                          <a:pt x="53" y="108"/>
                        </a:lnTo>
                        <a:lnTo>
                          <a:pt x="53" y="130"/>
                        </a:lnTo>
                        <a:lnTo>
                          <a:pt x="43" y="143"/>
                        </a:lnTo>
                        <a:lnTo>
                          <a:pt x="31" y="130"/>
                        </a:lnTo>
                        <a:lnTo>
                          <a:pt x="8" y="130"/>
                        </a:lnTo>
                        <a:lnTo>
                          <a:pt x="8" y="146"/>
                        </a:lnTo>
                        <a:lnTo>
                          <a:pt x="0" y="156"/>
                        </a:lnTo>
                        <a:lnTo>
                          <a:pt x="0" y="177"/>
                        </a:lnTo>
                        <a:lnTo>
                          <a:pt x="15" y="194"/>
                        </a:lnTo>
                        <a:lnTo>
                          <a:pt x="37" y="194"/>
                        </a:lnTo>
                        <a:lnTo>
                          <a:pt x="71" y="153"/>
                        </a:lnTo>
                        <a:lnTo>
                          <a:pt x="101" y="153"/>
                        </a:lnTo>
                        <a:lnTo>
                          <a:pt x="105" y="145"/>
                        </a:lnTo>
                        <a:lnTo>
                          <a:pt x="112" y="153"/>
                        </a:lnTo>
                        <a:lnTo>
                          <a:pt x="111" y="161"/>
                        </a:lnTo>
                        <a:lnTo>
                          <a:pt x="139" y="189"/>
                        </a:lnTo>
                        <a:lnTo>
                          <a:pt x="139" y="201"/>
                        </a:lnTo>
                        <a:lnTo>
                          <a:pt x="145" y="196"/>
                        </a:lnTo>
                        <a:lnTo>
                          <a:pt x="142" y="189"/>
                        </a:lnTo>
                        <a:lnTo>
                          <a:pt x="145" y="185"/>
                        </a:lnTo>
                        <a:lnTo>
                          <a:pt x="150" y="189"/>
                        </a:lnTo>
                        <a:lnTo>
                          <a:pt x="152" y="188"/>
                        </a:lnTo>
                        <a:lnTo>
                          <a:pt x="123" y="152"/>
                        </a:lnTo>
                        <a:lnTo>
                          <a:pt x="123" y="139"/>
                        </a:lnTo>
                        <a:lnTo>
                          <a:pt x="131" y="139"/>
                        </a:lnTo>
                        <a:lnTo>
                          <a:pt x="131" y="146"/>
                        </a:lnTo>
                        <a:lnTo>
                          <a:pt x="160" y="178"/>
                        </a:lnTo>
                        <a:lnTo>
                          <a:pt x="160" y="188"/>
                        </a:lnTo>
                        <a:lnTo>
                          <a:pt x="172" y="202"/>
                        </a:lnTo>
                        <a:lnTo>
                          <a:pt x="169" y="205"/>
                        </a:lnTo>
                        <a:lnTo>
                          <a:pt x="178" y="215"/>
                        </a:lnTo>
                        <a:lnTo>
                          <a:pt x="191" y="200"/>
                        </a:lnTo>
                        <a:lnTo>
                          <a:pt x="183" y="191"/>
                        </a:lnTo>
                        <a:lnTo>
                          <a:pt x="191" y="182"/>
                        </a:lnTo>
                        <a:lnTo>
                          <a:pt x="202" y="182"/>
                        </a:lnTo>
                        <a:lnTo>
                          <a:pt x="207" y="177"/>
                        </a:lnTo>
                        <a:lnTo>
                          <a:pt x="214" y="177"/>
                        </a:lnTo>
                        <a:lnTo>
                          <a:pt x="205" y="164"/>
                        </a:lnTo>
                        <a:lnTo>
                          <a:pt x="210" y="158"/>
                        </a:lnTo>
                        <a:lnTo>
                          <a:pt x="210" y="137"/>
                        </a:lnTo>
                        <a:lnTo>
                          <a:pt x="219" y="126"/>
                        </a:lnTo>
                        <a:lnTo>
                          <a:pt x="223" y="130"/>
                        </a:lnTo>
                        <a:lnTo>
                          <a:pt x="232" y="130"/>
                        </a:lnTo>
                        <a:lnTo>
                          <a:pt x="228" y="136"/>
                        </a:lnTo>
                        <a:lnTo>
                          <a:pt x="236" y="145"/>
                        </a:lnTo>
                        <a:lnTo>
                          <a:pt x="241" y="137"/>
                        </a:lnTo>
                        <a:lnTo>
                          <a:pt x="247" y="137"/>
                        </a:lnTo>
                        <a:lnTo>
                          <a:pt x="247" y="134"/>
                        </a:lnTo>
                        <a:lnTo>
                          <a:pt x="244" y="134"/>
                        </a:lnTo>
                        <a:lnTo>
                          <a:pt x="239" y="130"/>
                        </a:lnTo>
                        <a:lnTo>
                          <a:pt x="252" y="114"/>
                        </a:lnTo>
                        <a:lnTo>
                          <a:pt x="252" y="137"/>
                        </a:lnTo>
                        <a:lnTo>
                          <a:pt x="255" y="137"/>
                        </a:lnTo>
                        <a:lnTo>
                          <a:pt x="255" y="0"/>
                        </a:lnTo>
                        <a:lnTo>
                          <a:pt x="168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769">
                        <a:moveTo>
                          <a:pt x="0" y="226"/>
                        </a:moveTo>
                        <a:lnTo>
                          <a:pt x="32" y="202"/>
                        </a:lnTo>
                        <a:lnTo>
                          <a:pt x="62" y="156"/>
                        </a:lnTo>
                        <a:lnTo>
                          <a:pt x="99" y="134"/>
                        </a:lnTo>
                        <a:lnTo>
                          <a:pt x="137" y="160"/>
                        </a:lnTo>
                        <a:lnTo>
                          <a:pt x="142" y="181"/>
                        </a:lnTo>
                        <a:lnTo>
                          <a:pt x="133" y="181"/>
                        </a:lnTo>
                        <a:lnTo>
                          <a:pt x="118" y="179"/>
                        </a:lnTo>
                        <a:lnTo>
                          <a:pt x="137" y="202"/>
                        </a:lnTo>
                        <a:lnTo>
                          <a:pt x="216" y="172"/>
                        </a:lnTo>
                        <a:lnTo>
                          <a:pt x="206" y="149"/>
                        </a:lnTo>
                        <a:lnTo>
                          <a:pt x="240" y="110"/>
                        </a:lnTo>
                        <a:lnTo>
                          <a:pt x="262" y="111"/>
                        </a:lnTo>
                        <a:lnTo>
                          <a:pt x="241" y="124"/>
                        </a:lnTo>
                        <a:lnTo>
                          <a:pt x="223" y="153"/>
                        </a:lnTo>
                        <a:lnTo>
                          <a:pt x="223" y="172"/>
                        </a:lnTo>
                        <a:lnTo>
                          <a:pt x="255" y="193"/>
                        </a:lnTo>
                        <a:lnTo>
                          <a:pt x="301" y="133"/>
                        </a:lnTo>
                        <a:lnTo>
                          <a:pt x="461" y="63"/>
                        </a:lnTo>
                        <a:lnTo>
                          <a:pt x="460" y="23"/>
                        </a:lnTo>
                        <a:lnTo>
                          <a:pt x="533" y="8"/>
                        </a:lnTo>
                        <a:lnTo>
                          <a:pt x="574" y="29"/>
                        </a:lnTo>
                        <a:lnTo>
                          <a:pt x="671" y="0"/>
                        </a:lnTo>
                        <a:lnTo>
                          <a:pt x="701" y="15"/>
                        </a:lnTo>
                        <a:lnTo>
                          <a:pt x="766" y="85"/>
                        </a:lnTo>
                        <a:lnTo>
                          <a:pt x="840" y="71"/>
                        </a:lnTo>
                        <a:lnTo>
                          <a:pt x="886" y="96"/>
                        </a:lnTo>
                        <a:lnTo>
                          <a:pt x="1001" y="91"/>
                        </a:lnTo>
                        <a:lnTo>
                          <a:pt x="1088" y="118"/>
                        </a:lnTo>
                        <a:lnTo>
                          <a:pt x="1080" y="156"/>
                        </a:lnTo>
                        <a:lnTo>
                          <a:pt x="1006" y="181"/>
                        </a:lnTo>
                        <a:lnTo>
                          <a:pt x="1019" y="206"/>
                        </a:lnTo>
                        <a:lnTo>
                          <a:pt x="987" y="220"/>
                        </a:lnTo>
                        <a:lnTo>
                          <a:pt x="985" y="270"/>
                        </a:lnTo>
                        <a:lnTo>
                          <a:pt x="957" y="304"/>
                        </a:lnTo>
                        <a:lnTo>
                          <a:pt x="945" y="273"/>
                        </a:lnTo>
                        <a:lnTo>
                          <a:pt x="961" y="244"/>
                        </a:lnTo>
                        <a:lnTo>
                          <a:pt x="958" y="184"/>
                        </a:lnTo>
                        <a:lnTo>
                          <a:pt x="929" y="215"/>
                        </a:lnTo>
                        <a:lnTo>
                          <a:pt x="906" y="232"/>
                        </a:lnTo>
                        <a:lnTo>
                          <a:pt x="884" y="205"/>
                        </a:lnTo>
                        <a:lnTo>
                          <a:pt x="868" y="273"/>
                        </a:lnTo>
                        <a:lnTo>
                          <a:pt x="885" y="273"/>
                        </a:lnTo>
                        <a:lnTo>
                          <a:pt x="881" y="318"/>
                        </a:lnTo>
                        <a:lnTo>
                          <a:pt x="861" y="366"/>
                        </a:lnTo>
                        <a:lnTo>
                          <a:pt x="837" y="385"/>
                        </a:lnTo>
                        <a:lnTo>
                          <a:pt x="857" y="417"/>
                        </a:lnTo>
                        <a:lnTo>
                          <a:pt x="844" y="439"/>
                        </a:lnTo>
                        <a:lnTo>
                          <a:pt x="839" y="420"/>
                        </a:lnTo>
                        <a:lnTo>
                          <a:pt x="839" y="413"/>
                        </a:lnTo>
                        <a:lnTo>
                          <a:pt x="823" y="402"/>
                        </a:lnTo>
                        <a:lnTo>
                          <a:pt x="797" y="416"/>
                        </a:lnTo>
                        <a:lnTo>
                          <a:pt x="820" y="469"/>
                        </a:lnTo>
                        <a:lnTo>
                          <a:pt x="828" y="496"/>
                        </a:lnTo>
                        <a:lnTo>
                          <a:pt x="801" y="569"/>
                        </a:lnTo>
                        <a:lnTo>
                          <a:pt x="751" y="589"/>
                        </a:lnTo>
                        <a:lnTo>
                          <a:pt x="710" y="585"/>
                        </a:lnTo>
                        <a:lnTo>
                          <a:pt x="730" y="615"/>
                        </a:lnTo>
                        <a:lnTo>
                          <a:pt x="732" y="657"/>
                        </a:lnTo>
                        <a:lnTo>
                          <a:pt x="703" y="706"/>
                        </a:lnTo>
                        <a:lnTo>
                          <a:pt x="670" y="679"/>
                        </a:lnTo>
                        <a:lnTo>
                          <a:pt x="665" y="708"/>
                        </a:lnTo>
                        <a:lnTo>
                          <a:pt x="690" y="732"/>
                        </a:lnTo>
                        <a:lnTo>
                          <a:pt x="711" y="768"/>
                        </a:lnTo>
                        <a:lnTo>
                          <a:pt x="676" y="747"/>
                        </a:lnTo>
                        <a:lnTo>
                          <a:pt x="634" y="626"/>
                        </a:lnTo>
                        <a:lnTo>
                          <a:pt x="583" y="593"/>
                        </a:lnTo>
                        <a:lnTo>
                          <a:pt x="545" y="596"/>
                        </a:lnTo>
                        <a:lnTo>
                          <a:pt x="497" y="665"/>
                        </a:lnTo>
                        <a:lnTo>
                          <a:pt x="503" y="689"/>
                        </a:lnTo>
                        <a:lnTo>
                          <a:pt x="487" y="738"/>
                        </a:lnTo>
                        <a:lnTo>
                          <a:pt x="471" y="738"/>
                        </a:lnTo>
                        <a:lnTo>
                          <a:pt x="416" y="636"/>
                        </a:lnTo>
                        <a:lnTo>
                          <a:pt x="416" y="592"/>
                        </a:lnTo>
                        <a:lnTo>
                          <a:pt x="404" y="608"/>
                        </a:lnTo>
                        <a:lnTo>
                          <a:pt x="373" y="607"/>
                        </a:lnTo>
                        <a:lnTo>
                          <a:pt x="385" y="580"/>
                        </a:lnTo>
                        <a:lnTo>
                          <a:pt x="336" y="545"/>
                        </a:lnTo>
                        <a:lnTo>
                          <a:pt x="275" y="545"/>
                        </a:lnTo>
                        <a:lnTo>
                          <a:pt x="223" y="510"/>
                        </a:lnTo>
                        <a:lnTo>
                          <a:pt x="220" y="545"/>
                        </a:lnTo>
                        <a:lnTo>
                          <a:pt x="263" y="577"/>
                        </a:lnTo>
                        <a:lnTo>
                          <a:pt x="278" y="576"/>
                        </a:lnTo>
                        <a:lnTo>
                          <a:pt x="234" y="620"/>
                        </a:lnTo>
                        <a:lnTo>
                          <a:pt x="190" y="630"/>
                        </a:lnTo>
                        <a:lnTo>
                          <a:pt x="190" y="605"/>
                        </a:lnTo>
                        <a:lnTo>
                          <a:pt x="127" y="518"/>
                        </a:lnTo>
                        <a:lnTo>
                          <a:pt x="119" y="495"/>
                        </a:lnTo>
                        <a:lnTo>
                          <a:pt x="153" y="467"/>
                        </a:lnTo>
                        <a:lnTo>
                          <a:pt x="149" y="432"/>
                        </a:lnTo>
                        <a:lnTo>
                          <a:pt x="149" y="393"/>
                        </a:lnTo>
                        <a:lnTo>
                          <a:pt x="166" y="385"/>
                        </a:lnTo>
                        <a:lnTo>
                          <a:pt x="149" y="366"/>
                        </a:lnTo>
                        <a:lnTo>
                          <a:pt x="149" y="226"/>
                        </a:lnTo>
                        <a:lnTo>
                          <a:pt x="61" y="226"/>
                        </a:lnTo>
                        <a:lnTo>
                          <a:pt x="86" y="193"/>
                        </a:lnTo>
                        <a:lnTo>
                          <a:pt x="84" y="181"/>
                        </a:lnTo>
                        <a:lnTo>
                          <a:pt x="55" y="210"/>
                        </a:lnTo>
                        <a:lnTo>
                          <a:pt x="45" y="226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7">
                        <a:moveTo>
                          <a:pt x="63" y="0"/>
                        </a:moveTo>
                        <a:lnTo>
                          <a:pt x="63" y="20"/>
                        </a:lnTo>
                        <a:lnTo>
                          <a:pt x="55" y="33"/>
                        </a:lnTo>
                        <a:lnTo>
                          <a:pt x="57" y="54"/>
                        </a:lnTo>
                        <a:lnTo>
                          <a:pt x="47" y="82"/>
                        </a:lnTo>
                        <a:lnTo>
                          <a:pt x="31" y="108"/>
                        </a:lnTo>
                        <a:lnTo>
                          <a:pt x="7" y="125"/>
                        </a:lnTo>
                        <a:lnTo>
                          <a:pt x="0" y="154"/>
                        </a:lnTo>
                        <a:lnTo>
                          <a:pt x="10" y="156"/>
                        </a:lnTo>
                        <a:lnTo>
                          <a:pt x="10" y="129"/>
                        </a:lnTo>
                        <a:lnTo>
                          <a:pt x="44" y="127"/>
                        </a:lnTo>
                        <a:lnTo>
                          <a:pt x="69" y="109"/>
                        </a:lnTo>
                        <a:lnTo>
                          <a:pt x="69" y="72"/>
                        </a:lnTo>
                        <a:lnTo>
                          <a:pt x="77" y="58"/>
                        </a:lnTo>
                        <a:lnTo>
                          <a:pt x="64" y="34"/>
                        </a:lnTo>
                        <a:lnTo>
                          <a:pt x="82" y="27"/>
                        </a:lnTo>
                        <a:lnTo>
                          <a:pt x="93" y="8"/>
                        </a:lnTo>
                        <a:lnTo>
                          <a:pt x="69" y="11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7526160" y="523692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6">
                        <a:moveTo>
                          <a:pt x="9" y="0"/>
                        </a:moveTo>
                        <a:lnTo>
                          <a:pt x="0" y="16"/>
                        </a:lnTo>
                        <a:lnTo>
                          <a:pt x="6" y="35"/>
                        </a:lnTo>
                        <a:lnTo>
                          <a:pt x="18" y="2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753320" y="5297400"/>
                    <a:ext cx="3492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94">
                        <a:moveTo>
                          <a:pt x="0" y="0"/>
                        </a:moveTo>
                        <a:lnTo>
                          <a:pt x="33" y="7"/>
                        </a:lnTo>
                        <a:lnTo>
                          <a:pt x="82" y="41"/>
                        </a:lnTo>
                        <a:lnTo>
                          <a:pt x="75" y="60"/>
                        </a:lnTo>
                        <a:lnTo>
                          <a:pt x="115" y="77"/>
                        </a:lnTo>
                        <a:lnTo>
                          <a:pt x="219" y="77"/>
                        </a:lnTo>
                        <a:lnTo>
                          <a:pt x="106" y="93"/>
                        </a:lnTo>
                        <a:lnTo>
                          <a:pt x="75" y="60"/>
                        </a:lnTo>
                        <a:lnTo>
                          <a:pt x="46" y="5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031240" y="5421240"/>
                    <a:ext cx="37440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221">
                        <a:moveTo>
                          <a:pt x="196" y="215"/>
                        </a:moveTo>
                        <a:lnTo>
                          <a:pt x="190" y="216"/>
                        </a:lnTo>
                        <a:lnTo>
                          <a:pt x="185" y="220"/>
                        </a:lnTo>
                        <a:lnTo>
                          <a:pt x="179" y="212"/>
                        </a:lnTo>
                        <a:lnTo>
                          <a:pt x="158" y="202"/>
                        </a:lnTo>
                        <a:lnTo>
                          <a:pt x="154" y="187"/>
                        </a:lnTo>
                        <a:lnTo>
                          <a:pt x="147" y="182"/>
                        </a:lnTo>
                        <a:lnTo>
                          <a:pt x="130" y="182"/>
                        </a:lnTo>
                        <a:lnTo>
                          <a:pt x="130" y="170"/>
                        </a:lnTo>
                        <a:lnTo>
                          <a:pt x="124" y="167"/>
                        </a:lnTo>
                        <a:lnTo>
                          <a:pt x="123" y="157"/>
                        </a:lnTo>
                        <a:lnTo>
                          <a:pt x="110" y="155"/>
                        </a:lnTo>
                        <a:lnTo>
                          <a:pt x="98" y="152"/>
                        </a:lnTo>
                        <a:lnTo>
                          <a:pt x="87" y="155"/>
                        </a:lnTo>
                        <a:lnTo>
                          <a:pt x="87" y="157"/>
                        </a:lnTo>
                        <a:lnTo>
                          <a:pt x="62" y="165"/>
                        </a:lnTo>
                        <a:lnTo>
                          <a:pt x="62" y="169"/>
                        </a:lnTo>
                        <a:lnTo>
                          <a:pt x="40" y="169"/>
                        </a:lnTo>
                        <a:lnTo>
                          <a:pt x="28" y="176"/>
                        </a:lnTo>
                        <a:lnTo>
                          <a:pt x="15" y="169"/>
                        </a:lnTo>
                        <a:lnTo>
                          <a:pt x="14" y="167"/>
                        </a:lnTo>
                        <a:lnTo>
                          <a:pt x="14" y="152"/>
                        </a:lnTo>
                        <a:lnTo>
                          <a:pt x="10" y="139"/>
                        </a:lnTo>
                        <a:lnTo>
                          <a:pt x="5" y="127"/>
                        </a:lnTo>
                        <a:lnTo>
                          <a:pt x="8" y="118"/>
                        </a:lnTo>
                        <a:lnTo>
                          <a:pt x="3" y="114"/>
                        </a:lnTo>
                        <a:lnTo>
                          <a:pt x="0" y="93"/>
                        </a:lnTo>
                        <a:lnTo>
                          <a:pt x="3" y="79"/>
                        </a:lnTo>
                        <a:lnTo>
                          <a:pt x="16" y="68"/>
                        </a:lnTo>
                        <a:lnTo>
                          <a:pt x="44" y="60"/>
                        </a:lnTo>
                        <a:lnTo>
                          <a:pt x="51" y="51"/>
                        </a:lnTo>
                        <a:lnTo>
                          <a:pt x="48" y="41"/>
                        </a:lnTo>
                        <a:lnTo>
                          <a:pt x="55" y="38"/>
                        </a:lnTo>
                        <a:lnTo>
                          <a:pt x="57" y="43"/>
                        </a:lnTo>
                        <a:lnTo>
                          <a:pt x="60" y="35"/>
                        </a:lnTo>
                        <a:lnTo>
                          <a:pt x="77" y="22"/>
                        </a:lnTo>
                        <a:lnTo>
                          <a:pt x="87" y="28"/>
                        </a:lnTo>
                        <a:lnTo>
                          <a:pt x="98" y="25"/>
                        </a:lnTo>
                        <a:lnTo>
                          <a:pt x="102" y="13"/>
                        </a:lnTo>
                        <a:lnTo>
                          <a:pt x="113" y="10"/>
                        </a:lnTo>
                        <a:lnTo>
                          <a:pt x="110" y="2"/>
                        </a:lnTo>
                        <a:lnTo>
                          <a:pt x="125" y="8"/>
                        </a:lnTo>
                        <a:lnTo>
                          <a:pt x="138" y="5"/>
                        </a:lnTo>
                        <a:lnTo>
                          <a:pt x="145" y="34"/>
                        </a:lnTo>
                        <a:lnTo>
                          <a:pt x="154" y="43"/>
                        </a:lnTo>
                        <a:lnTo>
                          <a:pt x="163" y="43"/>
                        </a:lnTo>
                        <a:lnTo>
                          <a:pt x="167" y="25"/>
                        </a:lnTo>
                        <a:lnTo>
                          <a:pt x="165" y="16"/>
                        </a:lnTo>
                        <a:lnTo>
                          <a:pt x="167" y="2"/>
                        </a:lnTo>
                        <a:lnTo>
                          <a:pt x="172" y="0"/>
                        </a:lnTo>
                        <a:lnTo>
                          <a:pt x="179" y="18"/>
                        </a:lnTo>
                        <a:lnTo>
                          <a:pt x="185" y="22"/>
                        </a:lnTo>
                        <a:lnTo>
                          <a:pt x="189" y="38"/>
                        </a:lnTo>
                        <a:lnTo>
                          <a:pt x="196" y="60"/>
                        </a:lnTo>
                        <a:lnTo>
                          <a:pt x="206" y="66"/>
                        </a:lnTo>
                        <a:lnTo>
                          <a:pt x="219" y="83"/>
                        </a:lnTo>
                        <a:lnTo>
                          <a:pt x="221" y="91"/>
                        </a:lnTo>
                        <a:lnTo>
                          <a:pt x="232" y="101"/>
                        </a:lnTo>
                        <a:lnTo>
                          <a:pt x="235" y="119"/>
                        </a:lnTo>
                        <a:lnTo>
                          <a:pt x="235" y="133"/>
                        </a:lnTo>
                        <a:lnTo>
                          <a:pt x="232" y="155"/>
                        </a:lnTo>
                        <a:lnTo>
                          <a:pt x="221" y="169"/>
                        </a:lnTo>
                        <a:lnTo>
                          <a:pt x="217" y="187"/>
                        </a:lnTo>
                        <a:lnTo>
                          <a:pt x="217" y="202"/>
                        </a:lnTo>
                        <a:lnTo>
                          <a:pt x="206" y="205"/>
                        </a:lnTo>
                        <a:lnTo>
                          <a:pt x="196" y="215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329680" y="5790960"/>
                    <a:ext cx="28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7">
                        <a:moveTo>
                          <a:pt x="9" y="23"/>
                        </a:move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9" y="4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7" y="0"/>
                        </a:lnTo>
                        <a:lnTo>
                          <a:pt x="17" y="11"/>
                        </a:lnTo>
                        <a:lnTo>
                          <a:pt x="15" y="15"/>
                        </a:lnTo>
                        <a:lnTo>
                          <a:pt x="13" y="19"/>
                        </a:lnTo>
                        <a:lnTo>
                          <a:pt x="13" y="22"/>
                        </a:lnTo>
                        <a:lnTo>
                          <a:pt x="12" y="23"/>
                        </a:lnTo>
                        <a:lnTo>
                          <a:pt x="12" y="26"/>
                        </a:lnTo>
                        <a:lnTo>
                          <a:pt x="9" y="23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06">
                        <a:moveTo>
                          <a:pt x="3" y="37"/>
                        </a:moveTo>
                        <a:lnTo>
                          <a:pt x="13" y="28"/>
                        </a:lnTo>
                        <a:lnTo>
                          <a:pt x="20" y="0"/>
                        </a:lnTo>
                        <a:lnTo>
                          <a:pt x="25" y="42"/>
                        </a:lnTo>
                        <a:lnTo>
                          <a:pt x="17" y="94"/>
                        </a:lnTo>
                        <a:lnTo>
                          <a:pt x="0" y="105"/>
                        </a:lnTo>
                        <a:lnTo>
                          <a:pt x="0" y="80"/>
                        </a:lnTo>
                        <a:lnTo>
                          <a:pt x="5" y="64"/>
                        </a:lnTo>
                        <a:lnTo>
                          <a:pt x="3" y="37"/>
                        </a:lnTo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实务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外汇交易及其种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可兑换货币间的买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零售与批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9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银行与顾客之间的外汇交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银行同行业间的外汇交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动机与交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248-8FCE-40CF-B39B-BADBF40D4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技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把输赢置之度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逆境时，最好休息一会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不要被几个点误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在盘局突破时建立头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见势不对，反戈一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升幅日减，交易量下降，小心价格下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跌幅日减，交易量渐增，汇价近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小心打跌后的反弹和急升后的调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B4E-F57B-4F31-AD56-CA25DB222F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6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期货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692360" y="3644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0DEA-D5CB-49DC-B6A8-9CA37674F5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7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期权交易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7640" y="378900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外汇期权交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oreign Currencies Op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………………………………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7137-8811-4BD4-8DEA-13B9509B1C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8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货币投机交易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8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投机性即期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8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交叉套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730-6E9E-4496-8B57-80619ECA24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中的要素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首席交易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普通交易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外汇交易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外汇交易的通讯工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交易室的风险管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278-F39B-4349-BDD1-1F2F45F6A8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3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报价方式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内：直接标价法；间接标价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国际：单位元；单位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57D-ADFB-422D-8300-EEE29699F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随行就市——即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即期外汇交易，又称现汇交易，是指交易双方以当天外汇市场上的价格成交，并在两个营业日内进行清算交割的一种外汇交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成交日：双方达成外汇交易协议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交割日：双方履行资金划拨实现收付义务的时间，又称结算日和有效起息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按此交易的汇率为即期汇率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ot rat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〕，也就是一般情况下所指的汇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0DB-8552-4C17-8976-888610FE1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时间价值——远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称期汇交易，是指外汇买卖成交后当时并不交割，而根据合同的规定，在约定的日期按约定的汇率办理收付交割的一种外汇交易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约定的汇率就是远期汇率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ward Exchange rat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下面简单列示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某一天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ronto Exchange Marke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外汇行情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873-A23E-42B2-8E43-C9B7FECA0D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远期汇率的升水和贴水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升水：是指远期汇价高出即期汇价的差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贴水：是指远期汇价低于即期汇价的差额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……………………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略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7BB-5521-4BC1-9B84-0DB1DB4A93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的传统类型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相对灵活——择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选择交割日的远期外汇交易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保值避险——掉期外汇交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掉期交易通常是指在外汇市场上，将方向相反、金额相同的远期和即期交易结合起来进行交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略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216-8D9A-4672-A3DC-C328AD6DCB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56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．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外汇掉期交易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案例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假设花期银行需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百万英镑，与劳氏银行做了以下交易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Trade $ for £ at spot rate=$1.6482/ 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  Return £ for $ in 3 months at forward rate= $1.6574/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……………………………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略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27672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tiba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276720"/>
            <a:ext cx="2438640" cy="1143000"/>
          </a:xfrm>
          <a:prstGeom prst="roundRect">
            <a:avLst>
              <a:gd name="adj" fmla="val 2291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loy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276720"/>
            <a:ext cx="2057400" cy="533160"/>
          </a:xfrm>
          <a:prstGeom prst="rightArrow">
            <a:avLst>
              <a:gd name="adj1" fmla="val 50000"/>
              <a:gd name="adj2" fmla="val 96472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3886200"/>
            <a:ext cx="2057400" cy="533520"/>
          </a:xfrm>
          <a:prstGeom prst="leftArrow">
            <a:avLst>
              <a:gd name="adj1" fmla="val 50000"/>
              <a:gd name="adj2" fmla="val 9640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95F-D8CD-48F0-8677-6C82B2FE87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．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外汇交易技术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宁买升，不买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“金字塔”加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尽量使利润延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斩仓、建立头寸、获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处境不明，不沾为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于传言时买入（卖出），于事实时卖出（买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莫在赔钱时加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切莫孤注一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7BD-7162-459D-A832-A0BACE351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外汇 交易</cp:keywords>
  <dc:language>en-US</dc:language>
  <cp:lastModifiedBy/>
  <cp:revision>0</cp:revision>
  <dc:subject/>
  <dc:title/>
</cp:coreProperties>
</file>