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B0A2-4E79-484B-A652-5F32A0818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00e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866F-3BED-4C5A-B7EC-ED9FA341B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00e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C582-FC2E-43F9-AB16-541797EE7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00e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904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272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640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388E-9820-419C-827C-24B5BE4F1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ED43D-29AD-4FB2-8261-1EDA4874A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00e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5EA7F-3E7B-4CE8-AC3A-29877E0FC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00e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971BB-609A-45B8-9BA5-FC22F7399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00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E971A-BD63-4CCD-B20B-83782EA70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00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B6BC6-71EB-49E1-855C-CB58EC1CE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B4E7B-BD71-453B-8BA2-303CFF9BA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00e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CD26A-FAB8-448B-BF8A-8518721A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00e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0E2A-A907-44E2-998E-1CF5D476C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00e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83824-7E48-4C05-87D7-1D6B807E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00e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96577-4096-4ABC-A190-50E0AAA3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00e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21F63-DA03-4719-B557-92C6C59FA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00e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1F18E-B496-4800-B1A6-0C0546537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00e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1904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272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640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61B2E-BFCD-41F1-BED5-774D66D81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A7F4F-217E-4C83-BE74-0ACD6575A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00e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473C1-F2BE-4C2C-84D6-42EA9AB13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00e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C87B6-EF6D-4448-BB54-BAAA34AC6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00e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75CC4-9F1B-458B-B878-F9578337C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00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A423E-2E9F-451F-817E-0545A52D5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00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8932-1EA6-4201-9178-CFA9A90F2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9A4C3-24A7-4297-A4DF-225727A37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00e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2EB1C-0543-4476-841F-917A8C97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00e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F4FA2-6633-463C-B8C2-C051E949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00e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4870B-C212-4809-9D76-4CC935C7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00e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F61C5-9F86-49B1-807A-4974AC793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00e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AD6D9-087D-4729-BBF8-8E21B7021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00e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1904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2272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640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59054-CA1A-4728-90FC-19BF8D365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00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6EF1-9609-4A72-B520-8DBA28BAD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00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03B4-78FE-4B4C-A089-BB6AF05C6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8487-8B2A-428E-B491-433297DCD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00e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3C21-C32A-41F3-8F27-C79303B5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00e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5D19-D01D-457F-9796-ADADFEE1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00e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8CE5-6740-4AC1-B0A2-FA332CFE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FB713-C12B-4A84-8B9D-38471316FA04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B80B8-EB75-4935-B25F-50935E33E98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800e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f2800e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39A70-C55D-42FF-96EA-80C96C0A20A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f2800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800e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2800e"/>
              </a:solidFill>
              <a:latin typeface="Arial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f7b36e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800e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2800e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800e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2800e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800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2800e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800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2800e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800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2800e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800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2800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18920" y="1306440"/>
            <a:ext cx="582444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800e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f2800e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7EFDC-6853-4EC3-8D46-73DE0BA8605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c000"/>
              </a:solidFill>
              <a:latin typeface="Arial"/>
            </a:endParaRPr>
          </a:p>
          <a:p>
            <a:pPr lvl="1" indent="0" algn="ctr">
              <a:lnSpc>
                <a:spcPct val="13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d7d7d"/>
                </a:solidFill>
                <a:latin typeface="幼圆"/>
              </a:rPr>
              <a:t>Second Outline Level</a:t>
            </a:r>
            <a:endParaRPr b="0" lang="en-US" sz="1600" spc="-1" strike="noStrike">
              <a:solidFill>
                <a:srgbClr val="7d7d7d"/>
              </a:solidFill>
              <a:latin typeface="幼圆"/>
            </a:endParaRPr>
          </a:p>
          <a:p>
            <a:pPr lvl="2" marL="91440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1" descr=""/>
          <p:cNvPicPr/>
          <p:nvPr/>
        </p:nvPicPr>
        <p:blipFill>
          <a:blip r:embed="rId2"/>
          <a:stretch/>
        </p:blipFill>
        <p:spPr>
          <a:xfrm>
            <a:off x="1044720" y="620640"/>
            <a:ext cx="6356160" cy="58975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6360" y="63086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58960" y="404640"/>
            <a:ext cx="56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问号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免费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2800e"/>
                </a:solidFill>
                <a:latin typeface="Arial Black"/>
              </a:rPr>
              <a:t>使用规范说明</a:t>
            </a:r>
            <a:endParaRPr b="1" lang="en-US" sz="3200" spc="-1" strike="noStrike">
              <a:solidFill>
                <a:srgbClr val="f2800e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f2800e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2800e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2800e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2800e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2800e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2800e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2800e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2800e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2800e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2800e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2800e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f2800e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2800e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2800e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2800e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2800e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2800e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2800e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2800e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2800e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2800e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2800e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2800e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2800e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2800e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2800e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2800e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2800e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5EC08-BE97-4411-917E-42006B17CC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09:36:22Z</dcterms:modified>
  <cp:revision>83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