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9E72-E38E-43FA-89DB-5AFF48F5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F05-0359-44FD-B3E0-6F405C8E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7EC9-6C93-4F6E-A146-40EB6161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DC2-31B3-40CC-907E-148312CE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BD86-090E-46A9-BE1C-C1B88672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B8A4-54A7-434A-A943-0A7248CF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892F-DE9F-406C-8DBE-B3DBC359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806E-6CE4-43A2-A425-5BA211C8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7717-6573-4F8A-BD6F-F8AE401F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EA6F-34CA-4625-A463-63B90721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C8C4-CCDF-43CB-8CFF-1182E231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125-0F15-4552-B3F4-7AC6508E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0722-4814-43EB-ACA2-2F032504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48AF-5BF0-4AEA-ABB4-0A9C5788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C3E8-633F-45EC-8620-2C2B8F1D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3EAC-BA05-4A1B-9C75-FFCC0467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E639-285F-444A-B747-2709EEAA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441C-550B-4058-81AF-6026CD7F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336-3F2F-42A7-A88B-D07204F2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4E1-4141-470D-B3CC-0572B83C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6483-977F-432A-A539-D03CE864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BF94-BA67-481E-856A-81D6E416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656E-A41E-4B76-A877-112062AF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651D-52D6-4B7B-8D3D-46C8AF53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AA81-626B-44C2-9A63-1085F9D9A7B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1811-4665-48A6-9723-C24639B8987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9144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66"/>
                </a:solidFill>
                <a:latin typeface="Times New Roman"/>
                <a:ea typeface="隶书"/>
              </a:rPr>
              <a:t>物理教学的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2438280"/>
            <a:ext cx="5410080" cy="1191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66"/>
                </a:solidFill>
                <a:latin typeface="Times New Roman"/>
                <a:ea typeface="黑体"/>
              </a:rPr>
              <a:t>哲学思考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487692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4724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83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09680" y="106668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什麽是物理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2362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23623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362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物理是一门科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34290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429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物理是一种智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449568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物理是一种文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80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宇宙半径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电子半径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=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0</a:t>
            </a:r>
            <a:r>
              <a:rPr b="1" lang="zh-CN" sz="3200" spc="-1" strike="noStrike" baseline="30000">
                <a:solidFill>
                  <a:srgbClr val="ffff00"/>
                </a:solidFill>
                <a:latin typeface="Times New Roman"/>
                <a:ea typeface="楷体_GB2312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宇宙寿命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强衰变粒子寿命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0</a:t>
            </a:r>
            <a:r>
              <a:rPr b="1" lang="zh-CN" sz="3200" spc="-1" strike="noStrike" baseline="30000">
                <a:solidFill>
                  <a:srgbClr val="ffff00"/>
                </a:solidFill>
                <a:latin typeface="Times New Roman"/>
                <a:ea typeface="楷体_GB2312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氢核与电子的电力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氢核与电子的引力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0</a:t>
            </a:r>
            <a:r>
              <a:rPr b="1" lang="zh-CN" sz="3200" spc="-1" strike="noStrike" baseline="30000">
                <a:solidFill>
                  <a:srgbClr val="ffff00"/>
                </a:solidFill>
                <a:latin typeface="Times New Roman"/>
                <a:ea typeface="楷体_GB2312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狭拉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057400" y="106668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为何教物理</a:t>
            </a: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27432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知识本位      学科本位      学生本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3124080"/>
            <a:ext cx="68580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3124080"/>
            <a:ext cx="68580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19320" y="12193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教育的最高目标是为了使人们  能够过一个实现自我和负责任的 生活作准备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39625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—— </a:t>
            </a:r>
            <a:r>
              <a:rPr b="0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摘自《面向全体美国人的科学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华文中宋"/>
                <a:ea typeface="华文中宋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9907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cc66"/>
                </a:solidFill>
                <a:latin typeface="方正姚体"/>
                <a:ea typeface="方正姚体"/>
              </a:rPr>
              <a:t>物理教学观</a:t>
            </a:r>
            <a:r>
              <a:rPr b="1" i="1" lang="zh-CN" sz="4800" spc="-1" strike="noStrike">
                <a:solidFill>
                  <a:srgbClr val="ffcc66"/>
                </a:solidFill>
                <a:latin typeface="方正姚体"/>
                <a:ea typeface="方正姚体"/>
              </a:rPr>
              <a:t>-----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2666880"/>
            <a:ext cx="8763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方正姚体"/>
                <a:ea typeface="方正姚体"/>
              </a:rPr>
              <a:t>为提高学生的科学素养而教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09480" y="9144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cc66"/>
                </a:solidFill>
                <a:latin typeface="华文中宋"/>
                <a:ea typeface="华文中宋"/>
              </a:rPr>
              <a:t>物理教学的价值</a:t>
            </a:r>
            <a:r>
              <a:rPr b="1" i="1" lang="zh-CN" sz="4000" spc="-1" strike="noStrike">
                <a:solidFill>
                  <a:srgbClr val="ffcc66"/>
                </a:solidFill>
                <a:latin typeface="华文中宋"/>
                <a:ea typeface="华文中宋"/>
              </a:rPr>
              <a:t>----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2209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45720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19810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把人类社会积累的知识转化为学生个体的知识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31240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把前人从事智力活动的方法转化为学生的认识能力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43434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把蕴含在知识载体中的观念转化为学生的行为准则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09680" y="9144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怎样教物理</a:t>
            </a: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438280" y="12193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隶书"/>
                <a:ea typeface="隶书"/>
              </a:rPr>
              <a:t>“</a:t>
            </a:r>
            <a:r>
              <a:rPr b="0" lang="zh-CN" sz="6000" spc="-1" strike="noStrike">
                <a:solidFill>
                  <a:srgbClr val="ffcc66"/>
                </a:solidFill>
                <a:latin typeface="隶书"/>
                <a:ea typeface="隶书"/>
              </a:rPr>
              <a:t>优化过程”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2743200"/>
            <a:ext cx="51818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以过程为主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以优化为核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066680" y="26668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  <a:ea typeface="黑体"/>
              </a:rPr>
              <a:t>客观知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2666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  <a:ea typeface="黑体"/>
              </a:rPr>
              <a:t>课程知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  <a:ea typeface="黑体"/>
              </a:rPr>
              <a:t>个体知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762120"/>
            <a:ext cx="5029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知识的演化过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320040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23623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课程设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教学设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320040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3809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静态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63440" y="3809880"/>
            <a:ext cx="13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动态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53080" y="380988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内化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52480" y="9144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物理知识的形态与功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4038480"/>
            <a:ext cx="6400800" cy="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3276720"/>
            <a:ext cx="3200400" cy="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2590920"/>
            <a:ext cx="3200400" cy="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3276720"/>
            <a:ext cx="0" cy="7617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2590920"/>
            <a:ext cx="0" cy="6858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2590920"/>
            <a:ext cx="0" cy="14475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495680"/>
            <a:ext cx="7162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功利价值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认知价值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发展价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3276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学术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形态 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显性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2514600"/>
            <a:ext cx="30477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教育形态 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隐性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304920"/>
            <a:ext cx="23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【案例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2193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研究感应电流的方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18288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096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8954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50532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19112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87692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56272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3244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20968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686800" y="220968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2209680"/>
            <a:ext cx="0" cy="335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220968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209680"/>
            <a:ext cx="0" cy="335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2209680"/>
            <a:ext cx="0" cy="335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方正姚体"/>
                <a:ea typeface="方正姚体"/>
              </a:rPr>
              <a:t>N</a:t>
            </a:r>
            <a:r>
              <a:rPr b="1" lang="zh-CN" sz="2400" spc="-1" strike="noStrike">
                <a:solidFill>
                  <a:srgbClr val="ffff66"/>
                </a:solidFill>
                <a:latin typeface="方正姚体"/>
                <a:ea typeface="方正姚体"/>
              </a:rPr>
              <a:t>极插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方正姚体"/>
                <a:ea typeface="方正姚体"/>
              </a:rPr>
              <a:t>N</a:t>
            </a:r>
            <a:r>
              <a:rPr b="1" lang="zh-CN" sz="2400" spc="-1" strike="noStrike">
                <a:solidFill>
                  <a:srgbClr val="ffff66"/>
                </a:solidFill>
                <a:latin typeface="方正姚体"/>
                <a:ea typeface="方正姚体"/>
              </a:rPr>
              <a:t>极拔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方正姚体"/>
                <a:ea typeface="方正姚体"/>
              </a:rPr>
              <a:t>S</a:t>
            </a:r>
            <a:r>
              <a:rPr b="1" lang="zh-CN" sz="2400" spc="-1" strike="noStrike">
                <a:solidFill>
                  <a:srgbClr val="ffff66"/>
                </a:solidFill>
                <a:latin typeface="方正姚体"/>
                <a:ea typeface="方正姚体"/>
              </a:rPr>
              <a:t>极插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1520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方正姚体"/>
                <a:ea typeface="方正姚体"/>
              </a:rPr>
              <a:t>S</a:t>
            </a:r>
            <a:r>
              <a:rPr b="1" lang="zh-CN" sz="2400" spc="-1" strike="noStrike">
                <a:solidFill>
                  <a:srgbClr val="ffff66"/>
                </a:solidFill>
                <a:latin typeface="方正姚体"/>
                <a:ea typeface="方正姚体"/>
              </a:rPr>
              <a:t>极拔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2971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原磁场的方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6576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原磁通量变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343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感应电流的方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0292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029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感应电流磁场方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结  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1371600"/>
            <a:ext cx="4572000" cy="5105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5867280"/>
            <a:ext cx="411480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7200" y="1905120"/>
            <a:ext cx="0" cy="4038480"/>
          </a:xfrm>
          <a:prstGeom prst="line">
            <a:avLst/>
          </a:prstGeom>
          <a:ln w="1908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3429000"/>
            <a:ext cx="2971800" cy="2286000"/>
          </a:xfrm>
          <a:custGeom>
            <a:avLst/>
            <a:gdLst/>
            <a:ahLst/>
            <a:rect l="l" t="t" r="r" b="b"/>
            <a:pathLst>
              <a:path w="1776" h="1496">
                <a:moveTo>
                  <a:pt x="0" y="1496"/>
                </a:moveTo>
                <a:cubicBezTo>
                  <a:pt x="64" y="1380"/>
                  <a:pt x="128" y="1264"/>
                  <a:pt x="144" y="1256"/>
                </a:cubicBezTo>
                <a:cubicBezTo>
                  <a:pt x="160" y="1248"/>
                  <a:pt x="72" y="1464"/>
                  <a:pt x="96" y="1448"/>
                </a:cubicBezTo>
                <a:cubicBezTo>
                  <a:pt x="120" y="1432"/>
                  <a:pt x="264" y="1184"/>
                  <a:pt x="288" y="1160"/>
                </a:cubicBezTo>
                <a:cubicBezTo>
                  <a:pt x="312" y="1136"/>
                  <a:pt x="232" y="1296"/>
                  <a:pt x="240" y="1304"/>
                </a:cubicBezTo>
                <a:cubicBezTo>
                  <a:pt x="248" y="1312"/>
                  <a:pt x="288" y="1272"/>
                  <a:pt x="336" y="1208"/>
                </a:cubicBezTo>
                <a:cubicBezTo>
                  <a:pt x="384" y="1144"/>
                  <a:pt x="488" y="928"/>
                  <a:pt x="528" y="920"/>
                </a:cubicBezTo>
                <a:cubicBezTo>
                  <a:pt x="568" y="912"/>
                  <a:pt x="568" y="1224"/>
                  <a:pt x="576" y="1160"/>
                </a:cubicBezTo>
                <a:cubicBezTo>
                  <a:pt x="584" y="1096"/>
                  <a:pt x="568" y="608"/>
                  <a:pt x="576" y="536"/>
                </a:cubicBezTo>
                <a:cubicBezTo>
                  <a:pt x="584" y="464"/>
                  <a:pt x="592" y="744"/>
                  <a:pt x="624" y="728"/>
                </a:cubicBezTo>
                <a:cubicBezTo>
                  <a:pt x="656" y="712"/>
                  <a:pt x="736" y="432"/>
                  <a:pt x="768" y="440"/>
                </a:cubicBezTo>
                <a:cubicBezTo>
                  <a:pt x="800" y="448"/>
                  <a:pt x="752" y="672"/>
                  <a:pt x="816" y="776"/>
                </a:cubicBezTo>
                <a:cubicBezTo>
                  <a:pt x="880" y="880"/>
                  <a:pt x="1088" y="1048"/>
                  <a:pt x="1152" y="1064"/>
                </a:cubicBezTo>
                <a:cubicBezTo>
                  <a:pt x="1216" y="1080"/>
                  <a:pt x="1176" y="952"/>
                  <a:pt x="1200" y="872"/>
                </a:cubicBezTo>
                <a:cubicBezTo>
                  <a:pt x="1224" y="792"/>
                  <a:pt x="1272" y="656"/>
                  <a:pt x="1296" y="584"/>
                </a:cubicBezTo>
                <a:cubicBezTo>
                  <a:pt x="1320" y="512"/>
                  <a:pt x="1320" y="464"/>
                  <a:pt x="1344" y="440"/>
                </a:cubicBezTo>
                <a:cubicBezTo>
                  <a:pt x="1368" y="416"/>
                  <a:pt x="1408" y="424"/>
                  <a:pt x="1440" y="440"/>
                </a:cubicBezTo>
                <a:cubicBezTo>
                  <a:pt x="1472" y="456"/>
                  <a:pt x="1504" y="520"/>
                  <a:pt x="1536" y="536"/>
                </a:cubicBezTo>
                <a:cubicBezTo>
                  <a:pt x="1568" y="552"/>
                  <a:pt x="1616" y="584"/>
                  <a:pt x="1632" y="536"/>
                </a:cubicBezTo>
                <a:cubicBezTo>
                  <a:pt x="1648" y="488"/>
                  <a:pt x="1632" y="336"/>
                  <a:pt x="1632" y="248"/>
                </a:cubicBezTo>
                <a:cubicBezTo>
                  <a:pt x="1632" y="160"/>
                  <a:pt x="1624" y="16"/>
                  <a:pt x="1632" y="8"/>
                </a:cubicBezTo>
                <a:cubicBezTo>
                  <a:pt x="1640" y="0"/>
                  <a:pt x="1656" y="168"/>
                  <a:pt x="1680" y="200"/>
                </a:cubicBezTo>
                <a:cubicBezTo>
                  <a:pt x="1704" y="232"/>
                  <a:pt x="1744" y="232"/>
                  <a:pt x="1776" y="20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3403440"/>
            <a:ext cx="152280" cy="330480"/>
          </a:xfrm>
          <a:custGeom>
            <a:avLst/>
            <a:gdLst/>
            <a:ahLst/>
            <a:rect l="l" t="t" r="r" b="b"/>
            <a:pathLst>
              <a:path w="96" h="208">
                <a:moveTo>
                  <a:pt x="0" y="208"/>
                </a:moveTo>
                <a:cubicBezTo>
                  <a:pt x="16" y="120"/>
                  <a:pt x="32" y="32"/>
                  <a:pt x="48" y="16"/>
                </a:cubicBezTo>
                <a:cubicBezTo>
                  <a:pt x="64" y="0"/>
                  <a:pt x="80" y="56"/>
                  <a:pt x="96" y="11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3492360"/>
            <a:ext cx="152640" cy="88920"/>
          </a:xfrm>
          <a:custGeom>
            <a:avLst/>
            <a:gdLst/>
            <a:ahLst/>
            <a:rect l="l" t="t" r="r" b="b"/>
            <a:pathLst>
              <a:path w="104" h="160">
                <a:moveTo>
                  <a:pt x="0" y="104"/>
                </a:moveTo>
                <a:cubicBezTo>
                  <a:pt x="16" y="52"/>
                  <a:pt x="32" y="0"/>
                  <a:pt x="48" y="8"/>
                </a:cubicBezTo>
                <a:cubicBezTo>
                  <a:pt x="64" y="16"/>
                  <a:pt x="88" y="144"/>
                  <a:pt x="96" y="152"/>
                </a:cubicBezTo>
                <a:cubicBezTo>
                  <a:pt x="104" y="160"/>
                  <a:pt x="96" y="80"/>
                  <a:pt x="96" y="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3200" bIns="432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200400"/>
            <a:ext cx="88920" cy="304920"/>
          </a:xfrm>
          <a:custGeom>
            <a:avLst/>
            <a:gdLst/>
            <a:ahLst/>
            <a:rect l="l" t="t" r="r" b="b"/>
            <a:pathLst>
              <a:path w="56" h="192">
                <a:moveTo>
                  <a:pt x="0" y="192"/>
                </a:moveTo>
                <a:cubicBezTo>
                  <a:pt x="0" y="192"/>
                  <a:pt x="40" y="0"/>
                  <a:pt x="48" y="0"/>
                </a:cubicBezTo>
                <a:cubicBezTo>
                  <a:pt x="56" y="0"/>
                  <a:pt x="0" y="192"/>
                  <a:pt x="0" y="192"/>
                </a:cubicBezTo>
                <a:close/>
              </a:path>
            </a:pathLst>
          </a:custGeom>
          <a:solidFill>
            <a:srgbClr val="00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2514600"/>
            <a:ext cx="990720" cy="1092240"/>
          </a:xfrm>
          <a:custGeom>
            <a:avLst/>
            <a:gdLst/>
            <a:ahLst/>
            <a:rect l="l" t="t" r="r" b="b"/>
            <a:pathLst>
              <a:path w="624" h="688">
                <a:moveTo>
                  <a:pt x="0" y="480"/>
                </a:moveTo>
                <a:cubicBezTo>
                  <a:pt x="16" y="532"/>
                  <a:pt x="32" y="584"/>
                  <a:pt x="48" y="576"/>
                </a:cubicBezTo>
                <a:cubicBezTo>
                  <a:pt x="64" y="568"/>
                  <a:pt x="64" y="472"/>
                  <a:pt x="96" y="432"/>
                </a:cubicBezTo>
                <a:cubicBezTo>
                  <a:pt x="128" y="392"/>
                  <a:pt x="200" y="304"/>
                  <a:pt x="240" y="336"/>
                </a:cubicBezTo>
                <a:cubicBezTo>
                  <a:pt x="280" y="368"/>
                  <a:pt x="304" y="576"/>
                  <a:pt x="336" y="624"/>
                </a:cubicBezTo>
                <a:cubicBezTo>
                  <a:pt x="368" y="672"/>
                  <a:pt x="416" y="688"/>
                  <a:pt x="432" y="624"/>
                </a:cubicBezTo>
                <a:cubicBezTo>
                  <a:pt x="448" y="560"/>
                  <a:pt x="416" y="280"/>
                  <a:pt x="432" y="240"/>
                </a:cubicBezTo>
                <a:cubicBezTo>
                  <a:pt x="448" y="200"/>
                  <a:pt x="504" y="408"/>
                  <a:pt x="528" y="384"/>
                </a:cubicBezTo>
                <a:cubicBezTo>
                  <a:pt x="552" y="360"/>
                  <a:pt x="560" y="160"/>
                  <a:pt x="576" y="96"/>
                </a:cubicBezTo>
                <a:cubicBezTo>
                  <a:pt x="592" y="32"/>
                  <a:pt x="608" y="16"/>
                  <a:pt x="624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371600"/>
            <a:ext cx="4572000" cy="5105520"/>
          </a:xfrm>
          <a:prstGeom prst="rect">
            <a:avLst/>
          </a:prstGeom>
          <a:noFill/>
          <a:ln cap="rnd" w="936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72200" y="2209680"/>
            <a:ext cx="1905120" cy="1600200"/>
          </a:xfrm>
          <a:custGeom>
            <a:avLst/>
            <a:gdLst/>
            <a:ahLst/>
            <a:rect l="l" t="t" r="r" b="b"/>
            <a:pathLst>
              <a:path w="1776" h="1496">
                <a:moveTo>
                  <a:pt x="0" y="1496"/>
                </a:moveTo>
                <a:cubicBezTo>
                  <a:pt x="64" y="1380"/>
                  <a:pt x="128" y="1264"/>
                  <a:pt x="144" y="1256"/>
                </a:cubicBezTo>
                <a:cubicBezTo>
                  <a:pt x="160" y="1248"/>
                  <a:pt x="72" y="1464"/>
                  <a:pt x="96" y="1448"/>
                </a:cubicBezTo>
                <a:cubicBezTo>
                  <a:pt x="120" y="1432"/>
                  <a:pt x="264" y="1184"/>
                  <a:pt x="288" y="1160"/>
                </a:cubicBezTo>
                <a:cubicBezTo>
                  <a:pt x="312" y="1136"/>
                  <a:pt x="232" y="1296"/>
                  <a:pt x="240" y="1304"/>
                </a:cubicBezTo>
                <a:cubicBezTo>
                  <a:pt x="248" y="1312"/>
                  <a:pt x="288" y="1272"/>
                  <a:pt x="336" y="1208"/>
                </a:cubicBezTo>
                <a:cubicBezTo>
                  <a:pt x="384" y="1144"/>
                  <a:pt x="488" y="928"/>
                  <a:pt x="528" y="920"/>
                </a:cubicBezTo>
                <a:cubicBezTo>
                  <a:pt x="568" y="912"/>
                  <a:pt x="568" y="1224"/>
                  <a:pt x="576" y="1160"/>
                </a:cubicBezTo>
                <a:cubicBezTo>
                  <a:pt x="584" y="1096"/>
                  <a:pt x="568" y="608"/>
                  <a:pt x="576" y="536"/>
                </a:cubicBezTo>
                <a:cubicBezTo>
                  <a:pt x="584" y="464"/>
                  <a:pt x="592" y="744"/>
                  <a:pt x="624" y="728"/>
                </a:cubicBezTo>
                <a:cubicBezTo>
                  <a:pt x="656" y="712"/>
                  <a:pt x="736" y="432"/>
                  <a:pt x="768" y="440"/>
                </a:cubicBezTo>
                <a:cubicBezTo>
                  <a:pt x="800" y="448"/>
                  <a:pt x="752" y="672"/>
                  <a:pt x="816" y="776"/>
                </a:cubicBezTo>
                <a:cubicBezTo>
                  <a:pt x="880" y="880"/>
                  <a:pt x="1088" y="1048"/>
                  <a:pt x="1152" y="1064"/>
                </a:cubicBezTo>
                <a:cubicBezTo>
                  <a:pt x="1216" y="1080"/>
                  <a:pt x="1176" y="952"/>
                  <a:pt x="1200" y="872"/>
                </a:cubicBezTo>
                <a:cubicBezTo>
                  <a:pt x="1224" y="792"/>
                  <a:pt x="1272" y="656"/>
                  <a:pt x="1296" y="584"/>
                </a:cubicBezTo>
                <a:cubicBezTo>
                  <a:pt x="1320" y="512"/>
                  <a:pt x="1320" y="464"/>
                  <a:pt x="1344" y="440"/>
                </a:cubicBezTo>
                <a:cubicBezTo>
                  <a:pt x="1368" y="416"/>
                  <a:pt x="1408" y="424"/>
                  <a:pt x="1440" y="440"/>
                </a:cubicBezTo>
                <a:cubicBezTo>
                  <a:pt x="1472" y="456"/>
                  <a:pt x="1504" y="520"/>
                  <a:pt x="1536" y="536"/>
                </a:cubicBezTo>
                <a:cubicBezTo>
                  <a:pt x="1568" y="552"/>
                  <a:pt x="1616" y="584"/>
                  <a:pt x="1632" y="536"/>
                </a:cubicBezTo>
                <a:cubicBezTo>
                  <a:pt x="1648" y="488"/>
                  <a:pt x="1632" y="336"/>
                  <a:pt x="1632" y="248"/>
                </a:cubicBezTo>
                <a:cubicBezTo>
                  <a:pt x="1632" y="160"/>
                  <a:pt x="1624" y="16"/>
                  <a:pt x="1632" y="8"/>
                </a:cubicBezTo>
                <a:cubicBezTo>
                  <a:pt x="1640" y="0"/>
                  <a:pt x="1656" y="168"/>
                  <a:pt x="1680" y="200"/>
                </a:cubicBezTo>
                <a:cubicBezTo>
                  <a:pt x="1704" y="232"/>
                  <a:pt x="1744" y="232"/>
                  <a:pt x="1776" y="20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3200400"/>
            <a:ext cx="609480" cy="609480"/>
          </a:xfrm>
          <a:prstGeom prst="ellipse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1676520"/>
            <a:ext cx="2666880" cy="266688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885840" y="36576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45720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(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自相似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3520" y="53352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体一生的发展重演群体发展的历史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个体发育重演律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9051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人的思维发展成熟过程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重演整个人类认识的历史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            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思维发展重演律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2767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某个地区或民族文化的发展成熟过程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重演整个人类文化发展的历史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   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文化重演律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800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门基础学科的发展成熟过程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重演整个科学发展的历史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         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学科发展重演律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106668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潜科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学分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3520" y="457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波利亚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143000"/>
            <a:ext cx="8001000" cy="25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“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教一个科学的分支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或一个理论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个概念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应该让孩子重蹈人类思想发展中的那种最关键的步子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然我们不应该让他们重蹈过去的无数个错误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仅仅是重蹈关键性步子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”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教学发生学原理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350532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杜威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42670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“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尽管科学家和教师都掌握学科知识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但二者的学科知识是不一样的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师必须把学科知识心理学化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便让学生能够理解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600200" y="9144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0666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潜科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学分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2514600"/>
            <a:ext cx="30477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心理学分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143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---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知识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146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-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认知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41911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教 学 设 计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-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学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1523880"/>
            <a:ext cx="381240" cy="3048120"/>
          </a:xfrm>
          <a:custGeom>
            <a:avLst/>
            <a:gdLst>
              <a:gd name="textAreaLeft" fmla="*/ 0 w 381240"/>
              <a:gd name="textAreaRight" fmla="*/ 137520 w 38124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9320" y="2286000"/>
            <a:ext cx="667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黑体"/>
              </a:rPr>
              <a:t>三序合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2120" y="457200"/>
            <a:ext cx="2057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【案例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14479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黑体"/>
              </a:rPr>
              <a:t>核能的开发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网络教学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2743200"/>
            <a:ext cx="838080" cy="1981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2743200"/>
            <a:ext cx="838080" cy="1981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2743200"/>
            <a:ext cx="838440" cy="1981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2743200"/>
            <a:ext cx="838080" cy="1981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58128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5812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5812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77920" y="2895480"/>
            <a:ext cx="1033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呈现材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30400" y="2895480"/>
            <a:ext cx="1033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自主学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2880" y="2971800"/>
            <a:ext cx="1033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合作交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33920" y="2895480"/>
            <a:ext cx="1033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归纳总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21337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什麽是物理？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本体论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问题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3623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43434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怎样教物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?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方法论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问题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34290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32767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何教物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?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价值论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问题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094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对物理教学的哲学思考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133720" y="1066680"/>
            <a:ext cx="60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什麽是物理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990720"/>
            <a:ext cx="70866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亚里士多德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&lt;&lt;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物理学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&gt;&gt;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元前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世纪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971800"/>
            <a:ext cx="769644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牛顿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&lt;&lt;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自然哲学的数学原理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&gt;&gt;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1687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14400" y="6858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杜甫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&lt;&lt;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曲江二首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&gt;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1600200"/>
            <a:ext cx="4952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推物理须行乐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何用浮名绊此生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35053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&lt;&lt;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格致学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&gt;&gt;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格物致知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源物穷理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4952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陈榥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: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&lt;&lt;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物理学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&gt;&gt;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1918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981080" y="9907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什麽是物理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2362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23623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2362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物理是一门科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34290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14400" y="762120"/>
            <a:ext cx="71629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物理学的特点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科学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基础科学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严密的定量的精密科学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带有方法论性质的科学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物理学的要素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+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思维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+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4648320"/>
            <a:ext cx="71629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物理学的作用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探索自然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驱动技术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生活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培养人才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物理教学 哲学思考</cp:keywords>
  <dc:language>en-US</dc:language>
  <cp:lastModifiedBy/>
  <cp:revision>0</cp:revision>
  <dc:subject/>
  <dc:title/>
</cp:coreProperties>
</file>