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BF8-B8EA-43B8-BEC5-EC61232D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E9F-A1D1-4D32-B7D8-C6A3D37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8EA-ACCC-4113-8035-3E360A54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1D9-1800-451B-B7E7-4B452D97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6B81-268F-4AE2-A2CA-ADEDB80D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63E-662E-4104-B803-4FB6DC49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F461-1E95-4ECD-B197-459B9B16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45F7-8E38-4ADF-9D8D-1049833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488F-AFBE-4C84-9431-0FF25F3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19D-4738-404A-A04E-18B78859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E85-BFAC-495D-9584-B8D0359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3EA-B160-4BE0-A6C7-810CA7B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E96F-2822-4551-BA3D-987BE30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58C0-D425-4C7D-8E2E-196CB91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79DB-1414-4929-BCD1-1085F71F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D687-B216-4248-82AB-A44E31CE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D710-8A00-4124-9FCE-1342587C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CDF-A4E9-4C8B-A08D-E40D0B3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66C-A38A-4337-8B20-B574C297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24C-3952-455E-ADD9-6B78810E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73D-0028-4605-B70F-06B4754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F7C-2034-4890-B7C6-9CAF2B7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323-B4D1-4ED6-909D-BFBDB1B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259-69FA-4C99-A9CA-20D08542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5DD-5F5F-4DC8-B64B-6C9559F7A5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F54C-87F8-4145-89BF-6503F6C3DA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牡丹</cp:keywords>
  <dc:language>en-US</dc:language>
  <cp:lastModifiedBy/>
  <cp:revision>0</cp:revision>
  <dc:subject/>
  <dc:title/>
</cp:coreProperties>
</file>