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9CD-5CAC-493F-B8DC-C5DC20C6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3EC-6DC4-4DC5-AA55-D8C2F599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B17-B170-4587-BAB3-8BDC9739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A23-9E5B-49CE-A9BD-D11B03F9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F76D-1AF0-4127-9ED9-376A1DF1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B2A8-FCA9-441E-8136-0D134693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CD55-19E2-4265-BC8A-A77F419B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0B49-F08C-4BCC-B8D4-EEB86D95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30C4-861C-4EA1-AF74-567FA287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4388-4859-477E-98F8-C162AFDB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5C8E-9251-4BE1-AAB6-0B496719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04F-D671-4730-9027-51C5F55E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6F48-1061-42E8-B14B-C231D58A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4FCE-6060-4BEF-90E2-0887DCB1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506A-2E27-464D-9657-CE48A4B3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924A-7850-4020-A21A-F10B6342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0A41-7C80-4FC8-8939-7C576F29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FA6-C55C-4F16-8A02-3B137550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976-25CD-4071-BBD8-AE1A2008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608-83EA-401E-B10F-A8108519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70D-BB10-4378-8727-7B8DE505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7FA-ECB1-458A-8956-2C8087D9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04F-2855-4A92-ADFD-1D3F8A63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4E0-E754-4E3C-AF1D-3FD1296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FF09-B37B-435F-88DC-13851C1591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E156-88BB-4A88-8ECC-996B15EE446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小波采样定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981080" y="2438280"/>
                <a:ext cx="6096240" cy="336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在</m:t>
                        </m:r>
                        <m:r>
                          <m:rPr>
                            <m:lit/>
                            <m:nor/>
                          </m:rPr>
                          <m:t xml:space="preserve">Mallat</m:t>
                        </m:r>
                        <m:r>
                          <m:rPr>
                            <m:lit/>
                            <m:nor/>
                          </m:rPr>
                          <m:t xml:space="preserve">算法中，我们处理的对象是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我们的输入数列应该是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d>
                        <m:r>
                          <m:t xml:space="preserve">。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但在实际应用中，我们往往得到的是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离散样本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。由此产生的问题是：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定理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77880" y="2362320"/>
                <a:ext cx="6294600" cy="34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设ϕ</m:t>
                        </m:r>
                        <m:r>
                          <m:rPr>
                            <m:lit/>
                            <m:nor/>
                          </m:rPr>
                          <m:t xml:space="preserve">是多尺度分析的尺度函数，且满足：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m>
                          <m:mr>
                            <m:e/>
                            <m:e>
                              <m:r>
                                <m:t xml:space="preserve">ϕ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O</m:t>
                              </m:r>
                              <m:r>
                                <m:t xml:space="preserve">(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ε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mr>
                        </m:m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>
                              <m:sSup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ϕ</m:t>
                                      </m:r>
                                    </m:e>
                                  </m:acc>
                                </m:e>
                                <m:sup/>
                              </m:sSup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Z</m:t>
                                  </m:r>
                                </m:sub>
                                <m:sup/>
                                <m:e>
                                  <m:r>
                                    <m:t xml:space="preserve">ϕ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</m:t>
                                      </m:r>
                                      <m:r>
                                        <m:t xml:space="preserve">ω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</m:mr>
                        </m:m>
                        <m:r>
                          <m:t xml:space="preserve">≠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∀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则存在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对任意的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有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证明的分析：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证明的思想类似于离散小波的重构定理的证明。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08080" y="3505320"/>
                <a:ext cx="564516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定义</m:t>
                              </m:r>
                              <m:m>
                                <m:mr>
                                  <m:e/>
                                  <m:e/>
                                </m:mr>
                              </m:m>
                              <m:r>
                                <m:t xml:space="preserve">T</m:t>
                              </m:r>
                              <m:r>
                                <m:t xml:space="preserve">: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f</m:t>
                        </m:r>
                        <m:r>
                          <m:t xml:space="preserve">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证明映射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是一个有界线性算子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并由开映射原理，证明逆算子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存在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20720" y="2666880"/>
                <a:ext cx="5978520" cy="28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>
                              <m:sSup>
                                <m:e>
                                  <m:r>
                                    <m:t xml:space="preserve">T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:</m:t>
                              </m:r>
                            </m:e>
                          </m:mr>
                        </m: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可以被由一个函数</m:t>
                              </m:r>
                              <m:r>
                                <m:t xml:space="preserve">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确定</m:t>
                              </m:r>
                            </m:e>
                            <m:e/>
                          </m:mr>
                        </m:m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－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＝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其中：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还是正交基。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重要的是怎样构造这样的函数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S(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47920" y="2743200"/>
                <a:ext cx="571500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如果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⇔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w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＝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ω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</m:e>
                              <m:sup/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aa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小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3581280"/>
                <a:ext cx="61722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m>
                      <m:mr>
                        <m:e/>
                        <m:e/>
                        <m:e/>
                      </m:mr>
                    </m:m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rankli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小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19320" y="2716200"/>
                <a:ext cx="62481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m>
                          <m:mr>
                            <m:e/>
                            <m:e/>
                            <m:e/>
                          </m:mr>
                        </m:m>
                        <m:acc>
                          <m:accPr>
                            <m:chr m:val="^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πω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π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</m:m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ϕ</m:t>
                                </m:r>
                              </m:e>
                            </m:acc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π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</m:m>
                        <m:sSup>
                          <m:e>
                            <m:r>
                              <m:t xml:space="preserve">S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πω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[</m:t>
                            </m:r>
                            <m:r>
                              <m:t xml:space="preserve">0,1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_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样条小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76520" y="2971800"/>
                <a:ext cx="6470640" cy="293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阶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样条小波采样定理不成立。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对三阶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样条小波，有</m:t>
                            </m:r>
                          </m:sub>
                        </m:sSub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9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ey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小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可以证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(x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存在，但给不出其解析表达式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Walter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定理的一个推广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4600" y="3057480"/>
            <a:ext cx="7340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Zak Transform and Sampling Theore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or Wavelet Subspaces” by A.J.E.M.Jam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发表在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EEE.Tans.on Signal Processin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Vol.41,No.12,1993,pp3360-3364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引入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Za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变换作为研究工具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828800" y="2789280"/>
                <a:ext cx="6477120" cy="23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</m:m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ω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95280" y="2286000"/>
                <a:ext cx="693432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m>
                          <m:mr>
                            <m:e/>
                            <m:e/>
                          </m:mr>
                        </m:m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d>
                        <m:limUpp>
                          <m:e>
                            <m:r>
                              <m:t xml:space="preserve">＝</m:t>
                            </m:r>
                          </m:e>
                          <m:lim>
                            <m:r>
                              <m:t xml:space="preserve">？</m:t>
                            </m:r>
                          </m:lim>
                        </m:limUp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如果二者不相等，则怎样由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去得到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d>
                        <m:r>
                          <m:t xml:space="preserve">。</m:t>
                        </m:r>
                      </m:e>
                      <m:e>
                        <m:r>
                          <m:t xml:space="preserve">（</m:t>
                        </m:r>
                        <m:r>
                          <m:t xml:space="preserve">3</m:t>
                        </m:r>
                        <m:r>
                          <m:t xml:space="preserve">）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二者的联系？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结果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稍弱的收敛条件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23880" y="2819520"/>
                <a:ext cx="6791400" cy="36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  <m:m>
                              <m:mr>
                                <m:e/>
                                <m:e/>
                              </m:mr>
                            </m:m>
                            <m:r>
                              <m:rPr>
                                <m:lit/>
                                <m:nor/>
                              </m:rPr>
                              <m:t xml:space="preserve">在区间</m:t>
                            </m:r>
                            <m:r>
                              <m:t xml:space="preserve">[</m:t>
                            </m:r>
                            <m:r>
                              <m:t xml:space="preserve">0,1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上一致收敛。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若存在某个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，使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r>
                              <m:t xml:space="preserve">ϕ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  <m:m>
                              <m:mr>
                                <m:e/>
                                <m:e/>
                              </m:mr>
                            </m:m>
                            <m:r>
                              <m:t xml:space="preserve">∀</m:t>
                            </m:r>
                            <m:r>
                              <m:t xml:space="preserve">ω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则对任意的</m:t>
                            </m:r>
                            <m:r>
                              <m:t xml:space="preserve">f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有</m:t>
                            </m:r>
                          </m:e>
                          <m:e>
                            <m:m>
                              <m:mr>
                                <m:e/>
                                <m:e/>
                              </m:mr>
                            </m: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其中：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＝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讨论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两人的结果，均不保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(x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是尺度函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可以保证在定理条件满足的前提下，我们可以由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{f(k)}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出发，用确定的办法去生成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{c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定理的条件判断和变换的计算困难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Xianggen Xia 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的研究成果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811240"/>
            <a:ext cx="77724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n samping theorem ,Wavelet ,and Wavelet ttransform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发表在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EEE.Tans.on Signal Processin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Vol.41,No.12,1993,pp3524-353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237600" indent="-237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基数尺度函数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(cardinal scaling fun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这个概念由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A.Aldroub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.Unse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出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905120" y="3505320"/>
                <a:ext cx="5790960" cy="25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若尺度函数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满足：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m>
                                    <m:mr>
                                      <m:e/>
                                      <m:e/>
                                      <m:e/>
                                    </m:mr>
                                  </m:m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±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±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⋯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则称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是基数尺度函数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2600" y="296388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aar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小波的尺度函数是基数尺度函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inc(x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函数是基数尺度函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定理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2819520"/>
                <a:ext cx="657216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ϕ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  <m:e>
                              <m:r>
                                <m:t xml:space="preserve">∀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成立的充要条件是：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是基数尺度函数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基数正交尺度函数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正交的基数尺度函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52480" y="2895480"/>
                <a:ext cx="5715000" cy="326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由双尺度方程</m:t>
                        </m:r>
                      </m:e>
                      <m:e>
                        <m:m>
                          <m:mr>
                            <m:e/>
                            <m:e/>
                            <m:e>
                              <m:r>
                                <m:t xml:space="preserve">ϕ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</m:sub>
                                <m:sup>
                                  <m:r>
                                    <m:t xml:space="preserve">+</m:t>
                                  </m:r>
                                  <m:r>
                                    <m:t xml:space="preserve">∞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ϕ</m:t>
                                  </m:r>
                                  <m:r>
                                    <m:t xml:space="preserve">（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mr>
                        </m:m>
                      </m:e>
                      <m:e>
                        <m:r>
                          <m:t xml:space="preserve">及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ϕ</m:t>
                        </m:r>
                        <m:r>
                          <m:t xml:space="preserve">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）＝</m:t>
                        </m:r>
                        <m:r>
                          <m:t xml:space="preserve">1</m:t>
                        </m:r>
                        <m:r>
                          <m:t xml:space="preserve">，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＝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048120" y="2666880"/>
                <a:ext cx="2543040" cy="261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令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（因为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）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752480" y="1673280"/>
                <a:ext cx="5689800" cy="39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由ϕ</m:t>
                        </m:r>
                        <m:r>
                          <m:rPr>
                            <m:lit/>
                            <m:nor/>
                          </m:rPr>
                          <m:t xml:space="preserve">的正交性条件：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一个等价形式：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m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m>
                          <m:mr>
                            <m:e/>
                            <m:e/>
                            <m:e>
                              <m:r>
                                <m:t xml:space="preserve">即</m:t>
                              </m:r>
                            </m:e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1828800"/>
                <a:ext cx="6573960" cy="38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结合</m:t>
                        </m:r>
                        <m:m>
                          <m:mr>
                            <m:e/>
                            <m:e/>
                          </m:mr>
                        </m: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我们可以得到：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066680" y="1523880"/>
                <a:ext cx="7239240" cy="33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当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是带宽为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的信号时，由仙农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采样定理，有：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此时，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d>
                        <m:limUpp>
                          <m:e>
                            <m:r>
                              <m:t xml:space="preserve">＝</m:t>
                            </m:r>
                          </m:e>
                          <m:lim/>
                        </m:limUp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496880" y="1382760"/>
                <a:ext cx="6780240" cy="47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令</m:t>
                              </m:r>
                            </m:e>
                            <m:e/>
                          </m:mr>
                        </m:m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结合</m:t>
                        </m:r>
                        <m:m>
                          <m:mr>
                            <m:e/>
                            <m:e/>
                          </m:mr>
                        </m: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和</m:t>
                              </m:r>
                            </m:e>
                            <m:e/>
                            <m:e/>
                          </m:mr>
                        </m: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＝</m:t>
                        </m:r>
                        <m:r>
                          <m:t xml:space="preserve">1</m:t>
                        </m:r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ω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＝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16040" y="1400040"/>
                <a:ext cx="654048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</m:t>
                            </m:r>
                          </m:sup>
                        </m:sSup>
                      </m:e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定理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273320" y="2550960"/>
                <a:ext cx="7194240" cy="32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是基数正交尺度函数的充要条件是：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</m:t>
                            </m:r>
                          </m:sup>
                        </m:sSup>
                        <m:r>
                          <m:t xml:space="preserve">和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＝</m:t>
                        </m:r>
                        <m:r>
                          <m:t xml:space="preserve">1</m:t>
                        </m:r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ω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＝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定理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14400" y="2971800"/>
                <a:ext cx="795672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是紧支集基数正交尺度函数的充要条件是：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是</m:t>
                        </m:r>
                        <m:r>
                          <m:rPr>
                            <m:lit/>
                            <m:nor/>
                          </m:rPr>
                          <m:t xml:space="preserve">Haar</m:t>
                        </m:r>
                        <m:r>
                          <m:rPr>
                            <m:lit/>
                            <m:nor/>
                          </m:rPr>
                          <m:t xml:space="preserve">小波的尺度函数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即：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＝</m:t>
                        </m:r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[</m:t>
                            </m:r>
                            <m:r>
                              <m:t xml:space="preserve">0,1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一类基数正交尺度函数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752480" y="2819520"/>
                <a:ext cx="632484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ω</m:t>
                            </m:r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iω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iω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实数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满足：</m:t>
                        </m:r>
                        <m:m>
                          <m:mr>
                            <m:e/>
                            <m:e/>
                          </m:mr>
                        </m: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，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采样定理的另外两个问题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752480" y="2438280"/>
                <a:ext cx="5943600" cy="38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当f</m:t>
                        </m:r>
                        <m:r>
                          <m:t xml:space="preserve">∉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时，分析由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近似带来的误差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前面的采样定理不成立时，讨论由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近似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的误差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828800" y="914400"/>
                <a:ext cx="5477040" cy="556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当尺度函数不是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，而是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时，有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=&l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)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nary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πx</m:t>
                            </m:r>
                            <m:r>
                              <m:t xml:space="preserve">)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66680" y="2057400"/>
                <a:ext cx="71629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由上面的讨论，实际上，当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是有限带宽时，</m:t>
                        </m: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可以当作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的一种加权和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3809880"/>
                <a:ext cx="622116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但是，对一般的多尺度分析，我们又该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如何处理？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295280" y="1447920"/>
                <a:ext cx="6400800" cy="38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思考当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是有限带宽时，我们可以有：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  <m:e/>
                          </m:mr>
                        </m: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d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其本质在于我们有：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即，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可以由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重建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00200" y="1828800"/>
                <a:ext cx="5818320" cy="36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对于一般的尺度函数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若能找到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使：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m>
                              <m:mr>
                                <m:e/>
                                <m:e>
                                  <m:r>
                                    <m:t xml:space="preserve">∀</m:t>
                                  </m:r>
                                  <m:r>
                                    <m:t xml:space="preserve">f</m:t>
                                  </m:r>
                                </m:e>
                              </m:mr>
                            </m:m>
                          </m:e>
                        </m:nary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则由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m>
                              <m:mr>
                                <m:e/>
                                <m:e>
                                  <m:r>
                                    <m:t xml:space="preserve">∀</m:t>
                                  </m:r>
                                  <m:r>
                                    <m:t xml:space="preserve">f</m:t>
                                  </m:r>
                                </m:e>
                              </m:mr>
                            </m:m>
                          </m:e>
                        </m:nary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我们就可以由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得到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e>
                        </m:d>
                        <m:r>
                          <m:t xml:space="preserve">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95280" y="2743200"/>
                <a:ext cx="6553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此时，小波的采样问题被转换为：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什么小波能由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构造出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或者，这样的小波应该有什么特征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Gilbert G.Walter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的采样定理：</a:t>
            </a:r>
            <a:br>
              <a:rPr sz="3200"/>
            </a:b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A Sampling Theorem for  Wavelet Subspaces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920" y="235440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论文发表在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EEE.Trans.,Information Theory,Vol.38,No.2,1992,pp881-88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这篇论文中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Walte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给出了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S(x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存在的一个充分条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小波 采样 定理</cp:keywords>
  <dc:language>en-US</dc:language>
  <cp:lastModifiedBy/>
  <cp:revision>0</cp:revision>
  <dc:subject/>
  <dc:title/>
</cp:coreProperties>
</file>