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9A1-D67F-4CF6-9090-83EEC241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7D8-47E6-4CAF-A7D0-9DD875FA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29D-50DA-4385-9FB9-EF5F05E0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8A4-3508-44DA-9871-F425980B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C14D-9B8C-4782-9A6D-ED2A413A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016E-8C11-44FD-9A6F-8C76393F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EA18-A646-4442-80B2-B5E65AC8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65B3-45ED-4D14-90C1-10694ACF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A045-8FD9-4368-B579-19E781B7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C6F2-0FC3-4B1E-A34F-BAA14CAE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513D-EB4A-40C4-861E-54135437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2F9-B0C0-484E-87FE-C00F2ECB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E303-493F-4592-9AEF-21C09F0B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3E9B-37AA-44DC-AAC4-FC15F0E9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6AEE-EBCF-491C-B2E3-0A73FE4E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D4A9-1B1C-464C-81C2-9A65E8B7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8745-84B6-4E8A-B235-EDB8DFA4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5BF98-1D3D-4571-9ABB-F97FA221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4059D-C7A2-4492-B66D-4FA2A15C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62B5E-EE60-4E45-886B-7FE09647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3F5D7-D92A-45DB-A036-34922B3B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993AD-CF50-44FF-9BB9-8FC3202E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FF2-3D27-4B44-9E4E-5DF6477F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1C8B-DD29-4A14-8C80-430873CD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A1186-6B98-47C0-908C-4B0B94CE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054DB-CD7D-4E6E-8E31-4A9A7E6D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59332-ADA4-4214-A149-3E3CBCAB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E99CF-F2D9-4037-B505-C9BB031E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5E5A-D59D-45D8-8BA8-176999AC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8372-986E-4006-8B7E-741A01B7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F94-55A2-47F1-8071-B4E73254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59A-806A-47B7-82C9-A425B359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B57-2F56-4ADF-B7DF-D31785B6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82B-2726-4F0B-BC10-298EDFA4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398-94DB-4879-A3E7-1485EE98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986-5A1D-4702-898B-C95E203E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1D2F-33ED-4380-BDBC-EFBD22DF6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1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52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4CAE-5C04-4003-B000-0B3FA9DAD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4E8E-8881-4CBB-A8BC-D5770917A2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pic_254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672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想别人没想到的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模板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画师要考徒弟什么？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他给每个徒弟一张同样大小的纸，让他们画骆驼，看谁画的骆驼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最多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画师考的结果怎样？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画师看了看他俩的画，没有露出满意的神情。当他拿起小徒弟的画时，禁不住点头称赞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7"/>
          <p:cNvSpPr/>
          <p:nvPr/>
        </p:nvSpPr>
        <p:spPr>
          <a:xfrm>
            <a:off x="942840" y="1628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pic_254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下面四幅画，哪一幅最符合</a:t>
            </a:r>
            <a:r>
              <a:rPr b="1" lang="zh-CN" sz="4400" spc="-1" strike="noStrike">
                <a:solidFill>
                  <a:srgbClr val="ffffb7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深山藏古寺</a:t>
            </a:r>
            <a:r>
              <a:rPr b="1" lang="zh-CN" sz="4400" spc="-1" strike="noStrike">
                <a:solidFill>
                  <a:srgbClr val="ffffb7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的画面？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座深山前画着一座寺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座深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座深山后露出寺庙的一个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座深山，一道弯弯曲曲的石阶上，一个和尚挑着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我也来画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比一比谁画的骆驼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大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09:53:04Z</dcterms:created>
  <dc:creator/>
  <dc:description/>
  <cp:keywords>幻灯片之家 http:/www.eeppt.com</cp:keywords>
  <dc:language>en-US</dc:language>
  <cp:lastModifiedBy/>
  <dcterms:modified xsi:type="dcterms:W3CDTF">2015-07-20T04:13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