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4C71D-C3A1-45FC-9E26-9CF4E4109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6C7B9-8CF6-497D-9051-34CBAD7F1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7D16E-5947-4C18-8634-EE5EB2149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B5903-13B1-4CEF-AED7-20E8E3281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8705F-23BF-4C6D-8997-C5170CA67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5BDBD-7CFD-472E-AF9B-9F704B1AE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A5437-B30F-4EA2-998C-7A77F4494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A7070-55BD-4535-B951-64C500330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0BEA8-F9D0-43E5-8D99-6726B1242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98677-1C89-48F1-A737-7106AC985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56DB2-5CFB-431D-A78D-B089F176B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FB149-5BB1-4399-A17F-53CE540F1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EFF53-1427-4DD3-9368-8166FCD88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10843-952D-4DA7-BE56-1E1C4E22D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B1351-10FF-46BF-A196-113A8D505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000CA-9C4C-4378-ACC6-CBBC17112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054F9-C9E5-4FAE-AF33-05C07D0E4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91878-A39C-44E8-BD91-E7ABA25A9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52E37-ADE8-4D51-8CDD-2B6A5C1D9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A813E-0215-45DD-8992-6B757268C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50EF0-F843-4A83-98C9-2A8504980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976E4-4FFA-4323-957B-8F2F7CFA9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E1F79-B2A2-4D22-BC30-722D08B99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C277B-A53B-471D-8CDB-56EDCBBBF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004A-4508-4FE5-9698-53A4E1819BED}"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04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8891-20F9-4FBD-830B-DA16CF2C30F8}"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2054880"/>
            <a:ext cx="77724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Verdana"/>
              </a:rPr>
              <a:t>消费者行为学原理</a:t>
            </a:r>
            <a:br>
              <a:rPr sz="4400"/>
            </a:br>
            <a:r>
              <a:rPr b="0" lang="zh-CN" sz="4400" spc="-1" strike="noStrike">
                <a:solidFill>
                  <a:srgbClr val="003366"/>
                </a:solidFill>
                <a:latin typeface="Verdana"/>
              </a:rPr>
              <a:t>与应用教学课件</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
          <p:cNvSpPr/>
          <p:nvPr/>
        </p:nvSpPr>
        <p:spPr>
          <a:xfrm>
            <a:off x="1473840" y="228600"/>
            <a:ext cx="5618160" cy="5184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五部分    消费者行为与市场营销</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十章        产品类别选择与市场营销</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品类别的选择与消费结构的形成，主要影响因素，消</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费结构现状与变化趋势，企业营销战略）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第十一章     产品品牌与品种选择与市场营销</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宋体"/>
              </a:rPr>
              <a:t>   </a:t>
            </a:r>
            <a:r>
              <a:rPr b="0" lang="zh-CN" sz="2400" spc="-1" strike="noStrike">
                <a:solidFill>
                  <a:srgbClr val="000000"/>
                </a:solidFill>
                <a:latin typeface="宋体"/>
              </a:rPr>
              <a:t>（品牌</a:t>
            </a:r>
            <a:r>
              <a:rPr b="0" lang="zh-CN" sz="2400" spc="-1" strike="noStrike">
                <a:solidFill>
                  <a:srgbClr val="000000"/>
                </a:solidFill>
                <a:latin typeface="宋体"/>
              </a:rPr>
              <a:t>/</a:t>
            </a:r>
            <a:r>
              <a:rPr b="0" lang="zh-CN" sz="2400" spc="-1" strike="noStrike">
                <a:solidFill>
                  <a:srgbClr val="000000"/>
                </a:solidFill>
                <a:latin typeface="宋体"/>
              </a:rPr>
              <a:t>品种选择方式，主要影响因素，企业营销战略）</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第十二章　产品心理与市场营销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第十三章  价格心理与市场营销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第十四章　地点选择与市场营销</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第十五章  广告心理与市场营销</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第十六章  促销心理与市场营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
          <p:cNvSpPr/>
          <p:nvPr/>
        </p:nvSpPr>
        <p:spPr>
          <a:xfrm>
            <a:off x="1885320" y="0"/>
            <a:ext cx="5484240" cy="6021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二）主要理论与方法要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1</a:t>
            </a:r>
            <a:r>
              <a:rPr b="0" lang="zh-CN" sz="2400" spc="-1" strike="noStrike">
                <a:solidFill>
                  <a:srgbClr val="000000"/>
                </a:solidFill>
                <a:latin typeface="Verdana"/>
              </a:rPr>
              <a:t>、消费者行为的主要内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a:t>
            </a:r>
            <a:r>
              <a:rPr b="0" lang="zh-CN" sz="2400" spc="-1" strike="noStrike">
                <a:solidFill>
                  <a:srgbClr val="000000"/>
                </a:solidFill>
                <a:latin typeface="Verdana"/>
              </a:rPr>
              <a:t>、影响消费者行为的各种因素（需要，心理活动过程，文化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环境因素，个人与家庭因素，企业营销因素等）：有哪些因素，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样发生影响，影响多大，这些因素怎样。</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3</a:t>
            </a:r>
            <a:r>
              <a:rPr b="0" lang="zh-CN" sz="2400" spc="-1" strike="noStrike">
                <a:solidFill>
                  <a:srgbClr val="000000"/>
                </a:solidFill>
                <a:latin typeface="Verdana"/>
              </a:rPr>
              <a:t>、购买决策过程，购买过程中的行为模式或类型，购买过程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心理活动结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a:t>
            </a:r>
            <a:r>
              <a:rPr b="0" lang="zh-CN" sz="2400" spc="-1" strike="noStrike">
                <a:solidFill>
                  <a:srgbClr val="000000"/>
                </a:solidFill>
                <a:latin typeface="Verdana"/>
              </a:rPr>
              <a:t>、消费者的学习，认知协调理论，习惯养成理论等。</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5</a:t>
            </a:r>
            <a:r>
              <a:rPr b="0" lang="zh-CN" sz="2400" spc="-1" strike="noStrike">
                <a:solidFill>
                  <a:srgbClr val="000000"/>
                </a:solidFill>
                <a:latin typeface="Verdana"/>
              </a:rPr>
              <a:t>、不同层次、类别的消费者行为问题的研究：购买选择的特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影响因素，行为表现与趋势。</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6</a:t>
            </a:r>
            <a:r>
              <a:rPr b="0" lang="zh-CN" sz="2400" spc="-1" strike="noStrike">
                <a:solidFill>
                  <a:srgbClr val="000000"/>
                </a:solidFill>
                <a:latin typeface="Verdana"/>
              </a:rPr>
              <a:t>、研究消费者心理与行为的各种方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
          <p:cNvSpPr/>
          <p:nvPr/>
        </p:nvSpPr>
        <p:spPr>
          <a:xfrm>
            <a:off x="380880" y="1523880"/>
            <a:ext cx="83822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应用性要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能够解释各种消费现象和企业营销活动的成败得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一定程度上能了解、预测各种消费品市场的趋势、居民消费倾向、结构、购买特点等的变化趋势，至少是近期特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能够进行难度适中的营销策划。</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能够了解、评价政府引导消费的政策，并能提出一些建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685800" y="43920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22680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五、参考书目</a:t>
            </a:r>
            <a:endParaRPr b="0" lang="en-US" sz="3200" spc="-1" strike="noStrike">
              <a:solidFill>
                <a:srgbClr val="003366"/>
              </a:solidFill>
              <a:latin typeface="Verdana"/>
            </a:endParaRPr>
          </a:p>
        </p:txBody>
      </p:sp>
      <p:sp>
        <p:nvSpPr>
          <p:cNvPr id="232" name=""/>
          <p:cNvSpPr/>
          <p:nvPr/>
        </p:nvSpPr>
        <p:spPr>
          <a:xfrm>
            <a:off x="380880" y="914400"/>
            <a:ext cx="830592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消费者行为学》  史有春    南大出版社</a:t>
            </a:r>
            <a:r>
              <a:rPr b="0" lang="zh-CN" sz="2400" spc="-1" strike="noStrike">
                <a:solidFill>
                  <a:srgbClr val="000000"/>
                </a:solidFill>
                <a:latin typeface="Times New Roman"/>
              </a:rPr>
              <a:t>/</a:t>
            </a:r>
            <a:r>
              <a:rPr b="0" lang="zh-CN" sz="2400" spc="-1" strike="noStrike">
                <a:solidFill>
                  <a:srgbClr val="000000"/>
                </a:solidFill>
                <a:latin typeface="Times New Roman"/>
              </a:rPr>
              <a:t>财经出版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现代心理学》  张春兴著  上海人民出版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社会心理学》 沙莲香著   中国人民大学出版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消费心理学》 任宝崇著  华夏出版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消费者行为学》 </a:t>
            </a:r>
            <a:r>
              <a:rPr b="0" lang="zh-CN" sz="2400" spc="-1" strike="noStrike">
                <a:solidFill>
                  <a:srgbClr val="000000"/>
                </a:solidFill>
                <a:latin typeface="Times New Roman"/>
              </a:rPr>
              <a:t>Prof.Woods.W.A   </a:t>
            </a:r>
            <a:r>
              <a:rPr b="0" lang="zh-CN" sz="2400" spc="-1" strike="noStrike">
                <a:solidFill>
                  <a:srgbClr val="000000"/>
                </a:solidFill>
                <a:latin typeface="Times New Roman"/>
              </a:rPr>
              <a:t>杭州商学院翻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消费者心理学》 司金銮著  中国商业出版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品牌营销》  屈云波、牛海鹏主编  企业管理出版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消费经济》杂志   </a:t>
            </a:r>
            <a:r>
              <a:rPr b="0" lang="zh-CN" sz="2400" spc="-1" strike="noStrike">
                <a:solidFill>
                  <a:srgbClr val="000000"/>
                </a:solidFill>
                <a:latin typeface="Times New Roman"/>
              </a:rPr>
              <a:t>/</a:t>
            </a:r>
            <a:r>
              <a:rPr b="0" lang="zh-CN" sz="2400" spc="-1" strike="noStrike">
                <a:solidFill>
                  <a:srgbClr val="000000"/>
                </a:solidFill>
                <a:latin typeface="Times New Roman"/>
              </a:rPr>
              <a:t>中国消费者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消费者行为与营销战略》保罗</a:t>
            </a:r>
            <a:r>
              <a:rPr b="0" lang="zh-CN" sz="2400" spc="-1" strike="noStrike">
                <a:solidFill>
                  <a:srgbClr val="000000"/>
                </a:solidFill>
                <a:latin typeface="Times New Roman"/>
              </a:rPr>
              <a:t>·</a:t>
            </a:r>
            <a:r>
              <a:rPr b="0" lang="zh-CN" sz="2400" spc="-1" strike="noStrike">
                <a:solidFill>
                  <a:srgbClr val="000000"/>
                </a:solidFill>
                <a:latin typeface="Times New Roman"/>
              </a:rPr>
              <a:t>彼德  东北财大出版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社会学》戴维</a:t>
            </a:r>
            <a:r>
              <a:rPr b="0" lang="zh-CN" sz="2400" spc="-1" strike="noStrike">
                <a:solidFill>
                  <a:srgbClr val="000000"/>
                </a:solidFill>
                <a:latin typeface="Times New Roman"/>
              </a:rPr>
              <a:t>·</a:t>
            </a:r>
            <a:r>
              <a:rPr b="0" lang="zh-CN" sz="2400" spc="-1" strike="noStrike">
                <a:solidFill>
                  <a:srgbClr val="000000"/>
                </a:solidFill>
                <a:latin typeface="Times New Roman"/>
              </a:rPr>
              <a:t>波普诺著中国人民大学出版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104220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六、考核方法</a:t>
            </a:r>
            <a:endParaRPr b="0" lang="en-US" sz="3200" spc="-1" strike="noStrike">
              <a:solidFill>
                <a:srgbClr val="003366"/>
              </a:solidFill>
              <a:latin typeface="Verdana"/>
            </a:endParaRPr>
          </a:p>
        </p:txBody>
      </p:sp>
      <p:sp>
        <p:nvSpPr>
          <p:cNvPr id="234" name=""/>
          <p:cNvSpPr/>
          <p:nvPr/>
        </p:nvSpPr>
        <p:spPr>
          <a:xfrm>
            <a:off x="228600" y="182880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出勤：</a:t>
            </a:r>
            <a:r>
              <a:rPr b="0" lang="zh-CN" sz="2400" spc="-1" strike="noStrike">
                <a:solidFill>
                  <a:srgbClr val="000000"/>
                </a:solidFill>
                <a:latin typeface="Times New Roman"/>
              </a:rPr>
              <a:t>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时作业与课堂讨论：</a:t>
            </a:r>
            <a:r>
              <a:rPr b="0" lang="zh-CN" sz="2400" spc="-1" strike="noStrike">
                <a:solidFill>
                  <a:srgbClr val="000000"/>
                </a:solidFill>
                <a:latin typeface="Times New Roman"/>
              </a:rPr>
              <a:t>3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终考试：</a:t>
            </a:r>
            <a:r>
              <a:rPr b="0" lang="zh-CN" sz="2400" spc="-1" strike="noStrike">
                <a:solidFill>
                  <a:srgbClr val="000000"/>
                </a:solidFill>
                <a:latin typeface="Times New Roman"/>
              </a:rPr>
              <a:t>50%</a:t>
            </a:r>
            <a:r>
              <a:rPr b="0" lang="zh-CN" sz="2400" spc="-1" strike="noStrike">
                <a:solidFill>
                  <a:srgbClr val="000000"/>
                </a:solidFill>
                <a:latin typeface="Times New Roman"/>
              </a:rPr>
              <a:t>（论文或期末笔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104220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第一部分      导         论</a:t>
            </a:r>
            <a:endParaRPr b="0" lang="en-US" sz="32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312840"/>
            <a:ext cx="8163000" cy="131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第一章    消费者行为研究的主要内容和方法</a:t>
            </a:r>
            <a:endParaRPr b="0" lang="en-US" sz="4000" spc="-1" strike="noStrike">
              <a:solidFill>
                <a:srgbClr val="003366"/>
              </a:solidFill>
              <a:latin typeface="Verdana"/>
            </a:endParaRPr>
          </a:p>
        </p:txBody>
      </p:sp>
      <p:sp>
        <p:nvSpPr>
          <p:cNvPr id="237" name=""/>
          <p:cNvSpPr/>
          <p:nvPr/>
        </p:nvSpPr>
        <p:spPr>
          <a:xfrm>
            <a:off x="0" y="1752480"/>
            <a:ext cx="9144000" cy="2844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本章主要讨论消费者行为研究的三个基本问题，即研究什么、为什么要研究以及如何研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者行为研究的主要内容是消费者将买何种产品、选择何种品牌及在何处购买三个问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研究消费者行为的目的主要是为各类企业制定正确的营销策略服务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研究消费者行为的方法主要是进行消费者调查和案例研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104220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第一节    消费者行为研究的内容</a:t>
            </a:r>
            <a:endParaRPr b="0" lang="en-US" sz="32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
          <p:cNvSpPr/>
          <p:nvPr/>
        </p:nvSpPr>
        <p:spPr>
          <a:xfrm>
            <a:off x="1757880" y="0"/>
            <a:ext cx="5850000" cy="769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现代市场营销观念的指导下，企业普遍开始重视对消费者心</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理与行为的研究，但并不是所有研究群体都十分清楚要研究哪些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费者行为问题。</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基础研究群体关心更为基础性的问题，有着更广泛的研究范围，</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而且这种范围还在不断拓展并不断深入，我们至今无法明确界定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费者行为研究的内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行为导向研究群体关心与其利益或与其政策策略应该如何制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相关的消费者行为问题，内容应该简单一些。但由于多种原因使许</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多行为导向群体如企业，不完全清楚应该研究什么内容。不知如何</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开展市场调查最集中地体现了这种状况。</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
          <p:cNvSpPr/>
          <p:nvPr/>
        </p:nvSpPr>
        <p:spPr>
          <a:xfrm>
            <a:off x="1830600" y="228600"/>
            <a:ext cx="5667120" cy="769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基本思路是，要明确消费者行为研究的主要内容，首先要明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关基本概念如消费，消费者，消费品，消费行为等。</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其次，可以根据逻辑分析方法列出消费行为的种种外在内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并根据行为导向群体可能会关心的问题，提出应该重点研究的内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第三，一方面可以根据心理学原理，为了解释、预测消费者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外在行为，确定应该研究哪些主观心理活动问题；另一方面，可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基础研究群体和行为导向群体所关心的问题，如与企业营销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活动相关的问题，来确定所要研究的内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心理学、人类学，社会学，经济学，营销学，家政学等学科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关心的问题和已获得的成果能为消费者行为的研究内容提供理论依</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据；国家，企业，消费者，其他各种社会团体不断面临的问题，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消费者行为的研究内容提供了现实要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8200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        </a:t>
            </a:r>
            <a:r>
              <a:rPr b="0" lang="zh-CN" sz="4000" spc="-1" strike="noStrike">
                <a:solidFill>
                  <a:srgbClr val="000000"/>
                </a:solidFill>
                <a:latin typeface="Verdana"/>
              </a:rPr>
              <a:t>教学要求与考核方法   </a:t>
            </a:r>
            <a:endParaRPr b="0" lang="en-US" sz="4000" spc="-1" strike="noStrike">
              <a:solidFill>
                <a:srgbClr val="003366"/>
              </a:solidFill>
              <a:latin typeface="Verdana"/>
            </a:endParaRPr>
          </a:p>
        </p:txBody>
      </p:sp>
      <p:sp>
        <p:nvSpPr>
          <p:cNvPr id="211" name=""/>
          <p:cNvSpPr/>
          <p:nvPr/>
        </p:nvSpPr>
        <p:spPr>
          <a:xfrm>
            <a:off x="0" y="1295280"/>
            <a:ext cx="9144000" cy="1015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28600" y="1447920"/>
            <a:ext cx="8915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两类研究群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消费者行为研究在市场营销专业课程体系中的地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消费者行为研究重要的原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教学要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参考书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考核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3792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rPr>
              <a:t>一、基本概念</a:t>
            </a:r>
            <a:endParaRPr b="0" lang="en-US" sz="3200" spc="-1" strike="noStrike">
              <a:solidFill>
                <a:srgbClr val="003366"/>
              </a:solidFill>
              <a:latin typeface="Verdana"/>
            </a:endParaRPr>
          </a:p>
        </p:txBody>
      </p:sp>
      <p:sp>
        <p:nvSpPr>
          <p:cNvPr id="243" name=""/>
          <p:cNvSpPr/>
          <p:nvPr/>
        </p:nvSpPr>
        <p:spPr>
          <a:xfrm>
            <a:off x="0" y="914400"/>
            <a:ext cx="9144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消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广义消费概念，是指人类为了某种目的消耗各种资源的过程。资源包括：（</a:t>
            </a:r>
            <a:r>
              <a:rPr b="0" lang="zh-CN" sz="2400" spc="-1" strike="noStrike">
                <a:solidFill>
                  <a:srgbClr val="000000"/>
                </a:solidFill>
                <a:latin typeface="Times New Roman"/>
              </a:rPr>
              <a:t>1</a:t>
            </a:r>
            <a:r>
              <a:rPr b="0" lang="zh-CN" sz="2400" spc="-1" strike="noStrike">
                <a:solidFill>
                  <a:srgbClr val="000000"/>
                </a:solidFill>
                <a:latin typeface="Times New Roman"/>
              </a:rPr>
              <a:t>）人类生存环境中的任何物质和能量；（</a:t>
            </a:r>
            <a:r>
              <a:rPr b="0" lang="zh-CN" sz="2400" spc="-1" strike="noStrike">
                <a:solidFill>
                  <a:srgbClr val="000000"/>
                </a:solidFill>
                <a:latin typeface="Times New Roman"/>
              </a:rPr>
              <a:t>2</a:t>
            </a:r>
            <a:r>
              <a:rPr b="0" lang="zh-CN" sz="2400" spc="-1" strike="noStrike">
                <a:solidFill>
                  <a:srgbClr val="000000"/>
                </a:solidFill>
                <a:latin typeface="Times New Roman"/>
              </a:rPr>
              <a:t>）经过人类劳动作用过各种物质产品、劳务、信息等等。</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通常分为两类：生产性消费和非生产性消费。非生产性消费又可分为生活消费和其他非生产领域中的消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意义上的消费是指生活消费，它是直接为满足人们生活需要消耗有关资源的过程。我们所要研究的也就是生活消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
          <p:cNvSpPr/>
          <p:nvPr/>
        </p:nvSpPr>
        <p:spPr>
          <a:xfrm>
            <a:off x="304920" y="1219320"/>
            <a:ext cx="83055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消费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生活消费的目的当然是为了满足人们生活需要，最终的 使用者、享用者是自然人。但从决策者是谁的角度看，有三个层次的消费主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们主要研究家庭和个人消费者。他们的主要特点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他们是自然人，而不是单位、法人；（</a:t>
            </a:r>
            <a:r>
              <a:rPr b="0" lang="zh-CN" sz="2400" spc="-1" strike="noStrike">
                <a:solidFill>
                  <a:srgbClr val="000000"/>
                </a:solidFill>
                <a:latin typeface="Times New Roman"/>
              </a:rPr>
              <a:t>2</a:t>
            </a:r>
            <a:r>
              <a:rPr b="0" lang="zh-CN" sz="2400" spc="-1" strike="noStrike">
                <a:solidFill>
                  <a:srgbClr val="000000"/>
                </a:solidFill>
                <a:latin typeface="Times New Roman"/>
              </a:rPr>
              <a:t>）他们是利用各种来源的个人收入进行独立、自主的消费。（</a:t>
            </a:r>
            <a:r>
              <a:rPr b="0" lang="zh-CN" sz="2400" spc="-1" strike="noStrike">
                <a:solidFill>
                  <a:srgbClr val="000000"/>
                </a:solidFill>
                <a:latin typeface="Times New Roman"/>
              </a:rPr>
              <a:t>3</a:t>
            </a:r>
            <a:r>
              <a:rPr b="0" lang="zh-CN" sz="2400" spc="-1" strike="noStrike">
                <a:solidFill>
                  <a:srgbClr val="000000"/>
                </a:solidFill>
                <a:latin typeface="Times New Roman"/>
              </a:rPr>
              <a:t>）他们是为了满足各种直接的生活需要而进行消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不限于生活消费，那么消费者可以包括各种产业组织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85800" y="66780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
          <p:cNvSpPr/>
          <p:nvPr/>
        </p:nvSpPr>
        <p:spPr>
          <a:xfrm>
            <a:off x="304920" y="129528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消费品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者是消费主体，消费品是消费客体。广义地说，所有能满足消费者生活需要的资料都是消费资料。我们研究消费品时应注意如下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主要用于生活需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应具有市场意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消费品对个人来说的两重意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居民支出不同于消费支出</a:t>
            </a:r>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762120" y="43920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
          <p:cNvSpPr/>
          <p:nvPr/>
        </p:nvSpPr>
        <p:spPr>
          <a:xfrm>
            <a:off x="533520" y="1219320"/>
            <a:ext cx="8001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消费行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简单定义是：指人们为满足需要和欲望而寻找、选择、购买使用、评价及处置产品（和服务）时介入的过程和活动。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但应包括消费者的主观心理活动和客观物质活动两个方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样， 从消费行为的全过程来说，包括消费需要、消费动机的产生，消费收入的取得，确定消费观念和制定消费计划（包括确定消费预算和大致的消费结构），具体商品购买时的心理活动或决策活动，购买活动本身，最后到对消费资料的实际消费、评价、处置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71200" y="104220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rPr>
              <a:t>二、</a:t>
            </a:r>
            <a:r>
              <a:rPr b="0" lang="zh-CN" sz="3200" spc="-1" strike="noStrike">
                <a:solidFill>
                  <a:srgbClr val="000000"/>
                </a:solidFill>
                <a:latin typeface="Verdana"/>
              </a:rPr>
              <a:t>消费者行为研究的主要内容</a:t>
            </a:r>
            <a:endParaRPr b="0" lang="en-US" sz="3200" spc="-1" strike="noStrike">
              <a:solidFill>
                <a:srgbClr val="003366"/>
              </a:solidFill>
              <a:latin typeface="Verdana"/>
            </a:endParaRPr>
          </a:p>
        </p:txBody>
      </p:sp>
      <p:sp>
        <p:nvSpPr>
          <p:cNvPr id="250" name=""/>
          <p:cNvSpPr/>
          <p:nvPr/>
        </p:nvSpPr>
        <p:spPr>
          <a:xfrm>
            <a:off x="0" y="1905120"/>
            <a:ext cx="8915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消费者的主要行为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者的（外在）行为是比较易于观察的。从实用的观点看，不管人们的动机多种多样，某种行为才是行为导向研究群体所关心、追求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行为直接取决于选择、决策。研究消费者有哪些行为，也就是研究有哪些选择、决策。</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研究者可以观察到各种复杂的行为。用逻辑分析方法，可以列出一系列选择、决策或行为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76428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Verdana"/>
            </a:endParaRPr>
          </a:p>
        </p:txBody>
      </p:sp>
      <p:sp>
        <p:nvSpPr>
          <p:cNvPr id="252" name=""/>
          <p:cNvSpPr/>
          <p:nvPr/>
        </p:nvSpPr>
        <p:spPr>
          <a:xfrm>
            <a:off x="228600" y="228600"/>
            <a:ext cx="8610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劳动—收入决策和行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劳动、休息、学习、消费、娱乐等的时间分配和类别是可观察的。正确决策的目的是为了获得两种效用（劳动效用—货币效用，非劳动效用）的最大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收入分配决策和行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倾向、消费支出和储蓄倾向、储蓄额是可观察的。具体有现实的或平均的消费倾向、支出水平；波动性特征；计划性特征；消费预算约束特征；消费资金在家庭内的分配特征等。正确决策的目的是为了获得两种效用（消费效用，储蓄效用）的最大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
          <p:cNvSpPr/>
          <p:nvPr/>
        </p:nvSpPr>
        <p:spPr>
          <a:xfrm>
            <a:off x="1597320" y="0"/>
            <a:ext cx="5904720" cy="6021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产品类别选择和支出分配决策（买什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者选择什么类别的产品，把有限的资金作怎样的大致分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可观察的。这里把产品类别界定为：能有效满足同一核心需要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有类似载体特征的一类产品。如食品、服装，也可进一步细分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食品中的主食、蔬菜、鱼肉、饮料、水果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一地考虑每一次产品类别的选择，消费者总是为了获得当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地所认知到的能带来最大让渡价值的那种产品类别。考虑到消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者的选择是一个持续不断的过程，因而也可理解为不断追求消费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均衡、消费结构优化、消费效用最大化的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产品类别选择所形成的消费结构，具体表现为形式结构，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满足的需求结构等。</a:t>
            </a: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5" name=""/>
          <p:cNvSpPr/>
          <p:nvPr/>
        </p:nvSpPr>
        <p:spPr>
          <a:xfrm>
            <a:off x="1530000" y="0"/>
            <a:ext cx="6057000" cy="82465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产品品牌和品种</a:t>
            </a:r>
            <a:r>
              <a:rPr b="0" lang="zh-CN" sz="2400" spc="-1" strike="noStrike">
                <a:solidFill>
                  <a:srgbClr val="000000"/>
                </a:solidFill>
                <a:latin typeface="Times New Roman"/>
              </a:rPr>
              <a:t>/</a:t>
            </a:r>
            <a:r>
              <a:rPr b="0" lang="zh-CN" sz="2400" spc="-1" strike="noStrike">
                <a:solidFill>
                  <a:srgbClr val="000000"/>
                </a:solidFill>
                <a:latin typeface="Times New Roman"/>
              </a:rPr>
              <a:t>项目选择（买什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所要选择的产品类别确定后，在逻辑上消费者将会先选择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牌还是先选择品种、项目，主要取决于品种、项目的实际内涵，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及人们是更在乎产品来源（品牌）还是产品的其他实际差别。但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论先后，品牌和品种的选择，主要不是选择产品的核心利益，而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产品形式效用和扩增效用等其他顾客让渡价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档次特征和品牌信誉、质量、款式、服务、价格等不同利益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眼点是这种选择的主要行为特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产品</a:t>
            </a:r>
            <a:r>
              <a:rPr b="0" lang="zh-CN" sz="2400" spc="-1" strike="noStrike">
                <a:solidFill>
                  <a:srgbClr val="000000"/>
                </a:solidFill>
                <a:latin typeface="Times New Roman"/>
              </a:rPr>
              <a:t>/</a:t>
            </a:r>
            <a:r>
              <a:rPr b="0" lang="zh-CN" sz="2400" spc="-1" strike="noStrike">
                <a:solidFill>
                  <a:srgbClr val="000000"/>
                </a:solidFill>
                <a:latin typeface="Times New Roman"/>
              </a:rPr>
              <a:t>品牌选择中还有许多行为特征，如对新产品的敏感性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受速度；习惯性或多样性特征；个性化或从众特征；更新换代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征；消费方式两重性特征；所购产品细分化程度，关联性、组合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特征，对品牌的忠诚度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7" name=""/>
          <p:cNvSpPr/>
          <p:nvPr/>
        </p:nvSpPr>
        <p:spPr>
          <a:xfrm>
            <a:off x="1769400" y="0"/>
            <a:ext cx="548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产品购买数量的选择（买多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与产品购买数量相关的行为特征包括一次性购买量、一次性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费量；购买频率；一定时期中的总购买量、总消费量；产品储存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间；波动性特征等。虽然消费者会购买同样的产品，但购买的数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能会有重大差别。购买、使用数量的确定反映了人们要追求消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者均衡、最大消费效用的愿望，以及降低购买过程中的各种成本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愿望。</a:t>
            </a:r>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9" name=""/>
          <p:cNvSpPr/>
          <p:nvPr/>
        </p:nvSpPr>
        <p:spPr>
          <a:xfrm>
            <a:off x="1769400" y="228600"/>
            <a:ext cx="548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购买时间的选择（何时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购买时间的选择包括一般产品的购买时间特征；特定产品购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时间特征；实际消费的时间特征；不同产品购买、使用的时间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构等。购买时间的选择反映了消费者这样一些追求：在最需要时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买与使用能获得最大满足感；可能购买到最合适的产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一、</a:t>
            </a:r>
            <a:r>
              <a:rPr b="0" lang="zh-CN" sz="4400" spc="-1" strike="noStrike">
                <a:solidFill>
                  <a:srgbClr val="003366"/>
                </a:solidFill>
                <a:latin typeface="Verdana"/>
              </a:rPr>
              <a:t>两类研究群体</a:t>
            </a:r>
            <a:endParaRPr b="0" lang="en-US" sz="4400" spc="-1" strike="noStrike">
              <a:solidFill>
                <a:srgbClr val="003366"/>
              </a:solidFill>
              <a:latin typeface="Verdana"/>
            </a:endParaRPr>
          </a:p>
        </p:txBody>
      </p:sp>
      <p:sp>
        <p:nvSpPr>
          <p:cNvPr id="214" name=""/>
          <p:cNvSpPr/>
          <p:nvPr/>
        </p:nvSpPr>
        <p:spPr>
          <a:xfrm>
            <a:off x="1697040" y="1676520"/>
            <a:ext cx="5667120" cy="469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一）消费社会的兴起</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消费是人类最基本的活动之一，而且具有终极意义。</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随着生产力的发展，人类社会逐渐进入消费社会。与农业社</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会贫泛的物质资料相反，现代社会特别是现代城市中的居民，被丰</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盛的系列化的或杂乱无章的商品和服务所包围、所诱惑。</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人们的消费活动中，既会追求能带来感官刺激和物质享受的</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产品，也会追求只具有象征意义或符号化的产品。拜金主义、物质</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义、消费主义逐渐成为具有主流地位的思想意识；获取收入，积</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极消费，从消费中获取快乐成了现代社会的重要行为特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
          <p:cNvSpPr/>
          <p:nvPr/>
        </p:nvSpPr>
        <p:spPr>
          <a:xfrm>
            <a:off x="1513800" y="0"/>
            <a:ext cx="5995800" cy="713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7</a:t>
            </a:r>
            <a:r>
              <a:rPr b="0" lang="zh-CN" sz="2400" spc="-1" strike="noStrike">
                <a:solidFill>
                  <a:srgbClr val="000000"/>
                </a:solidFill>
                <a:latin typeface="Verdana"/>
              </a:rPr>
              <a:t>、购买地点的选择（</a:t>
            </a:r>
            <a:r>
              <a:rPr b="0" lang="zh-CN" sz="2400" spc="-1" strike="noStrike">
                <a:solidFill>
                  <a:srgbClr val="000000"/>
                </a:solidFill>
                <a:latin typeface="Times New Roman"/>
              </a:rPr>
              <a:t>何处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地点是指能够直接与消费者进行交易、完成资金、产品、所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权转移的企业。这些企业既可能同时是生产企业，也可能是商业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业。一般指后者。地点的内涵包括业态种类、经销商品牌、规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理位置等。</a:t>
            </a:r>
            <a:r>
              <a:rPr b="0" lang="zh-CN" sz="2400" spc="-1" strike="noStrike">
                <a:solidFill>
                  <a:srgbClr val="000000"/>
                </a:solidFill>
                <a:latin typeface="Verdana"/>
              </a:rPr>
              <a:t>地点选择与产品品牌的选择没有固定顺序，这主要取</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决于消费者购物的计划性。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选择性、信誉、方便、便宜、环境舒适等利益追求是这种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择主要动因。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地点选择的行为特征包括：经常选择的业态种类特征，品牌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征，区域范围特征，消费支出的地点结构，产品</a:t>
            </a:r>
            <a:r>
              <a:rPr b="0" lang="zh-CN" sz="2400" spc="-1" strike="noStrike">
                <a:solidFill>
                  <a:srgbClr val="000000"/>
                </a:solidFill>
                <a:latin typeface="Times New Roman"/>
              </a:rPr>
              <a:t>/</a:t>
            </a:r>
            <a:r>
              <a:rPr b="0" lang="zh-CN" sz="2400" spc="-1" strike="noStrike">
                <a:solidFill>
                  <a:srgbClr val="000000"/>
                </a:solidFill>
                <a:latin typeface="Times New Roman"/>
              </a:rPr>
              <a:t>品牌</a:t>
            </a:r>
            <a:r>
              <a:rPr b="0" lang="zh-CN" sz="2400" spc="-1" strike="noStrike">
                <a:solidFill>
                  <a:srgbClr val="000000"/>
                </a:solidFill>
                <a:latin typeface="Times New Roman"/>
              </a:rPr>
              <a:t>/</a:t>
            </a:r>
            <a:r>
              <a:rPr b="0" lang="zh-CN" sz="2400" spc="-1" strike="noStrike">
                <a:solidFill>
                  <a:srgbClr val="000000"/>
                </a:solidFill>
                <a:latin typeface="Times New Roman"/>
              </a:rPr>
              <a:t>数量</a:t>
            </a:r>
            <a:r>
              <a:rPr b="0" lang="zh-CN" sz="2400" spc="-1" strike="noStrike">
                <a:solidFill>
                  <a:srgbClr val="000000"/>
                </a:solidFill>
                <a:latin typeface="Times New Roman"/>
              </a:rPr>
              <a:t>/</a:t>
            </a:r>
            <a:r>
              <a:rPr b="0" lang="zh-CN" sz="2400" spc="-1" strike="noStrike">
                <a:solidFill>
                  <a:srgbClr val="000000"/>
                </a:solidFill>
                <a:latin typeface="Times New Roman"/>
              </a:rPr>
              <a:t>时间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与地点选择的对应性特征，习惯性、寻求多样化和忠诚度特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等。</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
          <p:cNvSpPr/>
          <p:nvPr/>
        </p:nvSpPr>
        <p:spPr>
          <a:xfrm>
            <a:off x="1636920" y="228600"/>
            <a:ext cx="5825520" cy="4909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a:t>
            </a:r>
            <a:r>
              <a:rPr b="0" lang="zh-CN" sz="2400" spc="-1" strike="noStrike">
                <a:solidFill>
                  <a:srgbClr val="000000"/>
                </a:solidFill>
                <a:latin typeface="Times New Roman"/>
              </a:rPr>
              <a:t>、购买方式的选择（怎样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购买方式是指消费者怎样与企业进行沟通、完成交易的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购买方式包括现场购买、邮购、电话订购、网上订购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购买方式的选择与可选择性、便利、安全感 、价格、交货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等利益追求有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购买方式的行为特征包括；购买方式的种类特征，消费支出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式结构，与其他购买问题的对应性特征，购买方式选择时的习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性、寻求多样化的特征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
          <p:cNvSpPr/>
          <p:nvPr/>
        </p:nvSpPr>
        <p:spPr>
          <a:xfrm>
            <a:off x="1661400" y="228600"/>
            <a:ext cx="5929200" cy="4353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a:t>
            </a:r>
            <a:r>
              <a:rPr b="0" lang="zh-CN" sz="2400" spc="-1" strike="noStrike">
                <a:solidFill>
                  <a:srgbClr val="000000"/>
                </a:solidFill>
                <a:latin typeface="Times New Roman"/>
              </a:rPr>
              <a:t>、信息获取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者为了购买必须获取信息，产品信息的获取也可认为是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费行为的一个环节并且可以观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获取信息与消费者的求知、购买的意愿、消费行为的合理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现欲等有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信息获取的行为特征包括：主动性特征，内容特征，媒介特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特征，场合特征，范围特征，深度特征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1659960" y="0"/>
            <a:ext cx="6008400" cy="4909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a:t>
            </a:r>
            <a:r>
              <a:rPr b="0" lang="zh-CN" sz="2400" spc="-1" strike="noStrike">
                <a:solidFill>
                  <a:srgbClr val="000000"/>
                </a:solidFill>
                <a:latin typeface="Times New Roman"/>
              </a:rPr>
              <a:t>、购买过程行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企业营销人员一般还会关心消费者在购买过程中的行为特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此希望进行有针对性的推销活动。消费者在购买过程中的行为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可观察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者在购买过程中的行为与其个性、购买决策的难度等有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购买过程中的行为特征大量与信息获取过程中的行为特征有交</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叉；此外，购买目标的明确性，购买速度，坚定性，讨价还价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坚持性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
          <p:cNvSpPr/>
          <p:nvPr/>
        </p:nvSpPr>
        <p:spPr>
          <a:xfrm>
            <a:off x="1697040" y="0"/>
            <a:ext cx="5667120" cy="490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11</a:t>
            </a:r>
            <a:r>
              <a:rPr b="0" lang="zh-CN" sz="2400" spc="-1" strike="noStrike">
                <a:solidFill>
                  <a:srgbClr val="000000"/>
                </a:solidFill>
                <a:latin typeface="Verdana"/>
              </a:rPr>
              <a:t>、购后行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购后行为包括：实际使用情况，评价（不可观察），处置，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费者使用感受的表达情况等。</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消费者在购买产品后一般都会使用一下。使用情况包括按原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途使用，用于新目的；不同程度的使用率直至长期存放。</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使用之后会进行评价，满意与否，有用与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使用之后的评价及其他原因会影响消费者是否会继续使用或进</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行处置；同时他们会表达使用的感受，并有不同的行为特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
          <p:cNvSpPr/>
          <p:nvPr/>
        </p:nvSpPr>
        <p:spPr>
          <a:xfrm>
            <a:off x="1788480" y="0"/>
            <a:ext cx="5484240" cy="379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二）应重点研究的消费者行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以上各种消费者行为内容是相互联系的。由于在有限的篇幅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可能对所有消费者行为问题都进行细致的研究，因而应该确定哪</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些消费者行为问题要重点讨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从应用性的角度说，国家、企业、消费者等行为导向群体所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别关心的内容，尤其是企业所特别关心的内容，应该成为研究的重</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点。下表列出了各种消费行为对三类行为导向群体的意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80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0" lang="zh-CN" sz="3200" spc="-1" strike="noStrike">
                <a:solidFill>
                  <a:srgbClr val="000000"/>
                </a:solidFill>
                <a:latin typeface="Verdana"/>
              </a:rPr>
              <a:t>消费者决策、行为内容的意义分析 </a:t>
            </a:r>
            <a:endParaRPr b="0" lang="en-US" sz="3200" spc="-1" strike="noStrike">
              <a:solidFill>
                <a:srgbClr val="003366"/>
              </a:solidFill>
              <a:latin typeface="Verdana"/>
            </a:endParaRPr>
          </a:p>
        </p:txBody>
      </p:sp>
      <p:sp>
        <p:nvSpPr>
          <p:cNvPr id="273" name=""/>
          <p:cNvSpPr/>
          <p:nvPr/>
        </p:nvSpPr>
        <p:spPr>
          <a:xfrm>
            <a:off x="0" y="914400"/>
            <a:ext cx="9144000" cy="5713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决策行为内容                对消费者                               对</a:t>
            </a:r>
            <a:r>
              <a:rPr b="0" lang="zh-CN" sz="2000" spc="-1" strike="noStrike">
                <a:solidFill>
                  <a:srgbClr val="000000"/>
                </a:solidFill>
                <a:latin typeface="Times New Roman"/>
                <a:ea typeface="黑体"/>
              </a:rPr>
              <a:t>企业</a:t>
            </a:r>
            <a:r>
              <a:rPr b="0" lang="zh-CN" sz="2000" spc="-1" strike="noStrike">
                <a:solidFill>
                  <a:srgbClr val="000000"/>
                </a:solidFill>
                <a:latin typeface="Times New Roman"/>
              </a:rPr>
              <a:t>或宏观经济</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劳动— 收入决策      收入水平、闲暇                     劳动供给，消费意愿</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时间、劳动付出  </a:t>
            </a:r>
            <a:r>
              <a:rPr b="0" lang="zh-CN" sz="2400" spc="-1" strike="noStrike">
                <a:solidFill>
                  <a:srgbClr val="000000"/>
                </a:solidFill>
                <a:latin typeface="Times New Roman"/>
              </a:rPr>
              <a:t>               </a:t>
            </a:r>
            <a:r>
              <a:rPr b="0" lang="zh-CN" sz="1800" spc="-1" strike="noStrike">
                <a:solidFill>
                  <a:srgbClr val="000000"/>
                </a:solidFill>
                <a:latin typeface="Times New Roman"/>
              </a:rPr>
              <a:t>  产品供给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a:t>
            </a:r>
            <a:r>
              <a:rPr b="0" lang="zh-CN" sz="1800" spc="-1" strike="noStrike">
                <a:solidFill>
                  <a:srgbClr val="000000"/>
                </a:solidFill>
                <a:latin typeface="Times New Roman"/>
              </a:rPr>
              <a:t> 收入</a:t>
            </a:r>
            <a:r>
              <a:rPr b="0" lang="zh-CN" sz="2000" spc="-1" strike="noStrike">
                <a:solidFill>
                  <a:srgbClr val="000000"/>
                </a:solidFill>
                <a:latin typeface="Times New Roman"/>
              </a:rPr>
              <a:t>分配决策</a:t>
            </a:r>
            <a:r>
              <a:rPr b="0" lang="zh-CN" sz="2400" spc="-1" strike="noStrike">
                <a:solidFill>
                  <a:srgbClr val="000000"/>
                </a:solidFill>
                <a:latin typeface="Times New Roman"/>
              </a:rPr>
              <a:t>         </a:t>
            </a:r>
            <a:r>
              <a:rPr b="0" lang="zh-CN" sz="2000" spc="-1" strike="noStrike">
                <a:solidFill>
                  <a:srgbClr val="000000"/>
                </a:solidFill>
                <a:latin typeface="Times New Roman"/>
              </a:rPr>
              <a:t>消费水平、生活                     消费拉动、投资水平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质量、安全、稳定                  总量平衡、市场繁荣</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产品类别选择          一定支出水平下消                  产业结构、产品结构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和支出分配决策        费效用的最大化，                  的合理化和高度化。</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基本或主导的生活                  </a:t>
            </a:r>
            <a:r>
              <a:rPr b="0" lang="zh-CN" sz="2000" spc="-1" strike="noStrike">
                <a:solidFill>
                  <a:srgbClr val="000000"/>
                </a:solidFill>
                <a:latin typeface="Times New Roman"/>
                <a:ea typeface="黑体"/>
              </a:rPr>
              <a:t>进入什么行业、生产</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需要是否能很好满足              </a:t>
            </a:r>
            <a:r>
              <a:rPr b="0" lang="zh-CN" sz="2000" spc="-1" strike="noStrike">
                <a:solidFill>
                  <a:srgbClr val="000000"/>
                </a:solidFill>
                <a:latin typeface="Times New Roman"/>
                <a:ea typeface="黑体"/>
              </a:rPr>
              <a:t>什么产品。</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 产品品牌</a:t>
            </a:r>
            <a:r>
              <a:rPr b="0" lang="zh-CN" sz="2000" spc="-1" strike="noStrike">
                <a:solidFill>
                  <a:srgbClr val="000000"/>
                </a:solidFill>
                <a:latin typeface="Times New Roman"/>
              </a:rPr>
              <a:t>/</a:t>
            </a:r>
            <a:r>
              <a:rPr b="0" lang="zh-CN" sz="2000" spc="-1" strike="noStrike">
                <a:solidFill>
                  <a:srgbClr val="000000"/>
                </a:solidFill>
                <a:latin typeface="Times New Roman"/>
              </a:rPr>
              <a:t>品种        是否能得到更大形式              </a:t>
            </a:r>
            <a:r>
              <a:rPr b="0" lang="zh-CN" sz="2000" spc="-1" strike="noStrike">
                <a:solidFill>
                  <a:srgbClr val="000000"/>
                </a:solidFill>
                <a:latin typeface="Times New Roman"/>
                <a:ea typeface="黑体"/>
              </a:rPr>
              <a:t>产品线决策、品牌战略</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选择                          效用和扩增效用等，产          供求平衡，国际竞争力</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品品牌带来的其它效用。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56160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ndParaRPr>
          </a:p>
        </p:txBody>
      </p:sp>
      <p:sp>
        <p:nvSpPr>
          <p:cNvPr id="275" name=""/>
          <p:cNvSpPr/>
          <p:nvPr/>
        </p:nvSpPr>
        <p:spPr>
          <a:xfrm>
            <a:off x="533520" y="1600200"/>
            <a:ext cx="83055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457200" y="304920"/>
            <a:ext cx="8305920" cy="642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决策行为内容                   对消费者                                 对</a:t>
            </a:r>
            <a:r>
              <a:rPr b="0" lang="zh-CN" sz="2000" spc="-1" strike="noStrike">
                <a:solidFill>
                  <a:srgbClr val="000000"/>
                </a:solidFill>
                <a:latin typeface="Times New Roman"/>
                <a:ea typeface="黑体"/>
              </a:rPr>
              <a:t>企业</a:t>
            </a:r>
            <a:r>
              <a:rPr b="0" lang="zh-CN" sz="2000" spc="-1" strike="noStrike">
                <a:solidFill>
                  <a:srgbClr val="000000"/>
                </a:solidFill>
                <a:latin typeface="Times New Roman"/>
              </a:rPr>
              <a:t>或宏观经济</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买多少                     一次需求的满足程度，             </a:t>
            </a:r>
            <a:r>
              <a:rPr b="0" lang="zh-CN" sz="2000" spc="-1" strike="noStrike">
                <a:solidFill>
                  <a:srgbClr val="000000"/>
                </a:solidFill>
                <a:latin typeface="Times New Roman"/>
                <a:ea typeface="黑体"/>
              </a:rPr>
              <a:t>客户市场选择、生</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消费结构优化，购                     </a:t>
            </a:r>
            <a:r>
              <a:rPr b="0" lang="zh-CN" sz="2000" spc="-1" strike="noStrike">
                <a:solidFill>
                  <a:srgbClr val="000000"/>
                </a:solidFill>
                <a:latin typeface="Times New Roman"/>
                <a:ea typeface="黑体"/>
              </a:rPr>
              <a:t>产批量、批量折扣</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买成本。                                     </a:t>
            </a:r>
            <a:r>
              <a:rPr b="0" lang="zh-CN" sz="2000" spc="-1" strike="noStrike">
                <a:solidFill>
                  <a:srgbClr val="000000"/>
                </a:solidFill>
                <a:latin typeface="Times New Roman"/>
                <a:ea typeface="黑体"/>
              </a:rPr>
              <a:t>销售网点。</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6</a:t>
            </a:r>
            <a:r>
              <a:rPr b="0" lang="zh-CN" sz="2000" spc="-1" strike="noStrike">
                <a:solidFill>
                  <a:srgbClr val="000000"/>
                </a:solidFill>
                <a:latin typeface="Times New Roman"/>
              </a:rPr>
              <a:t>、何处买                     购买便利性、选择性、             </a:t>
            </a:r>
            <a:r>
              <a:rPr b="0" lang="zh-CN" sz="2000" spc="-1" strike="noStrike">
                <a:solidFill>
                  <a:srgbClr val="000000"/>
                </a:solidFill>
                <a:latin typeface="Times New Roman"/>
                <a:ea typeface="黑体"/>
              </a:rPr>
              <a:t>渠道策略、商业业</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信誉、价格、服务等                  </a:t>
            </a:r>
            <a:r>
              <a:rPr b="0" lang="zh-CN" sz="2000" spc="-1" strike="noStrike">
                <a:solidFill>
                  <a:srgbClr val="000000"/>
                </a:solidFill>
                <a:latin typeface="Times New Roman"/>
                <a:ea typeface="黑体"/>
              </a:rPr>
              <a:t>态选择，规模、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多种顾客价值内容。                  </a:t>
            </a:r>
            <a:r>
              <a:rPr b="0" lang="zh-CN" sz="2000" spc="-1" strike="noStrike">
                <a:solidFill>
                  <a:srgbClr val="000000"/>
                </a:solidFill>
                <a:latin typeface="Times New Roman"/>
                <a:ea typeface="黑体"/>
              </a:rPr>
              <a:t>址选择，商业竞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7</a:t>
            </a:r>
            <a:r>
              <a:rPr b="0" lang="zh-CN" sz="2000" spc="-1" strike="noStrike">
                <a:solidFill>
                  <a:srgbClr val="000000"/>
                </a:solidFill>
                <a:latin typeface="Times New Roman"/>
              </a:rPr>
              <a:t>、何时买                    由需求强度引起的消费              </a:t>
            </a:r>
            <a:r>
              <a:rPr b="0" lang="zh-CN" sz="2000" spc="-1" strike="noStrike">
                <a:solidFill>
                  <a:srgbClr val="000000"/>
                </a:solidFill>
                <a:latin typeface="Times New Roman"/>
                <a:ea typeface="黑体"/>
              </a:rPr>
              <a:t>技术储备、上市时</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效用，购买价格、产品              </a:t>
            </a:r>
            <a:r>
              <a:rPr b="0" lang="zh-CN" sz="2000" spc="-1" strike="noStrike">
                <a:solidFill>
                  <a:srgbClr val="000000"/>
                </a:solidFill>
                <a:latin typeface="Times New Roman"/>
                <a:ea typeface="黑体"/>
              </a:rPr>
              <a:t>机、生命周期策略</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的先进性、流行性。                  </a:t>
            </a:r>
            <a:r>
              <a:rPr b="0" lang="zh-CN" sz="2000" spc="-1" strike="noStrike">
                <a:solidFill>
                  <a:srgbClr val="000000"/>
                </a:solidFill>
                <a:latin typeface="Times New Roman"/>
                <a:ea typeface="黑体"/>
              </a:rPr>
              <a:t>季节折扣等促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8</a:t>
            </a:r>
            <a:r>
              <a:rPr b="0" lang="zh-CN" sz="2000" spc="-1" strike="noStrike">
                <a:solidFill>
                  <a:srgbClr val="000000"/>
                </a:solidFill>
                <a:latin typeface="Times New Roman"/>
              </a:rPr>
              <a:t>、怎样买                    便利性、选择性、安全              </a:t>
            </a:r>
            <a:r>
              <a:rPr b="0" lang="zh-CN" sz="2000" spc="-1" strike="noStrike">
                <a:solidFill>
                  <a:srgbClr val="000000"/>
                </a:solidFill>
                <a:latin typeface="Times New Roman"/>
                <a:ea typeface="黑体"/>
              </a:rPr>
              <a:t>渠道建设、网络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感、价格、交货时间。              </a:t>
            </a:r>
            <a:r>
              <a:rPr b="0" lang="zh-CN" sz="2000" spc="-1" strike="noStrike">
                <a:solidFill>
                  <a:srgbClr val="000000"/>
                </a:solidFill>
                <a:latin typeface="Times New Roman"/>
                <a:ea typeface="黑体"/>
              </a:rPr>
              <a:t>销、促销策略</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9</a:t>
            </a:r>
            <a:r>
              <a:rPr b="0" lang="zh-CN" sz="2000" spc="-1" strike="noStrike">
                <a:solidFill>
                  <a:srgbClr val="000000"/>
                </a:solidFill>
                <a:latin typeface="Times New Roman"/>
              </a:rPr>
              <a:t>、信息获取                了解行情，刺激需求，              </a:t>
            </a:r>
            <a:r>
              <a:rPr b="0" lang="zh-CN" sz="2000" spc="-1" strike="noStrike">
                <a:solidFill>
                  <a:srgbClr val="000000"/>
                </a:solidFill>
                <a:latin typeface="Times New Roman"/>
                <a:ea typeface="黑体"/>
              </a:rPr>
              <a:t>明确定位，整合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优化选择，表现能力                  </a:t>
            </a:r>
            <a:r>
              <a:rPr b="0" lang="zh-CN" sz="2000" spc="-1" strike="noStrike">
                <a:solidFill>
                  <a:srgbClr val="000000"/>
                </a:solidFill>
                <a:latin typeface="Times New Roman"/>
                <a:ea typeface="黑体"/>
              </a:rPr>
              <a:t>销传播，信念竞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7" name=""/>
          <p:cNvSpPr/>
          <p:nvPr/>
        </p:nvSpPr>
        <p:spPr>
          <a:xfrm>
            <a:off x="705600" y="0"/>
            <a:ext cx="7725960" cy="45720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决策行为内容                     对消费者                              对</a:t>
            </a:r>
            <a:r>
              <a:rPr b="0" lang="zh-CN" sz="2000" spc="-1" strike="noStrike">
                <a:solidFill>
                  <a:srgbClr val="000000"/>
                </a:solidFill>
                <a:latin typeface="Times New Roman"/>
                <a:ea typeface="黑体"/>
              </a:rPr>
              <a:t>企业</a:t>
            </a:r>
            <a:r>
              <a:rPr b="0" lang="zh-CN" sz="2000" spc="-1" strike="noStrike">
                <a:solidFill>
                  <a:srgbClr val="000000"/>
                </a:solidFill>
                <a:latin typeface="Times New Roman"/>
              </a:rPr>
              <a:t>或宏观经济</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0</a:t>
            </a:r>
            <a:r>
              <a:rPr b="0" lang="zh-CN" sz="2000" spc="-1" strike="noStrike">
                <a:solidFill>
                  <a:srgbClr val="000000"/>
                </a:solidFill>
                <a:latin typeface="Times New Roman"/>
              </a:rPr>
              <a:t>、购买过程行为                  扩大选择范围，                   </a:t>
            </a:r>
            <a:r>
              <a:rPr b="0" lang="zh-CN" sz="2000" spc="-1" strike="noStrike">
                <a:solidFill>
                  <a:srgbClr val="000000"/>
                </a:solidFill>
                <a:latin typeface="Times New Roman"/>
                <a:ea typeface="黑体"/>
              </a:rPr>
              <a:t>人员推销策略与技巧</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择优，降低交                       </a:t>
            </a:r>
            <a:r>
              <a:rPr b="0" lang="zh-CN" sz="2000" spc="-1" strike="noStrike">
                <a:solidFill>
                  <a:srgbClr val="000000"/>
                </a:solidFill>
                <a:latin typeface="Times New Roman"/>
                <a:ea typeface="黑体"/>
              </a:rPr>
              <a:t>提高成交机会，增加</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换成本，心理                        </a:t>
            </a:r>
            <a:r>
              <a:rPr b="0" lang="zh-CN" sz="2000" spc="-1" strike="noStrike">
                <a:solidFill>
                  <a:srgbClr val="000000"/>
                </a:solidFill>
                <a:latin typeface="Times New Roman"/>
                <a:ea typeface="黑体"/>
              </a:rPr>
              <a:t>收益，使顾客满意而</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平衡                                        </a:t>
            </a:r>
            <a:r>
              <a:rPr b="0" lang="zh-CN" sz="2000" spc="-1" strike="noStrike">
                <a:solidFill>
                  <a:srgbClr val="000000"/>
                </a:solidFill>
                <a:latin typeface="Times New Roman"/>
                <a:ea typeface="黑体"/>
              </a:rPr>
              <a:t>归</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1</a:t>
            </a:r>
            <a:r>
              <a:rPr b="0" lang="zh-CN" sz="2000" spc="-1" strike="noStrike">
                <a:solidFill>
                  <a:srgbClr val="000000"/>
                </a:solidFill>
                <a:latin typeface="Times New Roman"/>
              </a:rPr>
              <a:t>、购后行为                         物尽其用，提                        </a:t>
            </a:r>
            <a:r>
              <a:rPr b="0" lang="zh-CN" sz="2000" spc="-1" strike="noStrike">
                <a:solidFill>
                  <a:srgbClr val="000000"/>
                </a:solidFill>
                <a:latin typeface="黑体"/>
                <a:ea typeface="黑体"/>
              </a:rPr>
              <a:t>CS</a:t>
            </a:r>
            <a:r>
              <a:rPr b="0" lang="zh-CN" sz="2000" spc="-1" strike="noStrike">
                <a:solidFill>
                  <a:srgbClr val="000000"/>
                </a:solidFill>
                <a:latin typeface="黑体"/>
                <a:ea typeface="黑体"/>
              </a:rPr>
              <a:t>战略，售后服务</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高认识，积累                        </a:t>
            </a:r>
            <a:r>
              <a:rPr b="0" lang="zh-CN" sz="2000" spc="-1" strike="noStrike">
                <a:solidFill>
                  <a:srgbClr val="000000"/>
                </a:solidFill>
                <a:latin typeface="Times New Roman"/>
                <a:ea typeface="黑体"/>
              </a:rPr>
              <a:t>改进产品，口碑管理</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经验，平衡心                        </a:t>
            </a:r>
            <a:r>
              <a:rPr b="0" lang="zh-CN" sz="2000" spc="-1" strike="noStrike">
                <a:solidFill>
                  <a:srgbClr val="000000"/>
                </a:solidFill>
                <a:latin typeface="Times New Roman"/>
                <a:ea typeface="黑体"/>
              </a:rPr>
              <a:t>需求管理，社会市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理，减少损失                        </a:t>
            </a:r>
            <a:r>
              <a:rPr b="0" lang="zh-CN" sz="2000" spc="-1" strike="noStrike">
                <a:solidFill>
                  <a:srgbClr val="000000"/>
                </a:solidFill>
                <a:latin typeface="Times New Roman"/>
                <a:ea typeface="黑体"/>
              </a:rPr>
              <a:t>营销</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
          <p:cNvSpPr/>
          <p:nvPr/>
        </p:nvSpPr>
        <p:spPr>
          <a:xfrm>
            <a:off x="0" y="0"/>
            <a:ext cx="9144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上表可以看出，从产品类别选择开始的消费者行为，对企业的营销活动有较大的影响，因而都应该加以讨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Verdana"/>
              </a:rPr>
              <a:t>  </a:t>
            </a:r>
            <a:r>
              <a:rPr b="0" lang="zh-CN" sz="2400" spc="-1" strike="noStrike">
                <a:solidFill>
                  <a:srgbClr val="000000"/>
                </a:solidFill>
                <a:latin typeface="Verdana"/>
              </a:rPr>
              <a:t>我们可以进一步根据心理学原理，为了解释、预测消费者的外在行为，即“为什么”，来确定应该研究哪些主观心理活动问题；另一方面，</a:t>
            </a:r>
            <a:r>
              <a:rPr b="0" lang="zh-CN" sz="2400" spc="-1" strike="noStrike">
                <a:solidFill>
                  <a:srgbClr val="000000"/>
                </a:solidFill>
                <a:latin typeface="Times New Roman"/>
              </a:rPr>
              <a:t>可以再从企业营销活动角度，讨论应研究哪些消费者心理和行为问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企业生产地点的选择和区域目标市场的选择，都要考虑在该区域内</a:t>
            </a:r>
            <a:r>
              <a:rPr b="0" lang="zh-CN" sz="2400" spc="-1" strike="noStrike">
                <a:solidFill>
                  <a:srgbClr val="000000"/>
                </a:solidFill>
                <a:latin typeface="Times New Roman"/>
                <a:ea typeface="黑体"/>
              </a:rPr>
              <a:t>居民的消费能力</a:t>
            </a:r>
            <a:r>
              <a:rPr b="0" lang="zh-CN" sz="2400" spc="-1" strike="noStrike">
                <a:solidFill>
                  <a:srgbClr val="000000"/>
                </a:solidFill>
                <a:latin typeface="Times New Roman"/>
              </a:rPr>
              <a:t>。</a:t>
            </a:r>
            <a:r>
              <a:rPr b="0" lang="zh-CN" sz="2400" spc="-1" strike="noStrike">
                <a:solidFill>
                  <a:srgbClr val="000000"/>
                </a:solidFill>
                <a:latin typeface="Times New Roman"/>
                <a:ea typeface="黑体"/>
              </a:rPr>
              <a:t>为了了解居民的消费能力，企业还必须了解与分析影响居民消费能力的因素，并进行预测。</a:t>
            </a:r>
            <a:r>
              <a:rPr b="0" lang="zh-CN" sz="2400" spc="-1" strike="noStrike">
                <a:solidFill>
                  <a:srgbClr val="000000"/>
                </a:solidFill>
                <a:latin typeface="Times New Roman"/>
              </a:rPr>
              <a:t>居民的消费能力取决于他们的收入水平和消费倾向，对个别的或平均的居民居民消费倾向的分析，既是消费者行为分析的内容，也是一般消费经济研究的内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企业营销战略的一个重要选择就是要选择进入什么行业、生产什么类别的产品。</a:t>
            </a:r>
            <a:r>
              <a:rPr b="0" lang="zh-CN" sz="2400" spc="-1" strike="noStrike">
                <a:solidFill>
                  <a:srgbClr val="000000"/>
                </a:solidFill>
                <a:latin typeface="Times New Roman"/>
                <a:ea typeface="黑体"/>
              </a:rPr>
              <a:t>为此企业就要了解一定区域内居民现实的消费结构或产品类别的选择，要了解、分析影响居民消费结构的主要因素并进行预测</a:t>
            </a:r>
            <a:r>
              <a:rPr b="0" lang="zh-CN" sz="2400" spc="-1" strike="noStrike">
                <a:solidFill>
                  <a:srgbClr val="000000"/>
                </a:solidFill>
                <a:latin typeface="Times New Roman"/>
              </a:rPr>
              <a:t>。这也是消费者行为与一般消费经济都关心的内容。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
          <p:cNvSpPr/>
          <p:nvPr/>
        </p:nvSpPr>
        <p:spPr>
          <a:xfrm>
            <a:off x="1830600" y="228600"/>
            <a:ext cx="5667120" cy="6378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二）基础研究群体与行为导向群体</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消费行为作为人类行为的一个重要组成部分，受到不同研究人</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员的关心。人类学、社会学、心理学、经济学、营销学等学科的研</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究者都会从各自的角度去研究人类消费行为产生与发展的规律。他</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们希望通过有关研究来充实和完善本学科的理论体系。主要有大学</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研究人员组成的研究群体，属于基础研究群体。</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强大的需要和利益是最伟大的“创造者”。消费者为了使自己有</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限的资源获得最大的消费效果，他就要研究如何合理消费的问题。</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府为了制定正确的产业政策和消费政策，也必须研究消费现状、</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消费规律和引导消费的可能。企业是与消费活动关系最为密切的非</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消费群体，</a:t>
            </a:r>
            <a:r>
              <a:rPr b="0" lang="zh-CN" sz="2400" spc="-1" strike="noStrike">
                <a:solidFill>
                  <a:srgbClr val="000000"/>
                </a:solidFill>
                <a:latin typeface="Verdana"/>
                <a:ea typeface="黑体"/>
              </a:rPr>
              <a:t>它们在“盘算”消费者的心理和行为问题方面最为积极</a:t>
            </a:r>
            <a:r>
              <a:rPr b="0" lang="zh-CN" sz="2400" spc="-1" strike="noStrike">
                <a:solidFill>
                  <a:srgbClr val="000000"/>
                </a:solidFill>
                <a:latin typeface="Verdana"/>
              </a:rPr>
              <a:t>。</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销组织、政府、消费者是最主要的行为导向群体，他们希望通过</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相应的研究达到具有某种明显功利性的目的。</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ea typeface="黑体"/>
              </a:rPr>
              <a:t>我们的研究主要从市场营销学角度出发，属于基础性研究，但</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也十分强调应用性，能为各种企业的营销活动提供直接或间接的价值</a:t>
            </a:r>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
          <p:cNvSpPr/>
          <p:nvPr/>
        </p:nvSpPr>
        <p:spPr>
          <a:xfrm>
            <a:off x="1611000" y="0"/>
            <a:ext cx="60296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企业营销战略另一个选择就是要以什么产品进入什么市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也即进行目标市场选择。</a:t>
            </a:r>
            <a:r>
              <a:rPr b="0" lang="zh-CN" sz="2400" spc="-1" strike="noStrike">
                <a:solidFill>
                  <a:srgbClr val="000000"/>
                </a:solidFill>
                <a:latin typeface="Verdana"/>
              </a:rPr>
              <a:t>为此，</a:t>
            </a:r>
            <a:r>
              <a:rPr b="0" lang="zh-CN" sz="2400" spc="-1" strike="noStrike">
                <a:solidFill>
                  <a:srgbClr val="000000"/>
                </a:solidFill>
                <a:latin typeface="Verdana"/>
                <a:ea typeface="黑体"/>
              </a:rPr>
              <a:t>企业就要了解各类消费者在购买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类产品时的具体需求与行为，了解各类消费者与具体需求及行为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无对应关系，同类消费者或同类需求的规模有多大，还有哪些因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影响消费者的具体需求与行为，并进行预测</a:t>
            </a:r>
            <a:r>
              <a:rPr b="0" lang="zh-CN" sz="2400" spc="-1" strike="noStrike">
                <a:solidFill>
                  <a:srgbClr val="000000"/>
                </a:solidFill>
                <a:latin typeface="Verdana"/>
              </a:rPr>
              <a:t>。</a:t>
            </a:r>
            <a:r>
              <a:rPr b="0" lang="zh-CN" sz="2400" spc="-1" strike="noStrike">
                <a:solidFill>
                  <a:srgbClr val="000000"/>
                </a:solidFill>
                <a:latin typeface="宋体"/>
              </a:rPr>
              <a:t>寻找细分变量（包括</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描述变量和行为变量），对市场进行细分，主要就是依赖对消费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行为的深入研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4</a:t>
            </a:r>
            <a:r>
              <a:rPr b="0" lang="zh-CN" sz="2400" spc="-1" strike="noStrike">
                <a:solidFill>
                  <a:srgbClr val="000000"/>
                </a:solidFill>
                <a:latin typeface="宋体"/>
              </a:rPr>
              <a:t>、企业还要对自己的产品品牌进行定位。定位具有多种功能。</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消费者，企业希望通过定位，能使自己的产品品牌更易被消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者注意、记忆，通过在消费者心目中确立一个有价值的位置来吸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和指导消费者的购买。这样，企业就要研究怎样的定位内容，包括</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产品所含的主要利益和依据等，怎样才更能诱导、说服消费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28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p:nvPr/>
        </p:nvSpPr>
        <p:spPr>
          <a:xfrm>
            <a:off x="1673280" y="0"/>
            <a:ext cx="5828760" cy="591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5</a:t>
            </a:r>
            <a:r>
              <a:rPr b="0" lang="zh-CN" sz="2400" spc="-1" strike="noStrike">
                <a:solidFill>
                  <a:srgbClr val="000000"/>
                </a:solidFill>
                <a:latin typeface="宋体"/>
              </a:rPr>
              <a:t>、在定位思想的指导下，企业还要制定各种营销策略，以吸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消费者的购买。为此，就要研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消费者的心理活动过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消费者的购买决策过程，特别是进行产品品牌选择的方式。</a:t>
            </a:r>
            <a:r>
              <a:rPr b="0" lang="zh-CN" sz="2400" spc="-1" strike="noStrike">
                <a:solidFill>
                  <a:srgbClr val="000000"/>
                </a:solidFill>
                <a:latin typeface="Verdana"/>
              </a:rPr>
              <a: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 </a:t>
            </a:r>
            <a:r>
              <a:rPr b="0" lang="zh-CN" sz="2400" spc="-1" strike="noStrike">
                <a:solidFill>
                  <a:srgbClr val="000000"/>
                </a:solidFill>
                <a:latin typeface="Verdana"/>
              </a:rPr>
              <a:t>消费者购买的本质。</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 </a:t>
            </a:r>
            <a:r>
              <a:rPr b="0" lang="zh-CN" sz="2400" spc="-1" strike="noStrike">
                <a:solidFill>
                  <a:srgbClr val="000000"/>
                </a:solidFill>
                <a:latin typeface="Verdana"/>
              </a:rPr>
              <a:t>影响消费者选择具体产品品牌时（包括是否买，买多少，何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买，何地买、怎样买等）的其他各种因素。特别是要研究可控的各种</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复杂的营销要素对消费者行为的影响，如包装心理、价格心理、渠道</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心理、广告心理等，以便为制定各种营销策略服务，包括生产多少，</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何时上市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这部分研究与在选择目标市场、提出定位时的研究内容有重叠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处，但更为全面具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
          <p:cNvSpPr/>
          <p:nvPr/>
        </p:nvSpPr>
        <p:spPr>
          <a:xfrm>
            <a:off x="1928160" y="304920"/>
            <a:ext cx="5484240" cy="805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6</a:t>
            </a:r>
            <a:r>
              <a:rPr b="0" lang="zh-CN" sz="2400" spc="-1" strike="noStrike">
                <a:solidFill>
                  <a:srgbClr val="000000"/>
                </a:solidFill>
                <a:latin typeface="宋体"/>
              </a:rPr>
              <a:t>、对于商业企业来说，还必须重点研究消费者何处购买的心</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理和行为。商业企业是围绕如何吸引消费者到商店购买（可以是任</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何产品）来开展营销活动的，为此商业企业就要研究消费者何处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买的心理和行为的各种表现以及各种影响因素。这时同样包括消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者的心理活动过程等内容，只是侧重点在何处购买的选择上。</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根据以上分析，本书的研究内容主要有这样几个特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研究的三个重点。生产企业主要是关心消费者是否会购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己的产品（包括产品类别、产品品牌</a:t>
            </a:r>
            <a:r>
              <a:rPr b="0" lang="zh-CN" sz="2400" spc="-1" strike="noStrike">
                <a:solidFill>
                  <a:srgbClr val="000000"/>
                </a:solidFill>
                <a:latin typeface="宋体"/>
              </a:rPr>
              <a:t>/</a:t>
            </a:r>
            <a:r>
              <a:rPr b="0" lang="zh-CN" sz="2400" spc="-1" strike="noStrike">
                <a:solidFill>
                  <a:srgbClr val="000000"/>
                </a:solidFill>
                <a:latin typeface="宋体"/>
              </a:rPr>
              <a:t>品种），商业企业主要关心</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消费者是否会到自己的商店购买。因而，</a:t>
            </a:r>
            <a:r>
              <a:rPr b="0" lang="zh-CN" sz="2400" spc="-1" strike="noStrike">
                <a:solidFill>
                  <a:srgbClr val="000000"/>
                </a:solidFill>
                <a:latin typeface="黑体"/>
                <a:ea typeface="黑体"/>
              </a:rPr>
              <a:t>不同层次的产品选择，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牌选择，商店选择应是我们的研究重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
          <p:cNvSpPr/>
          <p:nvPr/>
        </p:nvSpPr>
        <p:spPr>
          <a:xfrm>
            <a:off x="1922040" y="0"/>
            <a:ext cx="5484240" cy="713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基础性研究与行为导向研究相结合。由于这里是强调为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业营销服务的基础性研究，因而既要强调一般性，要着重对一般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的消费心理和行为进行研究。同时又要强调应用性。具体是：在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消费者心理与行为进行一般分析的同时，会相应提出一些应用策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不同类别的产品市场中的消费者行为进行分门别类的研究，以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应不同企业营销活动的需要；根据重点要研究的消费行为，提出相</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应的营销策略，等等。</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定性分析为主，定量分析为辅。为了揭示消费者行为的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般规律，首先要着重定性分析；同时为了更好地说明一般规律、使</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们了解现实情况、帮助行为导向群体进行决策，也应进行一些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量分析或介绍一些定量分析成果。但由于定量分析需要大量调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而且数据具有易变性，因此只能为辅。</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71200" y="1103400"/>
            <a:ext cx="81630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Verdana"/>
              </a:rPr>
              <a:t>讨论题一：</a:t>
            </a:r>
            <a:endParaRPr b="0" lang="en-US" sz="2800" spc="-1" strike="noStrike">
              <a:solidFill>
                <a:srgbClr val="003366"/>
              </a:solidFill>
              <a:latin typeface="Verdana"/>
            </a:endParaRPr>
          </a:p>
        </p:txBody>
      </p:sp>
      <p:sp>
        <p:nvSpPr>
          <p:cNvPr id="288" name=""/>
          <p:cNvSpPr/>
          <p:nvPr/>
        </p:nvSpPr>
        <p:spPr>
          <a:xfrm>
            <a:off x="685800" y="1828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前要进行研究的重点、热点、难点消费问题有哪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30240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rPr>
              <a:t>三、</a:t>
            </a:r>
            <a:r>
              <a:rPr b="0" lang="zh-CN" sz="3200" spc="-1" strike="noStrike">
                <a:solidFill>
                  <a:srgbClr val="000000"/>
                </a:solidFill>
                <a:latin typeface="Verdana"/>
              </a:rPr>
              <a:t>消费者行为学是一门独立学科</a:t>
            </a:r>
            <a:endParaRPr b="0" lang="en-US" sz="3200" spc="-1" strike="noStrike">
              <a:solidFill>
                <a:srgbClr val="003366"/>
              </a:solidFill>
              <a:latin typeface="Verdana"/>
            </a:endParaRPr>
          </a:p>
        </p:txBody>
      </p:sp>
      <p:sp>
        <p:nvSpPr>
          <p:cNvPr id="290"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0" y="990720"/>
            <a:ext cx="91440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者行为在受到许多基础研究群体的关注之后，就可能从不同角度发展为一门独立学科。它可以是心理学、社会心理学的一个分支，也可以是社会学、人类学、经济学、营销学等学科的分支。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可以把消费者行为学当作经济学、消费经济学的一个分支。消费经济学是专门研究消费环节的一门经济学科，而单个消费者的消费行为问题，又是消费经济范畴中独特部分，即微观部分。它在社会再生产过程中、在消费领域中，也有其相对独立的地位、相对独立的运动和特殊的规律性，这是决定消费者行为学成为一门独立学科的客观基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论消费者行为学从属于哪一门学科，是否属于一种交叉科学，关键问题是要判断它是否属于一门独立学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只要消费者心理和行为是一个独立的研究对象、研究领域，有着特殊的研究方法，它就可以成为一门独立的学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104220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第二节  消费者行为研究产生与发展的原因</a:t>
            </a:r>
            <a:endParaRPr b="0" lang="en-US" sz="3200" spc="-1" strike="noStrike">
              <a:solidFill>
                <a:srgbClr val="003366"/>
              </a:solidFill>
              <a:latin typeface="Verdana"/>
            </a:endParaRPr>
          </a:p>
        </p:txBody>
      </p:sp>
      <p:sp>
        <p:nvSpPr>
          <p:cNvPr id="293" name=""/>
          <p:cNvSpPr/>
          <p:nvPr/>
        </p:nvSpPr>
        <p:spPr>
          <a:xfrm>
            <a:off x="0" y="2133720"/>
            <a:ext cx="868680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本节要简单讨论两个问题，一是消费者行为研究产生与发</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展的基本过程，二是产生与发展的主要原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150840"/>
            <a:ext cx="8163000" cy="5205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一、消费者行为研究产生与发展的基本过程</a:t>
            </a:r>
            <a:endParaRPr b="0" lang="en-US" sz="2800" spc="-1" strike="noStrike">
              <a:solidFill>
                <a:srgbClr val="003366"/>
              </a:solidFill>
              <a:latin typeface="Verdana"/>
            </a:endParaRPr>
          </a:p>
        </p:txBody>
      </p:sp>
      <p:sp>
        <p:nvSpPr>
          <p:cNvPr id="295" name=""/>
          <p:cNvSpPr/>
          <p:nvPr/>
        </p:nvSpPr>
        <p:spPr>
          <a:xfrm>
            <a:off x="152280" y="1066680"/>
            <a:ext cx="86868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自从有人类以来，消费者行为的点滴思想观念，是与人们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实践同时出现的。消费者行为有系统的理论研究并成为一</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独立的学科，只是近几十年出现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中国古代思想家提出的消费思想：</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主要是主俭和主奢两种类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西方古典经济学家提出的消费思想：</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主要是讨论了节俭的宏观经济意义。</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19</a:t>
            </a:r>
            <a:r>
              <a:rPr b="0" lang="zh-CN" sz="2400" spc="-1" strike="noStrike">
                <a:solidFill>
                  <a:srgbClr val="000000"/>
                </a:solidFill>
                <a:latin typeface="Times New Roman"/>
              </a:rPr>
              <a:t>世纪末，</a:t>
            </a:r>
            <a:r>
              <a:rPr b="0" lang="zh-CN" sz="2400" spc="-1" strike="noStrike">
                <a:solidFill>
                  <a:srgbClr val="000000"/>
                </a:solidFill>
                <a:latin typeface="Times New Roman"/>
              </a:rPr>
              <a:t>20</a:t>
            </a:r>
            <a:r>
              <a:rPr b="0" lang="zh-CN" sz="2400" spc="-1" strike="noStrike">
                <a:solidFill>
                  <a:srgbClr val="000000"/>
                </a:solidFill>
                <a:latin typeface="Times New Roman"/>
              </a:rPr>
              <a:t>世纪初的边际效用理论、需求理论、消费示范作用、两种消费方式并存等思想观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20</a:t>
            </a:r>
            <a:r>
              <a:rPr b="0" lang="zh-CN" sz="2400" spc="-1" strike="noStrike">
                <a:solidFill>
                  <a:srgbClr val="000000"/>
                </a:solidFill>
                <a:latin typeface="Times New Roman"/>
              </a:rPr>
              <a:t>世纪</a:t>
            </a:r>
            <a:r>
              <a:rPr b="0" lang="zh-CN" sz="2400" spc="-1" strike="noStrike">
                <a:solidFill>
                  <a:srgbClr val="000000"/>
                </a:solidFill>
                <a:latin typeface="Times New Roman"/>
              </a:rPr>
              <a:t>20</a:t>
            </a:r>
            <a:r>
              <a:rPr b="0" lang="zh-CN" sz="2400" spc="-1" strike="noStrike">
                <a:solidFill>
                  <a:srgbClr val="000000"/>
                </a:solidFill>
                <a:latin typeface="Times New Roman"/>
              </a:rPr>
              <a:t>年代的各种应用心理学的发展，</a:t>
            </a:r>
            <a:r>
              <a:rPr b="0" lang="zh-CN" sz="2400" spc="-1" strike="noStrike">
                <a:solidFill>
                  <a:srgbClr val="000000"/>
                </a:solidFill>
                <a:latin typeface="Times New Roman"/>
              </a:rPr>
              <a:t>20</a:t>
            </a:r>
            <a:r>
              <a:rPr b="0" lang="zh-CN" sz="2400" spc="-1" strike="noStrike">
                <a:solidFill>
                  <a:srgbClr val="000000"/>
                </a:solidFill>
                <a:latin typeface="Times New Roman"/>
              </a:rPr>
              <a:t>世纪</a:t>
            </a:r>
            <a:r>
              <a:rPr b="0" lang="zh-CN" sz="2400" spc="-1" strike="noStrike">
                <a:solidFill>
                  <a:srgbClr val="000000"/>
                </a:solidFill>
                <a:latin typeface="Times New Roman"/>
              </a:rPr>
              <a:t>30~50</a:t>
            </a:r>
            <a:r>
              <a:rPr b="0" lang="zh-CN" sz="2400" spc="-1" strike="noStrike">
                <a:solidFill>
                  <a:srgbClr val="000000"/>
                </a:solidFill>
                <a:latin typeface="Times New Roman"/>
              </a:rPr>
              <a:t>年代，消费者心理和行为研究进入应用阶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2520"/>
            <a:ext cx="8163000" cy="764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rPr>
              <a:t> </a:t>
            </a:r>
            <a:r>
              <a:rPr b="0" lang="zh-CN" sz="2800" spc="-1" strike="noStrike">
                <a:solidFill>
                  <a:srgbClr val="000000"/>
                </a:solidFill>
                <a:latin typeface="Verdana"/>
              </a:rPr>
              <a:t>二、消费者行为研究产生与发展的原因</a:t>
            </a:r>
            <a:endParaRPr b="0" lang="en-US" sz="2800" spc="-1" strike="noStrike">
              <a:solidFill>
                <a:srgbClr val="003366"/>
              </a:solidFill>
              <a:latin typeface="Verdana"/>
            </a:endParaRPr>
          </a:p>
        </p:txBody>
      </p:sp>
      <p:sp>
        <p:nvSpPr>
          <p:cNvPr id="297" name=""/>
          <p:cNvSpPr/>
          <p:nvPr/>
        </p:nvSpPr>
        <p:spPr>
          <a:xfrm>
            <a:off x="304920" y="914400"/>
            <a:ext cx="8534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者行为研究主要源于三种社会需要，它们是推动其发</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展的根本动力或原因。</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宏观经济与社会的健康稳定发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问题，特别是具有共性的消费问题，具有强烈的宏观经济功能和社会功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宏观经济的研究者和管理者关心影响宏观经济健康稳定发展的那些消费问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社会问题的研究者及管理者则对反映和影响社会结构、社会道德风尚、整个社会健康稳定发展的消费问题比较关心。</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节俭与奢侈；节制消费、量入为出，或者是超前消费、量出为入；文明与愚昧；高雅与粗俗；物质消费与精神消费；消费结构的变化趋势等等，都具有很强的宏观经济与社会意义。</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endParaRPr b="0" lang="en-US" sz="4400" spc="-1" strike="noStrike">
              <a:solidFill>
                <a:srgbClr val="003366"/>
              </a:solidFill>
              <a:latin typeface="Verdana"/>
            </a:endParaRPr>
          </a:p>
        </p:txBody>
      </p:sp>
      <p:sp>
        <p:nvSpPr>
          <p:cNvPr id="299" name=""/>
          <p:cNvSpPr/>
          <p:nvPr/>
        </p:nvSpPr>
        <p:spPr>
          <a:xfrm>
            <a:off x="1415880" y="228600"/>
            <a:ext cx="58863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国当前存在的相应消费问题主要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　获取收入的道德问题。　　　　　</a:t>
            </a:r>
            <a:r>
              <a:rPr b="0" lang="zh-CN" sz="2400" spc="-1" strike="noStrike">
                <a:solidFill>
                  <a:srgbClr val="000000"/>
                </a:solidFill>
                <a:latin typeface="Times New Roman"/>
              </a:rPr>
              <a:t>·    </a:t>
            </a:r>
            <a:r>
              <a:rPr b="0" lang="zh-CN" sz="2400" spc="-1" strike="noStrike">
                <a:solidFill>
                  <a:srgbClr val="000000"/>
                </a:solidFill>
                <a:latin typeface="Times New Roman"/>
              </a:rPr>
              <a:t>消费倾向过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　大量愚昧和盲目的消费。　        　</a:t>
            </a:r>
            <a:r>
              <a:rPr b="0" lang="zh-CN" sz="2400" spc="-1" strike="noStrike">
                <a:solidFill>
                  <a:srgbClr val="000000"/>
                </a:solidFill>
                <a:latin typeface="Times New Roman"/>
              </a:rPr>
              <a:t>·</a:t>
            </a:r>
            <a:r>
              <a:rPr b="0" lang="zh-CN" sz="2400" spc="-1" strike="noStrike">
                <a:solidFill>
                  <a:srgbClr val="000000"/>
                </a:solidFill>
                <a:latin typeface="Times New Roman"/>
              </a:rPr>
              <a:t>　自我保护意识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饮食消费比重过高。                        </a:t>
            </a:r>
            <a:r>
              <a:rPr b="0" lang="zh-CN" sz="2400" spc="-1" strike="noStrike">
                <a:solidFill>
                  <a:srgbClr val="000000"/>
                </a:solidFill>
                <a:latin typeface="Times New Roman"/>
              </a:rPr>
              <a:t>·    </a:t>
            </a:r>
            <a:r>
              <a:rPr b="0" lang="zh-CN" sz="2400" spc="-1" strike="noStrike">
                <a:solidFill>
                  <a:srgbClr val="000000"/>
                </a:solidFill>
                <a:latin typeface="Times New Roman"/>
              </a:rPr>
              <a:t>攀比与求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新人类”消费的幼稚倾向。          </a:t>
            </a:r>
            <a:r>
              <a:rPr b="0" lang="zh-CN" sz="2400" spc="-1" strike="noStrike">
                <a:solidFill>
                  <a:srgbClr val="000000"/>
                </a:solidFill>
                <a:latin typeface="Times New Roman"/>
              </a:rPr>
              <a:t>·    </a:t>
            </a:r>
            <a:r>
              <a:rPr b="0" lang="zh-CN" sz="2400" spc="-1" strike="noStrike">
                <a:solidFill>
                  <a:srgbClr val="000000"/>
                </a:solidFill>
                <a:latin typeface="Times New Roman"/>
              </a:rPr>
              <a:t>巨大的消费差别。</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可持续消费问题。                            </a:t>
            </a:r>
            <a:r>
              <a:rPr b="0" lang="zh-CN" sz="2400" spc="-1" strike="noStrike">
                <a:solidFill>
                  <a:srgbClr val="000000"/>
                </a:solidFill>
                <a:latin typeface="Times New Roman"/>
              </a:rPr>
              <a:t>·    </a:t>
            </a:r>
            <a:r>
              <a:rPr b="0" lang="zh-CN" sz="2400" spc="-1" strike="noStrike">
                <a:solidFill>
                  <a:srgbClr val="000000"/>
                </a:solidFill>
                <a:latin typeface="Times New Roman"/>
              </a:rPr>
              <a:t>公款消费问题。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健康高雅消费的能力较差。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556920"/>
            <a:ext cx="81630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二、消费者行为学研究在市场营销专业课程体系中的地位</a:t>
            </a:r>
            <a:endParaRPr b="0" lang="en-US" sz="3200" spc="-1" strike="noStrike">
              <a:solidFill>
                <a:srgbClr val="003366"/>
              </a:solidFill>
              <a:latin typeface="Verdana"/>
            </a:endParaRPr>
          </a:p>
        </p:txBody>
      </p:sp>
      <p:sp>
        <p:nvSpPr>
          <p:cNvPr id="218" name=""/>
          <p:cNvSpPr/>
          <p:nvPr/>
        </p:nvSpPr>
        <p:spPr>
          <a:xfrm>
            <a:off x="0" y="1752480"/>
            <a:ext cx="9144000" cy="657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综合基础层：市场营销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础层：        </a:t>
            </a:r>
            <a:r>
              <a:rPr b="0" lang="zh-CN" sz="2400" spc="-1" strike="noStrike">
                <a:solidFill>
                  <a:srgbClr val="000000"/>
                </a:solidFill>
                <a:latin typeface="Times New Roman"/>
                <a:ea typeface="黑体"/>
              </a:rPr>
              <a:t>消费者行为</a:t>
            </a:r>
            <a:r>
              <a:rPr b="0" lang="zh-CN" sz="2400" spc="-1" strike="noStrike">
                <a:solidFill>
                  <a:srgbClr val="000000"/>
                </a:solidFill>
                <a:latin typeface="Times New Roman"/>
              </a:rPr>
              <a:t>、市场调研</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主干层：        营销战略管理</a:t>
            </a:r>
            <a:r>
              <a:rPr b="0" lang="zh-CN" sz="2000" spc="-1" strike="noStrike">
                <a:solidFill>
                  <a:srgbClr val="000000"/>
                </a:solidFill>
                <a:latin typeface="Times New Roman"/>
              </a:rPr>
              <a:t>/  </a:t>
            </a:r>
            <a:r>
              <a:rPr b="0" lang="zh-CN" sz="2400" spc="-1" strike="noStrike">
                <a:solidFill>
                  <a:srgbClr val="000000"/>
                </a:solidFill>
                <a:latin typeface="Times New Roman"/>
              </a:rPr>
              <a:t>商品学、新产品开发、企业定价、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广告学、分销管理、推销学、公共关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发展细分层：国际市场营销</a:t>
            </a:r>
            <a:r>
              <a:rPr b="0" lang="zh-CN" sz="2400" spc="-1" strike="noStrike">
                <a:solidFill>
                  <a:srgbClr val="000000"/>
                </a:solidFill>
                <a:latin typeface="Times New Roman"/>
              </a:rPr>
              <a:t>/</a:t>
            </a:r>
            <a:r>
              <a:rPr b="0" lang="zh-CN" sz="2400" spc="-1" strike="noStrike">
                <a:solidFill>
                  <a:srgbClr val="000000"/>
                </a:solidFill>
                <a:latin typeface="Times New Roman"/>
              </a:rPr>
              <a:t>服务营销、零售业营销、金融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营销、房地产营销……</a:t>
            </a:r>
            <a:r>
              <a:rPr b="0" lang="zh-CN" sz="2400" spc="-1" strike="noStrike">
                <a:solidFill>
                  <a:srgbClr val="000000"/>
                </a:solidFill>
                <a:latin typeface="Times New Roman"/>
              </a:rPr>
              <a:t>/</a:t>
            </a:r>
            <a:r>
              <a:rPr b="0" lang="zh-CN" sz="2400" spc="-1" strike="noStrike">
                <a:solidFill>
                  <a:srgbClr val="000000"/>
                </a:solidFill>
                <a:latin typeface="Times New Roman"/>
              </a:rPr>
              <a:t>客户管理、商务谈判、</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电子商务网络营销、企业形象设计……</a:t>
            </a:r>
            <a:r>
              <a:rPr b="0" lang="zh-CN" sz="2400" spc="-1" strike="noStrike">
                <a:solidFill>
                  <a:srgbClr val="000000"/>
                </a:solidFill>
                <a:latin typeface="Times New Roman"/>
              </a:rPr>
              <a:t>/</a:t>
            </a:r>
            <a:r>
              <a:rPr b="0" lang="zh-CN" sz="2400" spc="-1" strike="noStrike">
                <a:solidFill>
                  <a:srgbClr val="000000"/>
                </a:solidFill>
                <a:latin typeface="Times New Roman"/>
              </a:rPr>
              <a:t>营销信息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系统、商务英语、营销财务。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0" name=""/>
          <p:cNvSpPr/>
          <p:nvPr/>
        </p:nvSpPr>
        <p:spPr>
          <a:xfrm>
            <a:off x="1636920" y="-76320"/>
            <a:ext cx="5825520" cy="704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二）企业的市场营销活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在市场经济条件下，企业的营销活动需要了解市场、了解消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者行为已成为不争的事实。但对消费者心理和行为的研究要达到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种程度却会有不同认识。</a:t>
            </a:r>
            <a:r>
              <a:rPr b="0" lang="zh-CN" sz="2400" spc="-1" strike="noStrike">
                <a:solidFill>
                  <a:srgbClr val="000000"/>
                </a:solidFill>
                <a:latin typeface="Times New Roman"/>
                <a:ea typeface="黑体"/>
              </a:rPr>
              <a:t>事实上，企业的营销活动也是影响消费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需求和行为的重要因素，对消费者的需求和行为不只是适应，有时</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更多的是引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正因为如此，许多企业甚至营销理论研究者认为，没有必要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者的心理与行为进行过多的研究。比如，消费者虽然会有某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未满足的需要，但他们并不知道应该开发什么产品，只是会对哪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能好地满足他们需要作出评价；</a:t>
            </a:r>
            <a:r>
              <a:rPr b="0" lang="zh-CN" sz="2400" spc="-1" strike="noStrike">
                <a:solidFill>
                  <a:srgbClr val="000000"/>
                </a:solidFill>
                <a:latin typeface="Times New Roman"/>
                <a:ea typeface="黑体"/>
              </a:rPr>
              <a:t>如果企业能开发出优秀的产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就自然能引导市场，因而没有必要花大力气去细分市场，先去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找最优秀或最合适的消费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这种观点有一定道理。企业的营销活动应以顾客需求为导向并</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非意味着企业只要深入了解了消费者的需要就能做好营销工作。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活动是一个复杂过程，科学技术、生产管理、企业制度等都会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响营销活动的最终成效，</a:t>
            </a:r>
            <a:r>
              <a:rPr b="0" lang="zh-CN" sz="2400" spc="-1" strike="noStrike">
                <a:solidFill>
                  <a:srgbClr val="000000"/>
                </a:solidFill>
                <a:latin typeface="Times New Roman"/>
                <a:ea typeface="黑体"/>
              </a:rPr>
              <a:t>企业如果不能生产出合适的产品，掌握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消费者需求也无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Verdana"/>
                <a:ea typeface="黑体"/>
              </a:rPr>
              <a:t>但是，企业的产品等营销要素是否合适，最终也必须由消费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来认定。</a:t>
            </a:r>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2" name=""/>
          <p:cNvSpPr/>
          <p:nvPr/>
        </p:nvSpPr>
        <p:spPr>
          <a:xfrm>
            <a:off x="1922040" y="0"/>
            <a:ext cx="5484240" cy="657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从更全面、辨证的观点看，消费者行为研究的重要性和所要深</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入研究的程度主要取决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1</a:t>
            </a:r>
            <a:r>
              <a:rPr b="0" lang="zh-CN" sz="2400" spc="-1" strike="noStrike">
                <a:solidFill>
                  <a:srgbClr val="000000"/>
                </a:solidFill>
                <a:latin typeface="Verdana"/>
              </a:rPr>
              <a:t>、掌握有关消费者需要、心理活动的难度。越是潜在、复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多变的消费者需要和心理活动，就越难以掌握。比如，消费者对颜</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色、款式、口味等需要，消费者对什么广告更感兴趣、更能被诱导</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购买，都很难把握。把握的难度越大，越需要去深入研究。如果企</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业面对的消费者越广泛、种类越复杂，那么研究的难度也就会提高。</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宋体"/>
              </a:rPr>
              <a:t>2</a:t>
            </a:r>
            <a:r>
              <a:rPr b="0" lang="zh-CN" sz="2400" spc="-1" strike="noStrike">
                <a:solidFill>
                  <a:srgbClr val="000000"/>
                </a:solidFill>
                <a:latin typeface="Verdana"/>
              </a:rPr>
              <a:t>、消费者的需要是否很容易被满足。如果消费者需要很容易</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被满足或缺乏广泛的选择余地而只能降低要求进行购买，那么企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就未必要花大力气去研究消费者的细微需要。在竞争十分激烈、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费者有广泛选择余地的情况下，企业就有必要去探索消费者未被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好满足的潜在需要和细微的心理差别。</a:t>
            </a:r>
            <a:endParaRPr b="0" lang="en-US" sz="2400" spc="-1" strike="noStrike">
              <a:solidFill>
                <a:srgbClr val="000000"/>
              </a:solidFill>
              <a:latin typeface="Times New Roman"/>
            </a:endParaRPr>
          </a:p>
        </p:txBody>
      </p:sp>
      <p:sp>
        <p:nvSpPr>
          <p:cNvPr id="30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4" name=""/>
          <p:cNvSpPr/>
          <p:nvPr/>
        </p:nvSpPr>
        <p:spPr>
          <a:xfrm>
            <a:off x="1831320" y="0"/>
            <a:ext cx="5484240" cy="6070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3</a:t>
            </a:r>
            <a:r>
              <a:rPr b="0" lang="zh-CN" sz="2400" spc="-1" strike="noStrike">
                <a:solidFill>
                  <a:srgbClr val="000000"/>
                </a:solidFill>
                <a:latin typeface="Verdana"/>
              </a:rPr>
              <a:t>、企业制定有针对性的市场营销策略的可能性。研究消费者</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行为是为了开展目标市场营销，提出有针对性的营销策略。这时除</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了要求能够把握好消费者心理和行为之外，企业还应充分了解各种</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销策略、营销要素的类型和特性，要有充分的逻辑分析能力、调</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研数据和丰富的实战经验，从而能了解这些营销要素在作用于消费</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者之后的可能反应，还要能不断开发出新的营销方法和技巧。许多</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消费行为的研究者虽然能分析出人们的细微心理，但经常提不出有</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针对性的营销策略。</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a:t>
            </a:r>
            <a:r>
              <a:rPr b="0" lang="zh-CN" sz="2400" spc="-1" strike="noStrike">
                <a:solidFill>
                  <a:srgbClr val="000000"/>
                </a:solidFill>
                <a:latin typeface="Verdana"/>
              </a:rPr>
              <a:t>、成本和效益的估计。研究消费者、掌握各种市场资料需要代</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价；而如果能据此提出有针对性的营销策略，这也能获得效益。显</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然这两者之间存在一个投入产出问题，如果企业认为对消费者行为</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经常性研究能带来更大的效益，那么就不能轻视这项工作。</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6" name=""/>
          <p:cNvSpPr/>
          <p:nvPr/>
        </p:nvSpPr>
        <p:spPr>
          <a:xfrm>
            <a:off x="1830600" y="0"/>
            <a:ext cx="5667120" cy="7827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根据以上讨论，我们一方面反对企业盲目地对消费者行为进行</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走火入魔的研究，更反对企业至今仍把市场导向当作一句口号，采</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叶公好龙式的态度。</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虽然各个企业在客观上对消费者行为研究的重要性存在差别，</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但是现在世界各国经济普遍进入了买方市场和品牌竞争时代。长期</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地看，任何企业都会面临争夺消费者的激烈竞争。</a:t>
            </a:r>
            <a:r>
              <a:rPr b="0" lang="zh-CN" sz="2400" spc="-1" strike="noStrike">
                <a:solidFill>
                  <a:srgbClr val="000000"/>
                </a:solidFill>
                <a:latin typeface="Verdana"/>
                <a:ea typeface="黑体"/>
              </a:rPr>
              <a:t>企业的竞争活动、</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营销实践的高级化、细微化的趋势，呼唤着企业要对消费者行为进</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行深入研究。相应地在学科层次上和营销专业方向的课程建设上，</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消费者行为就有越来越高的地位</a:t>
            </a:r>
            <a:r>
              <a:rPr b="0" lang="zh-CN" sz="2400" spc="-1" strike="noStrike">
                <a:solidFill>
                  <a:srgbClr val="000000"/>
                </a:solidFill>
                <a:latin typeface="Verdana"/>
              </a:rPr>
              <a:t>。应充分认识到，消费者心理与行</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为不仅是企业营销活动的起点，也是反映营销诸环节工作好坏及成</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败得失的终端。通过企业营销活动最终所引起的心理与行为的反应，</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以逆向地推断企业营销活动中可能存在的问题，并进一步改进企</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业的营销活动。</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市场经济体制下，企业在整个社会中扮演着很重要的角色。</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企业追求盈利的动力十分强大，这种强烈的社会需要是推动市场营</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销学、消费者行为学迅猛发展的主要动因。</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8" name=""/>
          <p:cNvSpPr/>
          <p:nvPr/>
        </p:nvSpPr>
        <p:spPr>
          <a:xfrm>
            <a:off x="1598040" y="0"/>
            <a:ext cx="5979240" cy="5728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消费者行为的合理化方面的价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者总是会自动追求行为的合理化。这样，消费行为是否合</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理这种规范性问题，似乎无法或没有必要进行讨论。其实消费行为</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仅是一个规范性问题，反映了消费者自身的价值观、消费观；而</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且还会涉及到信息不准、判断失误等多种问题，这两者都是可以讨</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论的。消费者的消费支出、消费结构和具体的购买行为都可能出现</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合理的情况：</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消费者作出在事后感到后悔的决策与行动；</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消费行为对自己而言是合理的，但不符合公认的法律规范、道</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德规范，影响或损害了他人利益；</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消费行为不符合消费者自身的整体利益，不利于自身的全面发</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展，甚至是自己明显有害的，消费者虽可能意识到，但由于习惯或</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迫于某种压力，而不能或不愿意改变；</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消费者在某些观念指导下的消费行为，是落后的或不符合自己</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长远利益，只不过他没有意识到而已。</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0" name=""/>
          <p:cNvSpPr/>
          <p:nvPr/>
        </p:nvSpPr>
        <p:spPr>
          <a:xfrm>
            <a:off x="1537200" y="152280"/>
            <a:ext cx="6025320" cy="6957720"/>
          </a:xfrm>
          <a:prstGeom prst="rect">
            <a:avLst/>
          </a:prstGeom>
          <a:noFill/>
          <a:ln w="0">
            <a:noFill/>
          </a:ln>
        </p:spPr>
        <p:style>
          <a:lnRef idx="0"/>
          <a:fillRef idx="0"/>
          <a:effectRef idx="0"/>
          <a:fontRef idx="minor"/>
        </p:style>
        <p:txBody>
          <a:bodyPr wrap="none"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样就有必要通过对消费者行为的研究，提出如下有助于促使</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行为合理化的问题：</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介绍、比较不同的价值观、消费观，以表明什么观念更为先</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进合理。</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介绍、分析消费者的一些心理弱点，以帮助消费者如何去避</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免和克服。</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通过介绍企业可能制定的各种营销策略，使消费者增强反营</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的意识和能力（企业与消费者本来就是对立统一体）。</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通过对消费者购买决策过程的分析，使消费者知道怎样的决</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策过程和选择方式更为合理。</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通过介绍有关消费环境，使消费者能充分利用对自己有利的</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环境（如消费者权益保护法）。</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本书并不以此为重点，但一般消费者仍可从以营销者角度研究</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消费者行为学著作中获取他所需要的东西。</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90200"/>
            <a:ext cx="7772400" cy="5814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第三节 消费者行为研究的方法和分析框架</a:t>
            </a:r>
            <a:endParaRPr b="0" lang="en-US" sz="3200" spc="-1" strike="noStrike">
              <a:solidFill>
                <a:srgbClr val="003366"/>
              </a:solidFill>
              <a:latin typeface="Verdana"/>
            </a:endParaRPr>
          </a:p>
        </p:txBody>
      </p:sp>
      <p:sp>
        <p:nvSpPr>
          <p:cNvPr id="312" name=""/>
          <p:cNvSpPr/>
          <p:nvPr/>
        </p:nvSpPr>
        <p:spPr>
          <a:xfrm>
            <a:off x="0" y="17524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3" name=""/>
          <p:cNvSpPr/>
          <p:nvPr/>
        </p:nvSpPr>
        <p:spPr>
          <a:xfrm>
            <a:off x="0" y="1447920"/>
            <a:ext cx="91440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者行为研究者要面对各种一般的或具体的消费行为问题。如何揭示消费者行为的一般规律，如何发现、分析、预测、解决一个具体消费问题，都需要多种研究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者行为学如同其他任何一门社会科学一样，所运用的研究</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基本是一样的，如科学抽象，分析和综合，质量和数量分析，逻辑和历史的统一，实验方法，社会调查等。但它作为一门独立学科，决定了在这一具体的研究领域中所运用的研究方法有些侧重点或特点。应用有关成熟理论，市场调查、案例研究等是最主要的研究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871200" y="759600"/>
            <a:ext cx="8163000" cy="5814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一、消费者行为研究的方法</a:t>
            </a:r>
            <a:endParaRPr b="0" lang="en-US" sz="32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71200" y="1103400"/>
            <a:ext cx="8163000" cy="5205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一）作为方法的有关成熟理论</a:t>
            </a:r>
            <a:endParaRPr b="0" lang="en-US" sz="2800" spc="-1" strike="noStrike">
              <a:solidFill>
                <a:srgbClr val="003366"/>
              </a:solidFill>
              <a:latin typeface="Verdana"/>
            </a:endParaRPr>
          </a:p>
        </p:txBody>
      </p:sp>
      <p:sp>
        <p:nvSpPr>
          <p:cNvPr id="316" name=""/>
          <p:cNvSpPr/>
          <p:nvPr/>
        </p:nvSpPr>
        <p:spPr>
          <a:xfrm>
            <a:off x="304920" y="198108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一定意义上讲，行为理论与行为学方法是一回事。当我们获得了有关消费者行为学研究对象的某种规律性或理论认识，然后运用这种规律或理论去认识或进一步研究相同层次以及较低层次的对象时，这种规律性或理论的认识就和方法论相统一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消费者行为学是一门边缘学科，因而可以吸收许多学科的研究成果。根据消费者行为研究的内容，有许多与其有密切关系的成熟理论可以用作研究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7" name=""/>
          <p:cNvSpPr/>
          <p:nvPr/>
        </p:nvSpPr>
        <p:spPr>
          <a:xfrm>
            <a:off x="1598760" y="228600"/>
            <a:ext cx="5825520" cy="70372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比较重要的学科理论有：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普通心理学、社会心理学中的许多理论。包括心理过程，心</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理特征（包括个性心理、角色心理、群体心理、集合心理），心理</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倾向，学习理论、习惯养成理论、认知协调理论等等，为消费者行</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研究提供了最为重要的理论基础和方法指导。比如，心理活动过</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实际是消费者购买决策过程的基础；心理特征和心理倾向的研究</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可以用来解释许多消费心理和行为现象，可以作为市场细分的</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些描述变量；学习理论中的条件反射理论可以为广告促销提供理</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论依据。</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属于心理学的需求理论十分重要。马斯洛的需求层次理论分</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析了人类的基本需要以及它们的相互关系，为我们研究消费行为产</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生和发展变化的规律提供了基本线索。马尔的边际效用递减规律、</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需求规律能帮助解释消费者是如何决定购买、使用消费品数量的问</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题。</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104220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三、消费者行为研究重要的原因</a:t>
            </a:r>
            <a:endParaRPr b="0" lang="en-US" sz="3200" spc="-1" strike="noStrike">
              <a:solidFill>
                <a:srgbClr val="003366"/>
              </a:solidFill>
              <a:latin typeface="Verdana"/>
            </a:endParaRPr>
          </a:p>
        </p:txBody>
      </p:sp>
      <p:sp>
        <p:nvSpPr>
          <p:cNvPr id="220" name=""/>
          <p:cNvSpPr/>
          <p:nvPr/>
        </p:nvSpPr>
        <p:spPr>
          <a:xfrm>
            <a:off x="380880" y="1905120"/>
            <a:ext cx="8458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在现代市场营销观念指导下的企业营销活动，从根本上说，是建立在对消费者行为假设的基础上的。营销管理过程的各个阶段都与消费者行为有密切的联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消费者和市场营销调研质量的提高，为重视消费者行为研究提供了支持条件。（见下一页营销数据库  释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对消费者行为研究的充分重视和深刻把握，有利于切实解决一系列观念及相应行为上的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9" name=""/>
          <p:cNvSpPr/>
          <p:nvPr/>
        </p:nvSpPr>
        <p:spPr>
          <a:xfrm>
            <a:off x="1922040" y="0"/>
            <a:ext cx="5484240" cy="7134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经济学理论。许多消费经济学的研究成果与心理学密不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但经济学更强调其经济意义。边际效用价值，需求的价格弹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种收入假定，消费者均衡，恩格尔定律等等，对消费者的消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倾向、消费结构、具体购买数量的确定和变化，有很好的解释预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社会学、人类学的研究成果。消费问题既是一个经济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然也是一个人类的社会问题。社会学，特别是人类学有更广泛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研究领域，这些学科的研究成果有的可以作为一种资料直接充实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费者行为学的内容，有的可以作为一种方法帮助研究消费者行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学的独特研究角和对文化，年龄，性别，婚姻，家庭，社会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层，民族，城市化等等的研究成果可以为消费行为研究提供许多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法和资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1" name=""/>
          <p:cNvSpPr/>
          <p:nvPr/>
        </p:nvSpPr>
        <p:spPr>
          <a:xfrm>
            <a:off x="1754280" y="0"/>
            <a:ext cx="5667120" cy="4909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市场营销学。既然这里强调消费者行为学主要是为企业的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活动服务的，那么市场营销学的许多研究角度也就成了消费者行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的主要研究角度，比如企业特别关心的包装、广告与促销的效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也就必定成了消费者行为学要研究。市场营销学中较为成熟的理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市场细分理论与方法，反过来也就成了分析影响消费者行为因素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依据和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3" name=""/>
          <p:cNvSpPr/>
          <p:nvPr/>
        </p:nvSpPr>
        <p:spPr>
          <a:xfrm>
            <a:off x="1650240" y="0"/>
            <a:ext cx="5850000" cy="52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专论：社会学的三种理论视角对消费者行为研究的贡献</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试图理解社会如何运转的问题上，不同的社会学家对于人类</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社会生活之基本特征，有着不同的假设，主要有三种理论视角：</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功能主义的视角，强调为样一种模式，即社会的每一部分都对总</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体发生作用，由此维持了社会稳定。</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冲突论强调人们因有限的资源、权力和声望而发生的斗争是永恒</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社会现象 ，也是社会变迁的主要源泉。</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互动论的视角更多地研究社会的微观方面，比如人们在日常生活</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中是如何交往的，他们又是如何使这种交往产生实质性意义的。</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运用不同的理论视角，我们可以对观看体育比赛、从事体育活动</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这类具有经济意义的社会活动、消费活动可以作出不同解释。 </a:t>
            </a:r>
            <a:endParaRPr b="0" lang="en-US" sz="2400" spc="-1" strike="noStrike">
              <a:solidFill>
                <a:srgbClr val="000000"/>
              </a:solidFill>
              <a:latin typeface="Times New Roman"/>
            </a:endParaRPr>
          </a:p>
        </p:txBody>
      </p:sp>
      <p:sp>
        <p:nvSpPr>
          <p:cNvPr id="3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5" name=""/>
          <p:cNvSpPr/>
          <p:nvPr/>
        </p:nvSpPr>
        <p:spPr>
          <a:xfrm>
            <a:off x="1849320" y="0"/>
            <a:ext cx="5667120" cy="740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按照功能主义的视角，观看和参与体育活动，也有许多功能。第</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体育为社会上各种各样的人群提供了各式各样的闲暇活动，也即</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观看或参与体育活动能直接满足人们的健身娱乐需要。第二，在许多</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情况下，观看或参与体育活动是要付费的，因而体育能够成为一种重</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的产业，体育活动成了经济活动，能推动国民经济的发展。第三，</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体育为释放社会能量提供了渠道，这种能量如不予以分散，会严重威</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胁社会秩序。最后，体育为社会提供了模范角色。</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按照冲突论的视角，体育也反映了社会的不平等。像大多数其他</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社会设置一样，无论是从事体育比赛，还是观看体育比赛的或是从事</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休闲式的体育活动，都具有阶级、种族、性别不平等的特点。最明显</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是反映在经常进行哪些休闲式体育活动，像马球、网球、滑雪传统</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上就是有钱人的运动，低收入的人一般买不起也养不起马匹，买不起</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贵重的网球、滑雪设备。也有一些运动是典型地起源于穷人和穷人参</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的，如拳击。在中国，羽毛球、乒乓球是典型的平民体育活动，而</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网球、高尔夫球乃是白领以上人士经常进行的体育项目。</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7" name=""/>
          <p:cNvSpPr/>
          <p:nvPr/>
        </p:nvSpPr>
        <p:spPr>
          <a:xfrm>
            <a:off x="1757880" y="0"/>
            <a:ext cx="5850000" cy="718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互动论的视角中的体育，更多的是运动员准备与参与比赛时，</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面对面的动态的互动过程。在活动中，单个的参加者通过象征性符</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号，显示他们遵循着他们社会的重要的规范与价值观。在美国，运</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员的行为应该是反映不惜一切代价去争取胜利这一价值观。在中</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国，曾经提倡过“友谊第一，比赛第二”的观念。在西班牙，斗牛象</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征着崇尚英勇、崇尚运用臂力技巧的价值观。在各种社交活动日益</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增加的今天，同事、朋友共同参与什么体育项目，可以反映双方之</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间的关系，或者说可以成为沟通感情的重要工具。俄罗斯前总统叶</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利钦在位时可谓是“休闲外交”的高手。他除与科尔等一些欧洲国家</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领导人、政府首脑进行“休闲外交”，还与亚洲国家政府首脑进行“休</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闲外交”。</a:t>
            </a:r>
            <a:r>
              <a:rPr b="0" lang="zh-CN" sz="2400" spc="-1" strike="noStrike">
                <a:solidFill>
                  <a:srgbClr val="000000"/>
                </a:solidFill>
                <a:latin typeface="Verdana"/>
              </a:rPr>
              <a:t>1997</a:t>
            </a:r>
            <a:r>
              <a:rPr b="0" lang="zh-CN" sz="2400" spc="-1" strike="noStrike">
                <a:solidFill>
                  <a:srgbClr val="000000"/>
                </a:solidFill>
                <a:latin typeface="Verdana"/>
              </a:rPr>
              <a:t>年，时任日本首相的桥本龙太郎与叶利钦在俄罗斯</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远东小城克拉斯诺亚尔斯克会晤。两人轻装简从、身着便服、不拘</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礼节、昵称相呼。在秋天的绚烂景色中，或在叶尼赛河泛舟，或在</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山间小溪垂钓，或在林间别墅共饮，或在白桦林里漫步。</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9" name=""/>
          <p:cNvSpPr/>
          <p:nvPr/>
        </p:nvSpPr>
        <p:spPr>
          <a:xfrm>
            <a:off x="1697040" y="304920"/>
            <a:ext cx="5667120" cy="324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归纳起来说，从社会学的三种理论视角来看待消费者观看体育</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比赛或参加体育活动，就应从三种角度去理解：一是属于能满足休</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闲健身需要的消费活动，具有经济意义；二是从事何种类型的活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反映消费者的性别、种族、社会阶层等方面的不同，或者说受这</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些因素的影响；三是能反映参与者之间的相互关系，通过相应的活</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能巩固或改变这种关系，达到另一些目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71200" y="1103400"/>
            <a:ext cx="8163000" cy="5205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进行市场调查所要侧重运用的方法</a:t>
            </a:r>
            <a:endParaRPr b="0" lang="en-US" sz="2800" spc="-1" strike="noStrike">
              <a:solidFill>
                <a:srgbClr val="003366"/>
              </a:solidFill>
              <a:latin typeface="Verdana"/>
            </a:endParaRPr>
          </a:p>
        </p:txBody>
      </p:sp>
      <p:sp>
        <p:nvSpPr>
          <p:cNvPr id="331" name=""/>
          <p:cNvSpPr/>
          <p:nvPr/>
        </p:nvSpPr>
        <p:spPr>
          <a:xfrm>
            <a:off x="380880" y="1676520"/>
            <a:ext cx="83059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2" name=""/>
          <p:cNvSpPr/>
          <p:nvPr/>
        </p:nvSpPr>
        <p:spPr>
          <a:xfrm>
            <a:off x="1477080" y="1828800"/>
            <a:ext cx="6374160" cy="48488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无论是进行定性分析还是定量分析，都离不开市场调查。</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进行调查、收集资料的方法很多。首先可以分为两大类，收</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集第一手资料和收集第二手资料。任何调查都希望用尽可能</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少的资金和时间去获得所需要的资料，所以调查者通常先收</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集第二手资料，如果这些资料被认为准确、新鲜、全面的话，</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就未必再去收集昂贵的第一手资料。</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收集第一手资料的主要方法有：观察法、焦点小组访谈</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法，调查法、行为数据法、实验法等。减少成本、尽可能把</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真实情况调查出来，仍然是在收集第一手资料时要注意的。</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根据消费者行为学的特殊研究对象，如下方法应该经常使用：</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3" name=""/>
          <p:cNvSpPr/>
          <p:nvPr/>
        </p:nvSpPr>
        <p:spPr>
          <a:xfrm>
            <a:off x="1727640" y="228600"/>
            <a:ext cx="5872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内省（反思）法。即研究调查者通过对自己消费行为和心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活动的审视与解剖，来了解消费者特殊或一般行为现象及其心理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的一种调查方法。应用内省法的理论依据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人员之间具有一般共性、群体共性和角色共性，可以由此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彼的进行推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如果人们之间存在差异，也可以通过角色转换、设身处地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式加以推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体验法。即参与观察的方法，指观察者参加到被观察对象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的群体和组织中，作为其中的一员，参与日常活动的一种观察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许多消费活动需要通过参与观察法，才能了解、体验到一些细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深层的东西，如娱乐健身活动，旅游活动，奢好品消费活动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5" name=""/>
          <p:cNvSpPr/>
          <p:nvPr/>
        </p:nvSpPr>
        <p:spPr>
          <a:xfrm>
            <a:off x="1635480" y="304920"/>
            <a:ext cx="5904720" cy="6502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深层法。又称投射测验法，它是通过一些无结构性的，或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过经心设计的测验，引出被试者的反应，从中考察被试者所投射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格心理特征的心理测验方法，主要用于探究消费者内心深处的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想法，真实动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两个基本原因需要使用投射测验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消费者不愿意正面回答、真实回答的一些问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消费者难以回答的一些问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正确使用投射测验法的关键，是要能克服被试的心理障碍，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能真实、自由地表达出来；或是采用旁敲侧击把被试难以表达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投射出来。具体方法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罗夏墨渍测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词组联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句子或故事完成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画人测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主题统觉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第三人称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71200" y="1103400"/>
            <a:ext cx="8163000" cy="5205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三）分析资料时需要注意运用的一些方法</a:t>
            </a:r>
            <a:endParaRPr b="0" lang="en-US" sz="2800" spc="-1" strike="noStrike">
              <a:solidFill>
                <a:srgbClr val="003366"/>
              </a:solidFill>
              <a:latin typeface="Verdana"/>
            </a:endParaRPr>
          </a:p>
        </p:txBody>
      </p:sp>
      <p:sp>
        <p:nvSpPr>
          <p:cNvPr id="338" name=""/>
          <p:cNvSpPr/>
          <p:nvPr/>
        </p:nvSpPr>
        <p:spPr>
          <a:xfrm>
            <a:off x="380880" y="2286000"/>
            <a:ext cx="8458200" cy="2844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析资料的基本方法包括分类法、比较法、统计分析法、内容分析法，分析与综合、归纳与演绎、因果分析等。消费者行为学并没有自己另外的研究方法，只是在运用上述方法时，要注意自身学科的特点。应该注意如下问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根据国情进行消费者分类</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运用比较法掌握不同消费者的特殊行为规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运用量表法来反映消费者的心理状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56160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0" lang="zh-CN" sz="3200" spc="-1" strike="noStrike">
                <a:solidFill>
                  <a:srgbClr val="000000"/>
                </a:solidFill>
                <a:latin typeface="Verdana"/>
              </a:rPr>
              <a:t>专门研究消费者行为的原因</a:t>
            </a:r>
            <a:endParaRPr b="0" lang="en-US" sz="3200" spc="-1" strike="noStrike">
              <a:solidFill>
                <a:srgbClr val="003366"/>
              </a:solidFill>
              <a:latin typeface="Verdana"/>
            </a:endParaRPr>
          </a:p>
        </p:txBody>
      </p:sp>
      <p:sp>
        <p:nvSpPr>
          <p:cNvPr id="222" name=""/>
          <p:cNvSpPr/>
          <p:nvPr/>
        </p:nvSpPr>
        <p:spPr>
          <a:xfrm>
            <a:off x="457200" y="990720"/>
            <a:ext cx="86868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消费者市场本身的重要性与复杂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消费者行为与组织购买者行为既有差别，也有共性，从而对后者有借鉴意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面对组织市场时，营销者可把组织购买者当一种特殊消费者，但应该了解两类市场的基本区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71200" y="684360"/>
            <a:ext cx="8163000" cy="5205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四）案例研究法</a:t>
            </a:r>
            <a:endParaRPr b="0" lang="en-US" sz="2800" spc="-1" strike="noStrike">
              <a:solidFill>
                <a:srgbClr val="003366"/>
              </a:solidFill>
              <a:latin typeface="Verdana"/>
            </a:endParaRPr>
          </a:p>
        </p:txBody>
      </p:sp>
      <p:sp>
        <p:nvSpPr>
          <p:cNvPr id="340" name=""/>
          <p:cNvSpPr/>
          <p:nvPr/>
        </p:nvSpPr>
        <p:spPr>
          <a:xfrm>
            <a:off x="0" y="1600200"/>
            <a:ext cx="8686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案例的类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案例内容的性质，可将它分为（狭义的）消费者行为案例和企业市场营销案例两大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案例内容的全面性，可分为专题性案例和综合性案例两大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案例篇幅的长短，可分为小型案例、中型案例和大型案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案例的功能，可分为判断性（分析性）案例和印证性（叙述性）案例两大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240" y="-180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0" lang="zh-CN" sz="3200" spc="-1" strike="noStrike">
                <a:solidFill>
                  <a:srgbClr val="000000"/>
                </a:solidFill>
                <a:latin typeface="Verdana"/>
              </a:rPr>
              <a:t>四、教学要求</a:t>
            </a:r>
            <a:endParaRPr b="0" lang="en-US" sz="3200" spc="-1" strike="noStrike">
              <a:solidFill>
                <a:srgbClr val="003366"/>
              </a:solidFill>
              <a:latin typeface="Verdana"/>
            </a:endParaRPr>
          </a:p>
        </p:txBody>
      </p:sp>
      <p:sp>
        <p:nvSpPr>
          <p:cNvPr id="224" name=""/>
          <p:cNvSpPr/>
          <p:nvPr/>
        </p:nvSpPr>
        <p:spPr>
          <a:xfrm>
            <a:off x="533520" y="15238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801440" y="808200"/>
            <a:ext cx="5648760" cy="5894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一）章节介绍</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部分        </a:t>
            </a:r>
            <a:r>
              <a:rPr b="0" lang="zh-CN" sz="2400" spc="-1" strike="noStrike">
                <a:solidFill>
                  <a:srgbClr val="000000"/>
                </a:solidFill>
                <a:latin typeface="Verdana"/>
              </a:rPr>
              <a:t>导  论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章       消费者行为研究的内容与方法</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研究内容，研究原因，研究方法与框架）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部分   消费者需要与心理活动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章       消费者需要与消费心理</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消费需要，消费心理，需要特征）</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章       消费者的心理活动过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认识过程，感情过程，意志过程）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四章       消费者的购买决策过程及购买行为模式</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购买决策过程，购买行为模式，学习理论及其他）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五章       消费者的心理活动结构</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问题的提出，消费倾向，判断倾向，注意倾向）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
          <p:cNvSpPr/>
          <p:nvPr/>
        </p:nvSpPr>
        <p:spPr>
          <a:xfrm>
            <a:off x="1525680" y="-76320"/>
            <a:ext cx="5667120" cy="5871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部分   影响消费者行为的主要因素</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六章       外部影响因素</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化因素，参考群体与社会流行，政治经济制度，</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企业营销活动）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七章       内部影响因素</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个人因素，家庭因素）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四部分  不同市场的消费行为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八章       不同消费者市场的消费行为</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年龄细分，性别细分，城乡细分，若干特殊市场）</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第九章　   不同消费品市场的消费行为</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饮食市场，服装市场，住宅市场，用品市场，汽车市场</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服务市场）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消费者 行为学 教学课件</cp:keywords>
  <dc:language>en-US</dc:language>
  <cp:lastModifiedBy/>
  <cp:revision>0</cp:revision>
  <dc:subject/>
  <dc:title/>
</cp:coreProperties>
</file>