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0A6-54E2-4B73-BAB5-1284B965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2BB-E7AC-4192-B4A2-A5D6F304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D2E-9CED-4830-9564-CA4EF2CB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5CB-71B4-411E-9204-73A8F23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EE4-05AD-46A2-8E48-C89187C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39C-C235-4F88-8A55-C113395A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93E-EAD0-4ED9-8A8F-4F0C434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448-AA18-4250-8B9E-2B62FFF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95E-80B3-4C3F-85DC-9D38C1C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091-8C36-4C44-ACA1-A5EA83EE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C38-1A2C-463D-B764-EC5F990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604-5A42-4388-AF6D-87E25E8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95A1-0995-4E88-9BD7-3932EF4B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2"/>
          <p:cNvPicPr/>
          <p:nvPr/>
        </p:nvPicPr>
        <p:blipFill>
          <a:blip r:embed="rId1"/>
          <a:srcRect l="0" t="5128" r="6254" b="0"/>
          <a:stretch/>
        </p:blipFill>
        <p:spPr>
          <a:xfrm>
            <a:off x="4643280" y="2637000"/>
            <a:ext cx="3240360" cy="218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64200" y="1701720"/>
            <a:ext cx="17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《小鹿的玫瑰花》课件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47640" y="19162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惋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栽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31014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一只黄莺飞来了。她说：“小鹿，我见过你家那些红玫瑰，可好看了！看着那些花，我就想唱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008000" y="2709720"/>
            <a:ext cx="73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阵微风吹来，说：“小鹿，我闻过你家的玫瑰花，可香了！我带着它的香味吹过森林，大伙儿都夸我是‘玫瑰香风’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2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21"/>
          <p:cNvPicPr/>
          <p:nvPr/>
        </p:nvPicPr>
        <p:blipFill>
          <a:blip r:embed="rId1"/>
          <a:stretch/>
        </p:blipFill>
        <p:spPr>
          <a:xfrm>
            <a:off x="1979640" y="1197000"/>
            <a:ext cx="5148360" cy="45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2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21"/>
          <p:cNvPicPr/>
          <p:nvPr/>
        </p:nvPicPr>
        <p:blipFill>
          <a:blip r:embed="rId1"/>
          <a:stretch/>
        </p:blipFill>
        <p:spPr>
          <a:xfrm>
            <a:off x="0" y="0"/>
            <a:ext cx="4356000" cy="387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1"/>
          <p:cNvPicPr/>
          <p:nvPr/>
        </p:nvPicPr>
        <p:blipFill>
          <a:blip r:embed="rId2"/>
          <a:stretch/>
        </p:blipFill>
        <p:spPr>
          <a:xfrm>
            <a:off x="4356000" y="2198520"/>
            <a:ext cx="4788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36480" y="2170800"/>
            <a:ext cx="868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蝴蝶姑娘飞来了，她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蟋蟀跳过来，他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姑娘跑来，她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755640" y="3401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鹿高兴地笑了，说：“原来我栽的玫瑰是红色的，它们很美丽，还散发着香味。谢谢你们告诉了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955520" y="2637000"/>
            <a:ext cx="560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843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鹿弟弟也高兴地笑了</a:t>
            </a:r>
            <a:r>
              <a:rPr b="1" lang="en-US" sz="4800" spc="-1" strike="noStrike">
                <a:solidFill>
                  <a:srgbClr val="168433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看来，你的玫瑰没有白栽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36ec49860d1a4246f068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24000" y="1916280"/>
            <a:ext cx="92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为别人创造幸福，自己从中也能得到快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钢琴 水边的啊狄丽娜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35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3"/>
          <p:cNvSpPr/>
          <p:nvPr/>
        </p:nvSpPr>
        <p:spPr>
          <a:xfrm>
            <a:off x="2230560" y="588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042920" y="1037520"/>
            <a:ext cx="7267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抽出  终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惋惜  一瘸一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aa41"/>
                </a:solidFill>
                <a:latin typeface="楷体_GB2312"/>
                <a:ea typeface="楷体_GB2312"/>
              </a:rPr>
              <a:t>浇水  躺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8722e"/>
                </a:solidFill>
                <a:latin typeface="楷体_GB2312"/>
                <a:ea typeface="楷体_GB2312"/>
              </a:rPr>
              <a:t>慢慢地      渐渐地      静静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16360" y="47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156360" y="474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916360" y="54640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32000" y="48038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抽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372360" y="48038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41964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132000" y="55245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躺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609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48A-60E4-417E-9C35-DD30FEE1B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6588000" y="6308640"/>
            <a:ext cx="50328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956720" y="6308640"/>
            <a:ext cx="502920" cy="5032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47640" y="19162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栽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6:13:51Z</dcterms:created>
  <dc:creator/>
  <dc:description/>
  <cp:keywords>幻灯片之家 http:/www.eeppt.com</cp:keywords>
  <dc:language>en-US</dc:language>
  <cp:lastModifiedBy/>
  <dcterms:modified xsi:type="dcterms:W3CDTF">2015-07-19T03:16:34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