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528-6800-45AC-BA45-861431A9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CB4-2F42-4578-BB35-7060B57B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6C9-BDA4-4DD4-AE31-82F46E06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139-AC3D-40FA-A783-A5221CED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E77E-3537-4B58-A50D-C3229FD2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7868-A50E-4823-BA04-1AA7531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0D8B-2F9F-4C3B-A4BE-E4CD67B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824E-EB57-45B7-A18F-4565B15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5E04-22C5-4C97-BE0F-C406507B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ACF8-9719-40D9-A071-FBCB2BDD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3BBE-26C8-4AD1-A42D-6E15488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AF9-5E0E-4025-9E69-1EA2B75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2A0B-EAEE-420B-9486-F02D607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1B03-8A02-41B4-B076-52549FE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B12-5DA7-4B15-8083-E25B9A9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B6F6-9BFF-4126-8A6B-5C5C74C5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B0B7-2267-4484-A453-723E180D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DFD-C660-4479-99B6-CD76F65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B92-A850-4299-805F-6713EB8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BEF-BAAD-48F8-9E68-1E366C09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4C6-A98C-48F3-861C-E6E8660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8D1-F457-42E6-BE61-37B047B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759-30A8-4AA3-BD44-C76901A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035-B54D-4990-8A4F-CD42D50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4294-C03F-4D3B-8A48-434A75B96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12EA-0353-4BF7-A655-30BA6CF1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4"/>
          <p:cNvSpPr/>
          <p:nvPr/>
        </p:nvSpPr>
        <p:spPr>
          <a:xfrm>
            <a:off x="7164360" y="35002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8" descr="F:\ppt\704a\人教版四年级语文上册《小木偶的故事》PPT课件\20091013_1a5955e2bcdd37f76255EUulTlgjB0Y9.gif"/>
          <p:cNvPicPr/>
          <p:nvPr/>
        </p:nvPicPr>
        <p:blipFill>
          <a:blip r:embed="rId17"/>
          <a:stretch/>
        </p:blipFill>
        <p:spPr>
          <a:xfrm>
            <a:off x="5181480" y="1352520"/>
            <a:ext cx="4440240" cy="6253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95076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66348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967120" y="16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46920" y="765000"/>
            <a:ext cx="29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小木偶的故事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D43-C861-42A6-BDCB-1C42BD9D2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拽 茸  副 怜  魔 杖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8720" y="5157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9280" y="1844640"/>
            <a:ext cx="8839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奇  增添  笑嘻嘻  愣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拽住  撒谎  毛茸茸  委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愤怒  温柔  龇牙咧嘴 厉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怜  魔杖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09480" y="1736640"/>
            <a:ext cx="77724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神奇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热闹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愤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灵活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05" name="Oval 5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8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神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19564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愤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喧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11280" y="3429000"/>
            <a:ext cx="81388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重要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340000" y="350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796000" y="249228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敏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308720" y="3429000"/>
            <a:ext cx="14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2319480" y="3860640"/>
            <a:ext cx="9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2320920" y="3879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09480" y="1736640"/>
            <a:ext cx="777240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愤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撒谎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神奇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）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灵活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重要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19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6"/>
          <p:cNvSpPr/>
          <p:nvPr/>
        </p:nvSpPr>
        <p:spPr>
          <a:xfrm>
            <a:off x="2268360" y="177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268360" y="249228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稀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诚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39640" y="35002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987640" y="5805360"/>
            <a:ext cx="24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920920" y="244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呆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2484000" y="325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次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5"/>
          <p:cNvSpPr/>
          <p:nvPr/>
        </p:nvSpPr>
        <p:spPr>
          <a:xfrm>
            <a:off x="75564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187280" y="54936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端：小木偶只会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90000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050920" y="1916280"/>
            <a:ext cx="287640" cy="11570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9"/>
          <p:cNvSpPr/>
          <p:nvPr/>
        </p:nvSpPr>
        <p:spPr>
          <a:xfrm>
            <a:off x="5867280" y="191628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0"/>
          <p:cNvSpPr/>
          <p:nvPr/>
        </p:nvSpPr>
        <p:spPr>
          <a:xfrm>
            <a:off x="2988720" y="155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木偶被熊警官冤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6302160" y="19890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会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2195640" y="3645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女巫赋予小木偶所有的表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1"/>
          <p:cNvSpPr/>
          <p:nvPr/>
        </p:nvSpPr>
        <p:spPr>
          <a:xfrm rot="10800000">
            <a:off x="7524360" y="549000"/>
            <a:ext cx="576360" cy="51814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988720" y="2781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木偶被老婆婆误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7750080" y="1628640"/>
            <a:ext cx="10335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会笑是永远不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3960" y="128700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幸福是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0"/>
          <p:cNvSpPr/>
          <p:nvPr/>
        </p:nvSpPr>
        <p:spPr>
          <a:xfrm>
            <a:off x="2268360" y="5157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局：小木偶终于获得了真正的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1"/>
          <p:cNvSpPr/>
          <p:nvPr/>
        </p:nvSpPr>
        <p:spPr>
          <a:xfrm>
            <a:off x="126144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2"/>
          <p:cNvSpPr/>
          <p:nvPr/>
        </p:nvSpPr>
        <p:spPr>
          <a:xfrm>
            <a:off x="2340000" y="2205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木偶被小白兔怀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PM_001"/>
          <p:cNvPicPr/>
          <p:nvPr/>
        </p:nvPicPr>
        <p:blipFill>
          <a:blip r:embed="rId2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11280" y="105264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明白道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会笑是永远不够的，要用我们的真情、用不同的方式去体验生活、面对生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/>
  <dc:description/>
  <cp:keywords>幻灯片之家 http:/www.eeppt.com</cp:keywords>
  <dc:language>en-US</dc:language>
  <cp:lastModifiedBy/>
  <dcterms:modified xsi:type="dcterms:W3CDTF">2015-07-19T03:15:12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