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296-7A2C-4681-B526-DBA48FAE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54D-1F91-47A3-905F-2D29EF1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C4B-383C-439F-B709-5635AFF7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944-D34E-46D5-AA6D-24392F7B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AB7-5A5F-454B-9387-1F063E88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5666-52B0-43D0-AB50-8648F203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8BEB-2DCD-4325-85DF-FF9CBE6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9212-25CF-4A1B-A472-9DFF9AF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DCB-BFDB-4044-9375-9636317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68DC-7C42-4F63-A1DC-9F31339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E513-51D7-402C-B6E2-9D866143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53F-8858-49E4-A9A0-09400E3E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E581-E622-4262-90D4-FB93CC7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E2FC-D05C-440A-BDBC-17CE2AB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14B-B478-4F1A-AC7C-2A210D1C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4B56-875F-46B1-BB6C-28AF06D2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8EA3-64D4-418F-B4B4-DF174828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52E-98E0-4A3C-BE46-B65809CA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832-EEEE-4448-9E59-99A0B4F1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6F1-F554-48FE-A8B3-01EE8D87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905-4964-4FFE-ADC9-DEA3E77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897-4933-4BB1-9DBA-7102E5D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E8A-95B2-4B43-B0B6-42D3A4A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532-1B6D-4A28-A4E8-F7E2E67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9A8-CB92-4DBF-8045-2E81F6D716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0520"/>
            <a:ext cx="16903800" cy="10794600"/>
            <a:chOff x="-7759800" y="146052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AB4-468E-41DC-A09F-0EE9816E32A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0464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信息技术与经济发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74674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.1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信息技术与生产力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.2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信息技术与经济增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.3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信息技术与可持续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4955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108160"/>
            <a:ext cx="7467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  <a:ea typeface="楷体_GB2312"/>
              </a:rPr>
              <a:t>每年春季南极大气中的臭氧层一直在变薄，事实上在极地大气中存在一个臭氧“洞”</a:t>
            </a:r>
            <a:r>
              <a:rPr b="0" lang="zh-CN" sz="4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060640"/>
            <a:ext cx="74674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环境破坏和污染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2200" spc="-1" strike="noStrike">
                <a:solidFill>
                  <a:srgbClr val="ffff00"/>
                </a:solidFill>
                <a:latin typeface="Tahoma"/>
                <a:ea typeface="楷体_GB2312"/>
              </a:rPr>
              <a:t>水污染</a:t>
            </a:r>
            <a:r>
              <a:rPr b="0" lang="zh-CN" sz="2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989000"/>
            <a:ext cx="746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2200" spc="-1" strike="noStrike">
                <a:solidFill>
                  <a:srgbClr val="ffff00"/>
                </a:solidFill>
                <a:latin typeface="Tahoma"/>
                <a:ea typeface="楷体_GB2312"/>
              </a:rPr>
              <a:t>固体废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708280"/>
            <a:ext cx="7467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上述问题已经让人类深刻体会到大自然对我们的惩罚，但是有一些鼠目寸光者为了眼前的利益，为了所谓政绩，置子孙后代的未来而不顾，继续污染环境，破坏自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523880"/>
            <a:ext cx="74674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可持续发展的含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保护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经济核心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位一体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全面发展的人本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523880"/>
            <a:ext cx="746748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中国可持续发展战略的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经济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社会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资源优化配置、合理利用与保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态保护和建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保护和污染防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80880"/>
            <a:ext cx="259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第七章 小   结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95280"/>
            <a:ext cx="82296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讨论题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信息在生产力系统中的作用是什么？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信息技术对经济增长的作用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可持续发展的含义是什么？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信息技术对可持续发展的作用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268280"/>
            <a:ext cx="74674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科学技术以前所未有的速度和规模迅猛发展，增强了人类改造自然的能力，给人类社会带来空前的繁荣，然而，长期掠夺式资源开发，必将受到大自然的惩罚。恩格斯说：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ahoma"/>
                <a:ea typeface="楷体_GB2312"/>
              </a:rPr>
              <a:t>“不要过分陶醉于我们对自然界的胜利。对于每一次这样的胜利，自然界都报复了我们。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133720"/>
            <a:ext cx="746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绿地沙漠化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8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133720"/>
            <a:ext cx="7467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在官厅水库南岸的怀来县境内，每年约有十几万吨黄沙随风飘来，形成沙丘，被当地人称作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漠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近十几年沙丘提高了八、九米，这堆沙丘距离北京市区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0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公里，并且每年向东南方向推进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8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133720"/>
            <a:ext cx="746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8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干旱的土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8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34936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2060640"/>
            <a:ext cx="746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温室效应及危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4305240" cy="3353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221000"/>
            <a:ext cx="7467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工业废气导致酸雨的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42100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34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 技术 经济 发展</cp:keywords>
  <dc:language>en-US</dc:language>
  <cp:lastModifiedBy/>
  <cp:revision>0</cp:revision>
  <dc:subject/>
  <dc:title/>
</cp:coreProperties>
</file>