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826-B23C-4277-A261-223D446F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A7B-14C9-47AA-A967-5BB68AB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B65-870D-48AD-AAB2-A9C412AF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F6B-25FC-443E-942A-EC67298B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3933-91B3-4B23-BAD3-2BEFE95A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6078-91C3-4D25-B7E5-771B87C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8BCA-E2D4-44E8-9011-88C9584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BA0-BB9B-4D08-94B9-715BEE98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2DA-93FE-4243-BC66-5BAA15A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852-C7D1-444C-84C9-411F5A75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218-F05B-4489-AC56-61335B9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D60-0B69-430B-9240-FA8E3C8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02C1-4139-4E50-A61B-044ED41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C7D8-7CC4-4930-8DAD-14468E2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2CEE-E503-4F2A-8DBD-04BE2202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1BD4-D210-470D-A683-7BA53B9F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0B8-AC54-4D9B-B1DC-BAE414F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FB9-A595-47F4-BC36-E335DB7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CCA-6467-4C40-B81E-74A2E8A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4D5-42BE-44BA-B0BB-2E9F0BF0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95D-D2FE-4D8D-AE7E-56A779D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5AB-8A0F-412F-9CD4-779708C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B84-D970-412B-A68E-EB33DE7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E4C-702B-4D85-BC86-B2AADBB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224-B6B7-46B3-8BF3-4C2C80494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9AA-3B34-4017-8856-801C2457AB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9240" y="32004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养花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124080" y="609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生字新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190512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置之不理  三年五载  秉烛夜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循环   昙花   菊秧   砸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352680" y="390060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多音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04920" y="5257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尽管  无穷无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905120" y="213372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隶书"/>
              </a:rPr>
              <a:t>趵突泉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隶书"/>
              <a:ea typeface="隶书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905120" y="334656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隶书"/>
              </a:rPr>
              <a:t>草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隶书"/>
              <a:ea typeface="隶书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1905120" y="456552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猫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57200" y="5176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听一听老舍先生的其它作品，谈谈你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《趵突泉》朗读.wav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《草原》朗读.mp3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《猫》朗读.mp3" descr=""/>
          <p:cNvPicPr/>
          <p:nvPr/>
        </p:nvPicPr>
        <p:blipFill>
          <a:blip r:embed="rId3"/>
          <a:stretch/>
        </p:blipFill>
        <p:spPr>
          <a:xfrm>
            <a:off x="4800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F1D-C154-4FE5-9037-8C9F47526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220968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把自己最喜欢的部分读给大家听。谈谈已经读懂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花草自己会奋斗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养花其实很辛苦，而老舍先生为什么把养花当作生活中的一种乐趣？养花到底有哪些乐趣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971800" y="85248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宋体"/>
                <a:ea typeface="华文行楷"/>
              </a:rPr>
              <a:t>初读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2720" y="5805360"/>
            <a:ext cx="856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2280" y="1905120"/>
            <a:ext cx="74678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作者为什么说得感谢它们（花草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作者两次使用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腰酸腿疼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热汗直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，你认为作者是在抱怨养花劳累吗？为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不劳动，连棵花也养不活，这难道不是真理吗？ 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说明什么道理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971800" y="68580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宋体"/>
                <a:ea typeface="华文行楷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3"/>
          <p:cNvSpPr/>
          <p:nvPr/>
        </p:nvSpPr>
        <p:spPr>
          <a:xfrm>
            <a:off x="609480" y="304920"/>
            <a:ext cx="72392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本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生字，能正确读写下列词语：工夫、置之不理、三年五载、循环、自生自灭、一来二去、门道、昙花、秉烛夜游、见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有感情地朗读课文。背诵自己喜欢的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理解课文内容，体会作者从养花中得到的乐趣，培养热爱生活、健康向上的思想感情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习作者叙事具体、清楚的表达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:\Documents and Settings\kz\My Documents\课件知识树2.bmp"/>
          <p:cNvPicPr/>
          <p:nvPr/>
        </p:nvPicPr>
        <p:blipFill>
          <a:blip r:embed="rId1"/>
          <a:stretch/>
        </p:blipFill>
        <p:spPr>
          <a:xfrm>
            <a:off x="0" y="0"/>
            <a:ext cx="8839080" cy="6932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2">
            <a:hlinkClick r:id="" action="ppaction://hlinkshowjump?jump=endshow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4" h="21600">
                <a:moveTo>
                  <a:pt x="16480" y="10800"/>
                </a:moveTo>
                <a:lnTo>
                  <a:pt x="5918" y="17844"/>
                </a:lnTo>
                <a:lnTo>
                  <a:pt x="5918" y="3756"/>
                </a:lnTo>
                <a:close/>
              </a:path>
              <a:path fill="darken" w="25924" h="21600">
                <a:moveTo>
                  <a:pt x="18335" y="3756"/>
                </a:moveTo>
                <a:lnTo>
                  <a:pt x="18335" y="17844"/>
                </a:lnTo>
                <a:lnTo>
                  <a:pt x="20006" y="17844"/>
                </a:lnTo>
                <a:lnTo>
                  <a:pt x="20006" y="375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6172200" y="4495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304920" y="1014480"/>
            <a:ext cx="8381880" cy="5689440"/>
            <a:chOff x="304920" y="1014480"/>
            <a:chExt cx="8381880" cy="5689440"/>
          </a:xfrm>
        </p:grpSpPr>
        <p:sp>
          <p:nvSpPr>
            <p:cNvPr id="91" name="WordArt 5"/>
            <p:cNvSpPr txBox="1"/>
            <p:nvPr/>
          </p:nvSpPr>
          <p:spPr>
            <a:xfrm>
              <a:off x="4419720" y="5942160"/>
              <a:ext cx="41911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作者简介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2" name="WordArt 6"/>
            <p:cNvSpPr txBox="1"/>
            <p:nvPr/>
          </p:nvSpPr>
          <p:spPr>
            <a:xfrm>
              <a:off x="304920" y="4265640"/>
              <a:ext cx="41911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学习词语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3" name="WordArt 7"/>
            <p:cNvSpPr txBox="1"/>
            <p:nvPr/>
          </p:nvSpPr>
          <p:spPr>
            <a:xfrm>
              <a:off x="2286000" y="2362320"/>
              <a:ext cx="2514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朗读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4" name="WordArt 9"/>
            <p:cNvSpPr txBox="1"/>
            <p:nvPr/>
          </p:nvSpPr>
          <p:spPr>
            <a:xfrm>
              <a:off x="4496040" y="5103720"/>
              <a:ext cx="41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扩展学习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6227640" y="101448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叙事具体、清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本文作者。现代小说家、戏剧家。原名舒庆春，字舍予，北京人，出身于贫民家庭。我国现代文学史上具有独特风格的杰出作家、语言艺术大师。曾任政务院文教委员会委员、历届全国人民代表大会代表、中国文联副主席、中国作家协会副主席、北京市文联主席等职。著作丰富。解放前创作的《骆驼祥子》等，对旧社会进行了揭露和批判。新中国成立后，先后创作了话剧《龙须沟》、《春华秋实》、《茶馆》，小说《无名高地有了名》和其他各种形式的文艺作品，歌颂新社会，语言生动、幽默，被誉为“人民艺术家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3252960" y="15048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D:\资源库\下学期\五年级\第四单元\13.养花\媒体素材\老舍照片.jpg"/>
          <p:cNvPicPr/>
          <p:nvPr/>
        </p:nvPicPr>
        <p:blipFill>
          <a:blip r:embed="rId1"/>
          <a:stretch/>
        </p:blipFill>
        <p:spPr>
          <a:xfrm>
            <a:off x="1600200" y="0"/>
            <a:ext cx="54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D:\资源库\下学期\五年级\第四单元\13.养花\媒体素材\晚年标准像.jpg"/>
          <p:cNvPicPr/>
          <p:nvPr/>
        </p:nvPicPr>
        <p:blipFill>
          <a:blip r:embed="rId1"/>
          <a:stretch/>
        </p:blipFill>
        <p:spPr>
          <a:xfrm>
            <a:off x="2473200" y="0"/>
            <a:ext cx="47656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9"/>
          <p:cNvSpPr/>
          <p:nvPr/>
        </p:nvSpPr>
        <p:spPr>
          <a:xfrm>
            <a:off x="762120" y="1733400"/>
            <a:ext cx="7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晚年标准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资源库\下学期\五年级\第四单元\13.养花\媒体素材\60年代老舍速写（叶浅予画）.jpg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4548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905120" y="55166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代老舍速写（叶浅予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D:\资源库\下学期\五年级\第四单元\13.养花\媒体素材\老舍最后的照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305920" y="304920"/>
            <a:ext cx="53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老舍最后的照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:\资源库\下学期\五年级\第四单元\13.养花\媒体素材\《茶馆》手稿.jpg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4008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《茶馆》手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4:26Z</dcterms:created>
  <dc:creator/>
  <dc:description/>
  <cp:keywords>幻灯片之家 http:/www.eeppt.com</cp:keywords>
  <dc:language>en-US</dc:language>
  <cp:lastModifiedBy/>
  <dcterms:modified xsi:type="dcterms:W3CDTF">2015-07-20T01:27:0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