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F2CF-1F3A-4B36-AC1E-A6C1055C1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678A-7FCF-4596-8A58-93B61581F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1ADD-2C11-402B-97F4-3AE160216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EAED-F846-4784-AE74-23AA37E8C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1F55-905B-44D6-B562-5C090F380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2A88-FE2F-4A59-9230-599405EB0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2C85-ADB8-4CC0-B9CA-6A44FA853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77B2-0D1D-4431-AF08-8F4A03E6A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12FC-A6FC-444C-93BE-ACD008FC5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DDE4-2C1D-4115-8694-0A984A7F5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BCED-E033-4CD6-9EAA-A899F5994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5F90-DAEE-40AB-9F58-051AFC905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802-0CB8-4252-AD23-58366CA371F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一家人的旅遊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報告人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1099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481E-890C-40E7-873A-0B790F075A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遠足行程表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時間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地點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攜帶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水壺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帽子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餐點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外套……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注意事項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記得帶錢喔</a:t>
            </a:r>
            <a:r>
              <a:rPr b="0" lang="zh-TW" sz="3200" spc="-1" strike="noStrike">
                <a:solidFill>
                  <a:srgbClr val="0000ff"/>
                </a:solidFill>
                <a:latin typeface="Times New Roman"/>
              </a:rPr>
              <a:t>!!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6F86-11FB-44F7-BCAB-31FDFDE3CA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XX</a:t>
            </a:r>
            <a:r>
              <a:rPr b="0" lang="zh-TW" sz="4400" spc="-1" strike="noStrike">
                <a:solidFill>
                  <a:srgbClr val="ff9900"/>
                </a:solidFill>
                <a:latin typeface="Times New Roman"/>
              </a:rPr>
              <a:t>村簡介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村為一複合式主題遊樂園，除了有緊張刺激的現代遊樂設施（例如：火山歷險、大怒神、西部瘋狂列車、大海盜、獨木舟等）外，建築建材、招牌燈飾、服務人員的服裝、表演活動、餐飲、紀念商品等，都具有相當的特色。全區分為六個主題區，為一趣味活潑的旅遊休閒國度。六福村樂園，該園分為四大主題：美國大西部、南太平洋館、野生動物王國、阿拉伯皇宮，模仿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1881</a:t>
            </a:r>
            <a:r>
              <a:rPr b="1" lang="zh-TW" sz="1800" spc="-1" strike="noStrike">
                <a:solidFill>
                  <a:srgbClr val="0000ff"/>
                </a:solidFill>
                <a:latin typeface="Times New Roman"/>
              </a:rPr>
              <a:t>年美國西部鄉村，走進這裡彷彿進入十九世紀美國大西部鄉村街景，讓人有異國風味感受，為全台唯一與眾不同，值得您一遊再遊的樂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一家人的旅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E9F4-DD6F-402C-AC1C-18857B4BE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一家人 旅游</cp:keywords>
  <dc:language>en-US</dc:language>
  <cp:lastModifiedBy/>
  <cp:revision>0</cp:revision>
  <dc:subject/>
  <dc:title/>
</cp:coreProperties>
</file>