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417-D2B5-421D-8F6D-C6426DE7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87E3-DD75-47E4-A743-83DEEC7F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09E-30CD-4C71-A339-329E1521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DF01-67F8-473E-B078-97D1520B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AE6-A0BA-4740-9CE8-42C8C0B1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D85D-CA13-45FF-B287-A3EF4EDC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FE5-84F9-4D6A-80E7-61E608A9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90DF-F795-4883-BA1D-0C9E2CCC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EBDD-3ACD-4BE5-8238-A8AA966B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4858-2B11-4266-8F5A-95267C37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294-A06A-432F-8B54-F419DBF6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36F-C379-4F27-BE96-D0E9A08F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24AC-F9F5-455F-AAA8-7AD8BE39A9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25146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方正舒体简体"/>
              </a:rPr>
              <a:t>压力和压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521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481840" y="4415040"/>
            <a:ext cx="579240" cy="695520"/>
            <a:chOff x="2481840" y="4415040"/>
            <a:chExt cx="579240" cy="695520"/>
          </a:xfrm>
        </p:grpSpPr>
        <p:sp>
          <p:nvSpPr>
            <p:cNvPr id="44" name=""/>
            <p:cNvSpPr/>
            <p:nvPr/>
          </p:nvSpPr>
          <p:spPr>
            <a:xfrm rot="12686400">
              <a:off x="2609640" y="4576320"/>
              <a:ext cx="152280" cy="5335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7014600">
              <a:off x="2657160" y="4429080"/>
              <a:ext cx="293760" cy="426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2514600" cy="2097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1842000">
            <a:off x="1242720" y="4827600"/>
            <a:ext cx="3429000" cy="21276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5791320"/>
            <a:ext cx="2819520" cy="838080"/>
          </a:xfrm>
          <a:prstGeom prst="wedgeRectCallout">
            <a:avLst>
              <a:gd name="adj1" fmla="val 31754"/>
              <a:gd name="adj2" fmla="val -131819"/>
            </a:avLst>
          </a:prstGeom>
          <a:solidFill>
            <a:srgbClr val="ff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什么那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205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0" y="304920"/>
            <a:ext cx="3886200" cy="685800"/>
          </a:xfrm>
          <a:prstGeom prst="wedgeRectCallout">
            <a:avLst>
              <a:gd name="adj1" fmla="val -77819"/>
              <a:gd name="adj2" fmla="val 27546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轨为什么铺在枕木上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47800" y="690480"/>
            <a:ext cx="3905280" cy="5558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11621400">
            <a:off x="4190760" y="2133360"/>
            <a:ext cx="20952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0749200">
            <a:off x="4800600" y="2133360"/>
            <a:ext cx="20952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1371600"/>
            <a:ext cx="3276720" cy="685800"/>
          </a:xfrm>
          <a:prstGeom prst="wedgeRectCallout">
            <a:avLst>
              <a:gd name="adj1" fmla="val -79361"/>
              <a:gd name="adj2" fmla="val 133333"/>
            </a:avLst>
          </a:prstGeom>
          <a:solidFill>
            <a:srgbClr val="ff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书包带为什么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562720" y="0"/>
          <a:ext cx="3581280" cy="234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0"/>
                    <a:ext cx="358128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19320" y="3429000"/>
          <a:ext cx="3124080" cy="25034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429000"/>
                    <a:ext cx="312408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724280" y="3429000"/>
          <a:ext cx="2819520" cy="211140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3429000"/>
                    <a:ext cx="281952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676520" y="533520"/>
          <a:ext cx="2808000" cy="210348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33520"/>
                    <a:ext cx="280800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5409720" y="282600"/>
            <a:ext cx="2210040" cy="1622520"/>
            <a:chOff x="5409720" y="282600"/>
            <a:chExt cx="2210040" cy="1622520"/>
          </a:xfrm>
        </p:grpSpPr>
        <p:grpSp>
          <p:nvGrpSpPr>
            <p:cNvPr id="64" name=""/>
            <p:cNvGrpSpPr/>
            <p:nvPr/>
          </p:nvGrpSpPr>
          <p:grpSpPr>
            <a:xfrm>
              <a:off x="5409720" y="1600200"/>
              <a:ext cx="2210040" cy="304920"/>
              <a:chOff x="5409720" y="1600200"/>
              <a:chExt cx="2210040" cy="304920"/>
            </a:xfrm>
          </p:grpSpPr>
          <p:sp>
            <p:nvSpPr>
              <p:cNvPr id="65" name=""/>
              <p:cNvSpPr/>
              <p:nvPr/>
            </p:nvSpPr>
            <p:spPr>
              <a:xfrm>
                <a:off x="5410080" y="1600200"/>
                <a:ext cx="220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5409720" y="160020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5638320" y="16002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5943240" y="16002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6247800" y="16002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6552720" y="16002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6933960" y="16002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7162560" y="1600200"/>
                <a:ext cx="1526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7391160" y="16002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 flipV="1">
              <a:off x="5410080" y="762120"/>
              <a:ext cx="21337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0280600">
              <a:off x="5943240" y="456840"/>
              <a:ext cx="1066680" cy="685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295280" y="3276720"/>
            <a:ext cx="1523880" cy="2210040"/>
            <a:chOff x="1295280" y="3276720"/>
            <a:chExt cx="1523880" cy="2210040"/>
          </a:xfrm>
        </p:grpSpPr>
        <p:grpSp>
          <p:nvGrpSpPr>
            <p:cNvPr id="77" name=""/>
            <p:cNvGrpSpPr/>
            <p:nvPr/>
          </p:nvGrpSpPr>
          <p:grpSpPr>
            <a:xfrm>
              <a:off x="2514240" y="3276720"/>
              <a:ext cx="304920" cy="2210040"/>
              <a:chOff x="2514240" y="3276720"/>
              <a:chExt cx="304920" cy="2210040"/>
            </a:xfrm>
          </p:grpSpPr>
          <p:sp>
            <p:nvSpPr>
              <p:cNvPr id="78" name=""/>
              <p:cNvSpPr/>
              <p:nvPr/>
            </p:nvSpPr>
            <p:spPr>
              <a:xfrm flipV="1">
                <a:off x="2514240" y="3276720"/>
                <a:ext cx="0" cy="220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514240" y="52581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514240" y="50295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514240" y="472464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14240" y="442008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514240" y="41151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514240" y="3809880"/>
                <a:ext cx="228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514240" y="35812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514240" y="3352680"/>
                <a:ext cx="228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1981080" y="3809880"/>
              <a:ext cx="53316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95280" y="4267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824400" y="34956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8200" y="4038480"/>
            <a:ext cx="9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&gt;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638320" y="3427560"/>
            <a:ext cx="2210400" cy="1677600"/>
            <a:chOff x="5638320" y="3427560"/>
            <a:chExt cx="2210400" cy="1677600"/>
          </a:xfrm>
        </p:grpSpPr>
        <p:grpSp>
          <p:nvGrpSpPr>
            <p:cNvPr id="92" name=""/>
            <p:cNvGrpSpPr/>
            <p:nvPr/>
          </p:nvGrpSpPr>
          <p:grpSpPr>
            <a:xfrm>
              <a:off x="5638320" y="3427560"/>
              <a:ext cx="2210400" cy="307800"/>
              <a:chOff x="5638320" y="3427560"/>
              <a:chExt cx="2210400" cy="307800"/>
            </a:xfrm>
          </p:grpSpPr>
          <p:sp>
            <p:nvSpPr>
              <p:cNvPr id="93" name=""/>
              <p:cNvSpPr/>
              <p:nvPr/>
            </p:nvSpPr>
            <p:spPr>
              <a:xfrm flipH="1" flipV="1">
                <a:off x="5638320" y="3731760"/>
                <a:ext cx="2209680" cy="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7619760" y="3506760"/>
                <a:ext cx="2289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7391160" y="3430080"/>
                <a:ext cx="2293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7086240" y="3429360"/>
                <a:ext cx="2293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6781680" y="3429000"/>
                <a:ext cx="2293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6476760" y="3428640"/>
                <a:ext cx="2293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6171480" y="3504240"/>
                <a:ext cx="1530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5942880" y="3427560"/>
                <a:ext cx="1533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5714280" y="3503520"/>
                <a:ext cx="1530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171840" y="3733920"/>
              <a:ext cx="1067040" cy="533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629040" y="426672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28960" y="12193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760" y="1143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20080" y="36576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0" y="37339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1880" y="3657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066320" y="304920"/>
            <a:ext cx="2210040" cy="1371600"/>
            <a:chOff x="1066320" y="304920"/>
            <a:chExt cx="2210040" cy="1371600"/>
          </a:xfrm>
        </p:grpSpPr>
        <p:grpSp>
          <p:nvGrpSpPr>
            <p:cNvPr id="110" name=""/>
            <p:cNvGrpSpPr/>
            <p:nvPr/>
          </p:nvGrpSpPr>
          <p:grpSpPr>
            <a:xfrm>
              <a:off x="1066320" y="1371600"/>
              <a:ext cx="2210040" cy="304920"/>
              <a:chOff x="1066320" y="1371600"/>
              <a:chExt cx="2210040" cy="304920"/>
            </a:xfrm>
          </p:grpSpPr>
          <p:sp>
            <p:nvSpPr>
              <p:cNvPr id="111" name=""/>
              <p:cNvSpPr/>
              <p:nvPr/>
            </p:nvSpPr>
            <p:spPr>
              <a:xfrm>
                <a:off x="1066680" y="1371600"/>
                <a:ext cx="220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1066320" y="137160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1294920" y="13716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599840" y="13716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1904400" y="13716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209320" y="13716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590560" y="1371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2819160" y="1371600"/>
                <a:ext cx="1526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047760" y="1371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1752480" y="304920"/>
              <a:ext cx="762120" cy="106668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234360 h 1066680"/>
                <a:gd name="textAreaBottom" fmla="*/ 8323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2320" y="546120"/>
              <a:ext cx="393480" cy="507960"/>
            </a:xfrm>
            <a:custGeom>
              <a:avLst/>
              <a:gdLst/>
              <a:ahLst/>
              <a:rect l="l" t="t" r="r" b="b"/>
              <a:pathLst>
                <a:path w="248" h="320">
                  <a:moveTo>
                    <a:pt x="48" y="40"/>
                  </a:moveTo>
                  <a:cubicBezTo>
                    <a:pt x="140" y="20"/>
                    <a:pt x="232" y="0"/>
                    <a:pt x="240" y="40"/>
                  </a:cubicBezTo>
                  <a:cubicBezTo>
                    <a:pt x="248" y="80"/>
                    <a:pt x="136" y="240"/>
                    <a:pt x="96" y="280"/>
                  </a:cubicBezTo>
                  <a:cubicBezTo>
                    <a:pt x="56" y="320"/>
                    <a:pt x="16" y="280"/>
                    <a:pt x="0" y="28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5409720" y="282600"/>
            <a:ext cx="2210040" cy="1622520"/>
            <a:chOff x="5409720" y="282600"/>
            <a:chExt cx="2210040" cy="1622520"/>
          </a:xfrm>
        </p:grpSpPr>
        <p:grpSp>
          <p:nvGrpSpPr>
            <p:cNvPr id="123" name=""/>
            <p:cNvGrpSpPr/>
            <p:nvPr/>
          </p:nvGrpSpPr>
          <p:grpSpPr>
            <a:xfrm>
              <a:off x="5409720" y="1600200"/>
              <a:ext cx="2210040" cy="304920"/>
              <a:chOff x="5409720" y="1600200"/>
              <a:chExt cx="2210040" cy="304920"/>
            </a:xfrm>
          </p:grpSpPr>
          <p:sp>
            <p:nvSpPr>
              <p:cNvPr id="124" name=""/>
              <p:cNvSpPr/>
              <p:nvPr/>
            </p:nvSpPr>
            <p:spPr>
              <a:xfrm>
                <a:off x="5410080" y="1600200"/>
                <a:ext cx="220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5409720" y="160020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5638320" y="16002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5943240" y="16002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247800" y="16002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6552720" y="16002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6933960" y="16002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7162560" y="1600200"/>
                <a:ext cx="1526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7391160" y="16002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 flipV="1">
              <a:off x="5410080" y="762120"/>
              <a:ext cx="21337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280600">
              <a:off x="5943240" y="456840"/>
              <a:ext cx="1066680" cy="685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295280" y="3276720"/>
            <a:ext cx="1523880" cy="2210040"/>
            <a:chOff x="1295280" y="3276720"/>
            <a:chExt cx="1523880" cy="2210040"/>
          </a:xfrm>
        </p:grpSpPr>
        <p:grpSp>
          <p:nvGrpSpPr>
            <p:cNvPr id="136" name=""/>
            <p:cNvGrpSpPr/>
            <p:nvPr/>
          </p:nvGrpSpPr>
          <p:grpSpPr>
            <a:xfrm>
              <a:off x="2514240" y="3276720"/>
              <a:ext cx="304920" cy="2210040"/>
              <a:chOff x="2514240" y="3276720"/>
              <a:chExt cx="304920" cy="2210040"/>
            </a:xfrm>
          </p:grpSpPr>
          <p:sp>
            <p:nvSpPr>
              <p:cNvPr id="137" name=""/>
              <p:cNvSpPr/>
              <p:nvPr/>
            </p:nvSpPr>
            <p:spPr>
              <a:xfrm flipV="1">
                <a:off x="2514240" y="3276720"/>
                <a:ext cx="0" cy="220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514240" y="52581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514240" y="50295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14240" y="472464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514240" y="442008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514240" y="41151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14240" y="3809880"/>
                <a:ext cx="228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14240" y="35812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514240" y="3352680"/>
                <a:ext cx="228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1981080" y="3809880"/>
              <a:ext cx="53316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95280" y="4267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824400" y="34956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68200" y="4038480"/>
            <a:ext cx="9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&gt;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638320" y="3427560"/>
            <a:ext cx="2210400" cy="1677600"/>
            <a:chOff x="5638320" y="3427560"/>
            <a:chExt cx="2210400" cy="1677600"/>
          </a:xfrm>
        </p:grpSpPr>
        <p:grpSp>
          <p:nvGrpSpPr>
            <p:cNvPr id="151" name=""/>
            <p:cNvGrpSpPr/>
            <p:nvPr/>
          </p:nvGrpSpPr>
          <p:grpSpPr>
            <a:xfrm>
              <a:off x="5638320" y="3427560"/>
              <a:ext cx="2210400" cy="307800"/>
              <a:chOff x="5638320" y="3427560"/>
              <a:chExt cx="2210400" cy="3078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5638320" y="3731760"/>
                <a:ext cx="2209680" cy="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7619760" y="3506760"/>
                <a:ext cx="2289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7391160" y="3430080"/>
                <a:ext cx="2293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7086240" y="3429360"/>
                <a:ext cx="2293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6781680" y="3429000"/>
                <a:ext cx="2293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6476760" y="3428640"/>
                <a:ext cx="2293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6171480" y="3504240"/>
                <a:ext cx="1530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5942880" y="3427560"/>
                <a:ext cx="1533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5714280" y="3503520"/>
                <a:ext cx="1530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6171840" y="3733920"/>
              <a:ext cx="1067040" cy="533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629040" y="426672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28960" y="12193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3760" y="1143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20080" y="36576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0" y="37339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01880" y="3657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1143000"/>
            <a:ext cx="30492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42670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629400" y="29714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066320" y="304920"/>
            <a:ext cx="2210040" cy="1371600"/>
            <a:chOff x="1066320" y="304920"/>
            <a:chExt cx="2210040" cy="1371600"/>
          </a:xfrm>
        </p:grpSpPr>
        <p:grpSp>
          <p:nvGrpSpPr>
            <p:cNvPr id="172" name=""/>
            <p:cNvGrpSpPr/>
            <p:nvPr/>
          </p:nvGrpSpPr>
          <p:grpSpPr>
            <a:xfrm>
              <a:off x="1066320" y="1371600"/>
              <a:ext cx="2210040" cy="304920"/>
              <a:chOff x="1066320" y="1371600"/>
              <a:chExt cx="221004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1066680" y="1371600"/>
                <a:ext cx="220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1066320" y="137160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1294920" y="13716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1599840" y="13716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1904400" y="13716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209320" y="137160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590560" y="1371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2819160" y="1371600"/>
                <a:ext cx="1526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3047760" y="1371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1752480" y="304920"/>
              <a:ext cx="762120" cy="106668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234360 h 1066680"/>
                <a:gd name="textAreaBottom" fmla="*/ 8323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62320" y="546120"/>
              <a:ext cx="393480" cy="507960"/>
            </a:xfrm>
            <a:custGeom>
              <a:avLst/>
              <a:gdLst/>
              <a:ahLst/>
              <a:rect l="l" t="t" r="r" b="b"/>
              <a:pathLst>
                <a:path w="248" h="320">
                  <a:moveTo>
                    <a:pt x="48" y="40"/>
                  </a:moveTo>
                  <a:cubicBezTo>
                    <a:pt x="140" y="20"/>
                    <a:pt x="232" y="0"/>
                    <a:pt x="240" y="40"/>
                  </a:cubicBezTo>
                  <a:cubicBezTo>
                    <a:pt x="248" y="80"/>
                    <a:pt x="136" y="240"/>
                    <a:pt x="96" y="280"/>
                  </a:cubicBezTo>
                  <a:cubicBezTo>
                    <a:pt x="56" y="320"/>
                    <a:pt x="16" y="280"/>
                    <a:pt x="0" y="28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133720" y="13716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1143000"/>
            <a:ext cx="838188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讨论（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）压力是怎样形成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）压力方向如何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）压力与重力之间的区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与联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0" t="14773" r="0" b="0"/>
          <a:stretch/>
        </p:blipFill>
        <p:spPr>
          <a:xfrm>
            <a:off x="5410080" y="4038480"/>
            <a:ext cx="3276720" cy="2149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430600" y="3200400"/>
            <a:ext cx="289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体重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60000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牛，每只脚掌面积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平方厘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>
            <a:lum contrast="96000"/>
          </a:blip>
          <a:stretch/>
        </p:blipFill>
        <p:spPr>
          <a:xfrm>
            <a:off x="1143000" y="2590920"/>
            <a:ext cx="2933640" cy="3809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68720" y="914400"/>
            <a:ext cx="43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：比较图中芭蕾舞演员足尖对舞台的压强和图大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地面的压强哪个大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压力 压强</cp:keywords>
  <dc:language>en-US</dc:language>
  <cp:lastModifiedBy/>
  <cp:revision>0</cp:revision>
  <dc:subject/>
  <dc:title/>
</cp:coreProperties>
</file>